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0.wmf" ContentType="image/x-wmf"/>
  <Override PartName="/ppt/media/image2.png" ContentType="image/png"/>
  <Override PartName="/ppt/media/image18.wmf" ContentType="image/x-wmf"/>
  <Override PartName="/ppt/media/image24.png" ContentType="image/png"/>
  <Override PartName="/ppt/media/image1.png" ContentType="image/png"/>
  <Override PartName="/ppt/media/image17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056-A5B5-40F5-9E11-35344F37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9F7-743D-467D-A579-3D549E8C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E95-4AB3-4C4D-AEF6-3EAA8F61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E09-F29D-4BAE-89C4-47137966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F251-CA6B-4513-B628-ECCA6AE8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912F-C53C-4D71-8AF3-33272E2E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3E14-BB64-432B-8151-437C64F3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8756-5762-4E88-AD84-BDC512B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B8C2-B997-4A8D-9F5C-787BA3FE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4B13-5852-4098-87A4-C781D03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DF23-0DAA-479E-9D97-CA93096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3B1-C433-4434-A1D6-53A371CE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DC1-509F-4631-9C6D-FD5B1E5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D61E-74DD-4B61-8D41-370887C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C10C-2795-479A-B8E1-BB789CAF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AD90-C253-40A8-8E9C-D3C110B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071D-FBE7-4EAF-8672-4B49020F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B29-0219-4760-83A1-C7A58547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96B-6F38-4213-BF27-9252243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B0D-F4D4-42D4-98AD-A7E5F43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A9F-A677-49E0-85C6-C4CDAF17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4FE-4BBD-4418-9A5E-8C0ACD7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302-97BD-4517-B46C-EFEC294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2C5-B90E-49C4-8CE2-7330432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F8F6-B2DC-4B37-866A-AF64F08FE508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3244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7411964-9B92-4C56-BF48-8A6C82439E5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C731-3E51-4DB1-8D6F-E1D05E919D8B}" type="datetime">
              <a:rPr b="0" lang="zh-TW" sz="1400" spc="-1" strike="noStrike">
                <a:solidFill>
                  <a:srgbClr val="00e4a8"/>
                </a:solidFill>
                <a:latin typeface="Tahom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437920" y="624852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878-D189-42F3-82F9-9C95DB42F76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DAD3019-B4CC-4499-8BA2-0EB1BD01ADE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hapter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295280" y="3352680"/>
            <a:ext cx="6782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Theory of NP-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ormul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logical consequence of a formul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f whenev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rue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rue. In other words, every assignment satisfy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so satisfi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EBE771D-E75B-4DF3-9933-09BBE02257C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3872906-0215-4A9A-B650-899A3CC5106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6970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Resolution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new clauses can be deduced, then it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atisfiab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&amp; (2) 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(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 &amp; (3) 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(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&amp; (3)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olution princi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28D8414-074D-42FD-8CCA-A0766D089F5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 empty clause is deduced, then it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unsatis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&amp; (2)  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(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 &amp; (5)       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(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6) &amp; (3)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(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9D7B6DAC-3F91-4BD5-8A6F-F6BD639DA45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mantic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mantic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path from the root to a leaf node represents a class of assign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ach leaf node is attached with a clause, then it is unsatisf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37168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80060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mantic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 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7A40426-3AED-41F4-8304-BC9B2201598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橢圓 4"/>
          <p:cNvSpPr/>
          <p:nvPr/>
        </p:nvSpPr>
        <p:spPr>
          <a:xfrm>
            <a:off x="5715000" y="178596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橢圓 5"/>
          <p:cNvSpPr/>
          <p:nvPr/>
        </p:nvSpPr>
        <p:spPr>
          <a:xfrm>
            <a:off x="4786200" y="271476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橢圓 6"/>
          <p:cNvSpPr/>
          <p:nvPr/>
        </p:nvSpPr>
        <p:spPr>
          <a:xfrm>
            <a:off x="3857760" y="371484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橢圓 7"/>
          <p:cNvSpPr/>
          <p:nvPr/>
        </p:nvSpPr>
        <p:spPr>
          <a:xfrm>
            <a:off x="2857680" y="478620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橢圓 8"/>
          <p:cNvSpPr/>
          <p:nvPr/>
        </p:nvSpPr>
        <p:spPr>
          <a:xfrm>
            <a:off x="6929280" y="2714760"/>
            <a:ext cx="5004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橢圓 9"/>
          <p:cNvSpPr/>
          <p:nvPr/>
        </p:nvSpPr>
        <p:spPr>
          <a:xfrm>
            <a:off x="6143760" y="371484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橢圓 10"/>
          <p:cNvSpPr/>
          <p:nvPr/>
        </p:nvSpPr>
        <p:spPr>
          <a:xfrm>
            <a:off x="5357880" y="478620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橢圓 11"/>
          <p:cNvSpPr/>
          <p:nvPr/>
        </p:nvSpPr>
        <p:spPr>
          <a:xfrm>
            <a:off x="6858000" y="4786200"/>
            <a:ext cx="50004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直線單箭頭接點 13"/>
          <p:cNvCxnSpPr>
            <a:stCxn id="133" idx="3"/>
            <a:endCxn id="134" idx="7"/>
          </p:cNvCxnSpPr>
          <p:nvPr/>
        </p:nvCxnSpPr>
        <p:spPr>
          <a:xfrm flipH="1">
            <a:off x="5213160" y="2212920"/>
            <a:ext cx="5752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直線單箭頭接點 15"/>
          <p:cNvCxnSpPr>
            <a:stCxn id="134" idx="3"/>
            <a:endCxn id="135" idx="7"/>
          </p:cNvCxnSpPr>
          <p:nvPr/>
        </p:nvCxnSpPr>
        <p:spPr>
          <a:xfrm flipH="1">
            <a:off x="4284360" y="3141360"/>
            <a:ext cx="575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直線單箭頭接點 19"/>
          <p:cNvCxnSpPr>
            <a:stCxn id="135" idx="3"/>
            <a:endCxn id="136" idx="7"/>
          </p:cNvCxnSpPr>
          <p:nvPr/>
        </p:nvCxnSpPr>
        <p:spPr>
          <a:xfrm flipH="1">
            <a:off x="3284280" y="4141440"/>
            <a:ext cx="6465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直線單箭頭接點 22"/>
          <p:cNvCxnSpPr>
            <a:stCxn id="133" idx="5"/>
            <a:endCxn id="137" idx="1"/>
          </p:cNvCxnSpPr>
          <p:nvPr/>
        </p:nvCxnSpPr>
        <p:spPr>
          <a:xfrm>
            <a:off x="6141960" y="2212920"/>
            <a:ext cx="86112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直線單箭頭接點 25"/>
          <p:cNvCxnSpPr>
            <a:stCxn id="137" idx="3"/>
            <a:endCxn id="138" idx="7"/>
          </p:cNvCxnSpPr>
          <p:nvPr/>
        </p:nvCxnSpPr>
        <p:spPr>
          <a:xfrm flipH="1">
            <a:off x="6570000" y="3141360"/>
            <a:ext cx="43236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直線單箭頭接點 27"/>
          <p:cNvCxnSpPr>
            <a:stCxn id="138" idx="3"/>
            <a:endCxn id="139" idx="7"/>
          </p:cNvCxnSpPr>
          <p:nvPr/>
        </p:nvCxnSpPr>
        <p:spPr>
          <a:xfrm flipH="1">
            <a:off x="5784120" y="4141440"/>
            <a:ext cx="4323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直線單箭頭接點 29"/>
          <p:cNvCxnSpPr>
            <a:stCxn id="138" idx="5"/>
            <a:endCxn id="140" idx="1"/>
          </p:cNvCxnSpPr>
          <p:nvPr/>
        </p:nvCxnSpPr>
        <p:spPr>
          <a:xfrm>
            <a:off x="6569640" y="4141440"/>
            <a:ext cx="36108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直線單箭頭接點 34"/>
          <p:cNvCxnSpPr>
            <a:stCxn id="134" idx="5"/>
          </p:cNvCxnSpPr>
          <p:nvPr/>
        </p:nvCxnSpPr>
        <p:spPr>
          <a:xfrm>
            <a:off x="5213520" y="3141360"/>
            <a:ext cx="358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直線單箭頭接點 36"/>
          <p:cNvCxnSpPr>
            <a:stCxn id="135" idx="5"/>
          </p:cNvCxnSpPr>
          <p:nvPr/>
        </p:nvCxnSpPr>
        <p:spPr>
          <a:xfrm>
            <a:off x="4284720" y="4141440"/>
            <a:ext cx="35892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直線單箭頭接點 38"/>
          <p:cNvCxnSpPr>
            <a:stCxn id="136" idx="3"/>
          </p:cNvCxnSpPr>
          <p:nvPr/>
        </p:nvCxnSpPr>
        <p:spPr>
          <a:xfrm flipH="1">
            <a:off x="2428560" y="5213160"/>
            <a:ext cx="501840" cy="57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直線單箭頭接點 40"/>
          <p:cNvCxnSpPr>
            <a:stCxn id="136" idx="5"/>
          </p:cNvCxnSpPr>
          <p:nvPr/>
        </p:nvCxnSpPr>
        <p:spPr>
          <a:xfrm>
            <a:off x="3283560" y="5213160"/>
            <a:ext cx="43092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直線單箭頭接點 42"/>
          <p:cNvCxnSpPr>
            <a:stCxn id="139" idx="3"/>
          </p:cNvCxnSpPr>
          <p:nvPr/>
        </p:nvCxnSpPr>
        <p:spPr>
          <a:xfrm flipH="1">
            <a:off x="5000040" y="5213160"/>
            <a:ext cx="43092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直線單箭頭接點 44"/>
          <p:cNvCxnSpPr>
            <a:stCxn id="139" idx="5"/>
          </p:cNvCxnSpPr>
          <p:nvPr/>
        </p:nvCxnSpPr>
        <p:spPr>
          <a:xfrm>
            <a:off x="5784840" y="5213160"/>
            <a:ext cx="28800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直線單箭頭接點 46"/>
          <p:cNvCxnSpPr>
            <a:stCxn id="140" idx="3"/>
          </p:cNvCxnSpPr>
          <p:nvPr/>
        </p:nvCxnSpPr>
        <p:spPr>
          <a:xfrm flipH="1">
            <a:off x="6571440" y="5213160"/>
            <a:ext cx="35964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直線單箭頭接點 48"/>
          <p:cNvCxnSpPr>
            <a:stCxn id="140" idx="5"/>
          </p:cNvCxnSpPr>
          <p:nvPr/>
        </p:nvCxnSpPr>
        <p:spPr>
          <a:xfrm>
            <a:off x="7283880" y="5213520"/>
            <a:ext cx="43092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直線單箭頭接點 50"/>
          <p:cNvCxnSpPr>
            <a:stCxn id="137" idx="5"/>
          </p:cNvCxnSpPr>
          <p:nvPr/>
        </p:nvCxnSpPr>
        <p:spPr>
          <a:xfrm>
            <a:off x="7355520" y="3141720"/>
            <a:ext cx="50184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文字方塊 51"/>
          <p:cNvSpPr/>
          <p:nvPr/>
        </p:nvSpPr>
        <p:spPr>
          <a:xfrm>
            <a:off x="5289120" y="221472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文字方塊 52"/>
          <p:cNvSpPr/>
          <p:nvPr/>
        </p:nvSpPr>
        <p:spPr>
          <a:xfrm>
            <a:off x="6578280" y="214308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文字方塊 53"/>
          <p:cNvSpPr/>
          <p:nvPr/>
        </p:nvSpPr>
        <p:spPr>
          <a:xfrm>
            <a:off x="4146120" y="314316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文字方塊 54"/>
          <p:cNvSpPr/>
          <p:nvPr/>
        </p:nvSpPr>
        <p:spPr>
          <a:xfrm>
            <a:off x="3288960" y="42148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文字方塊 55"/>
          <p:cNvSpPr/>
          <p:nvPr/>
        </p:nvSpPr>
        <p:spPr>
          <a:xfrm>
            <a:off x="2288880" y="51436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文字方塊 56"/>
          <p:cNvSpPr/>
          <p:nvPr/>
        </p:nvSpPr>
        <p:spPr>
          <a:xfrm>
            <a:off x="3506400" y="507204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文字方塊 57"/>
          <p:cNvSpPr/>
          <p:nvPr/>
        </p:nvSpPr>
        <p:spPr>
          <a:xfrm>
            <a:off x="4435200" y="407196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文字方塊 58"/>
          <p:cNvSpPr/>
          <p:nvPr/>
        </p:nvSpPr>
        <p:spPr>
          <a:xfrm>
            <a:off x="5363640" y="300024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文字方塊 59"/>
          <p:cNvSpPr/>
          <p:nvPr/>
        </p:nvSpPr>
        <p:spPr>
          <a:xfrm>
            <a:off x="6503760" y="30718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文字方塊 60"/>
          <p:cNvSpPr/>
          <p:nvPr/>
        </p:nvSpPr>
        <p:spPr>
          <a:xfrm>
            <a:off x="7578360" y="307188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文字方塊 61"/>
          <p:cNvSpPr/>
          <p:nvPr/>
        </p:nvSpPr>
        <p:spPr>
          <a:xfrm>
            <a:off x="5572080" y="4286160"/>
            <a:ext cx="36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字方塊 62"/>
          <p:cNvSpPr/>
          <p:nvPr/>
        </p:nvSpPr>
        <p:spPr>
          <a:xfrm>
            <a:off x="6786720" y="4286160"/>
            <a:ext cx="43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文字方塊 63"/>
          <p:cNvSpPr/>
          <p:nvPr/>
        </p:nvSpPr>
        <p:spPr>
          <a:xfrm>
            <a:off x="4789080" y="521496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文字方塊 64"/>
          <p:cNvSpPr/>
          <p:nvPr/>
        </p:nvSpPr>
        <p:spPr>
          <a:xfrm>
            <a:off x="5935320" y="507204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文字方塊 65"/>
          <p:cNvSpPr/>
          <p:nvPr/>
        </p:nvSpPr>
        <p:spPr>
          <a:xfrm>
            <a:off x="6432120" y="5143680"/>
            <a:ext cx="35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文字方塊 66"/>
          <p:cNvSpPr/>
          <p:nvPr/>
        </p:nvSpPr>
        <p:spPr>
          <a:xfrm>
            <a:off x="7578360" y="5143680"/>
            <a:ext cx="4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文字方塊 67"/>
          <p:cNvSpPr/>
          <p:nvPr/>
        </p:nvSpPr>
        <p:spPr>
          <a:xfrm>
            <a:off x="4448880" y="45007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文字方塊 68"/>
          <p:cNvSpPr/>
          <p:nvPr/>
        </p:nvSpPr>
        <p:spPr>
          <a:xfrm>
            <a:off x="5448960" y="3571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文字方塊 69"/>
          <p:cNvSpPr/>
          <p:nvPr/>
        </p:nvSpPr>
        <p:spPr>
          <a:xfrm>
            <a:off x="7806600" y="36432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文字方塊 70"/>
          <p:cNvSpPr/>
          <p:nvPr/>
        </p:nvSpPr>
        <p:spPr>
          <a:xfrm>
            <a:off x="162720" y="17859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文字方塊 71"/>
          <p:cNvSpPr/>
          <p:nvPr/>
        </p:nvSpPr>
        <p:spPr>
          <a:xfrm>
            <a:off x="162720" y="2428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文字方塊 72"/>
          <p:cNvSpPr/>
          <p:nvPr/>
        </p:nvSpPr>
        <p:spPr>
          <a:xfrm>
            <a:off x="162720" y="30002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文字方塊 73"/>
          <p:cNvSpPr/>
          <p:nvPr/>
        </p:nvSpPr>
        <p:spPr>
          <a:xfrm>
            <a:off x="807480" y="5643720"/>
            <a:ext cx="680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above semantic tree shows this s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f clauses is satisf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75A72AE-AFE0-4CC3-A22D-79AC983C936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ndeterminstic algorith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ists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1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gu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2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che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ge of a nondeterministic algorithm is of polynomial time-complexity, then this algorithm is called 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deterministic polynomial)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P problems : (must be decision proble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, M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isfiability problem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ing salesperson problem (T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999E485E-6A94-4408-8AE2-69D0B89ED7E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sion proble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ecision version of sor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c, is there a permutation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(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 such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∣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decision problems are NP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halting problem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program with a certain input data, will the program terminate or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cid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C0E4768-6430-47A2-8EFD-08341241F12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ondeterministic operations and func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Horowitz 1998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ice(S) : arbitrarily chooses one of the elements in set 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: an unsuccessful comp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 : a successful comple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Nonderministic search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gorith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oice(1 : n)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/* guessing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(j) = x then success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/* checking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E49FF6A-A2E8-4C5F-A52C-6D6A6EF14AB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nondeterministic algorithm terminates unsuccessfully iff there exist no a set of choices leading to a success sign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The time requir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NewRoman"/>
              </a:rPr>
              <a:t>choice(1 : n)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is O(1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A deterministic interpretation of a non-deterministic algorithm can be made by allow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NewRoman"/>
              </a:rPr>
              <a:t>unbounded parallelism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in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15DC23DE-6932-4AD5-98D1-D5F0B6D7887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Nondeterministic sorting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guess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or i = 1 to n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choice(1 : 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f B[j] 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0 then 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B[j] = A[i]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checking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or i = 1 to n-1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f B[i] 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B[i+1] then 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9151C1AD-9D65-4C3F-B0EF-4B42B51E666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decision problem which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-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can be solved by a determinist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ynomial algorith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ha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to which every NP problem redu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-complete (NP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class of problems which are NP-hard and belong to N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813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038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B1A8FC47-546C-45F8-BF23-A7C730AE9FF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deterministic S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guess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or i = 1 to n 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←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choice( true, false 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/* </a:t>
            </a:r>
            <a:r>
              <a:rPr b="0" lang="en-US" sz="2800" spc="-1" strike="noStrike">
                <a:solidFill>
                  <a:srgbClr val="ff0000"/>
                </a:solidFill>
                <a:latin typeface="TimesNewRoman"/>
              </a:rPr>
              <a:t>checking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*/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f E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New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) is true  then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F7F6CDF-F0F5-4ADA-B23B-79CB5F49DEF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ok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P = P iff the satisfiability problem is a P problem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 is NP-compl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t is the first NP-complete probl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Every NP problem reduces to S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ECC012D-B379-4E81-9CC3-8A1DF16AA13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NewRoman"/>
              </a:rPr>
              <a:t>Transforming searching to SAT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Does there exist a number in { x(1), x(2), …, x(n) }, which is equal to 7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Assume n = 2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nondeterministic algorith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19320" y="4038480"/>
            <a:ext cx="4643280" cy="206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 = choice(1,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if x(i)=7 then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else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AC40D077-F877-4705-9F4E-757B75D8442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=1 v i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1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i=2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=7 &amp; i=2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&amp; i=2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FAILURE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新細明體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-SUCC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SUCCESS   (Guarantees a successful terminat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1)=7    (Input Data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&amp; 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5B7A85F-F480-418A-9ECF-7BF60D53A5B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CNF (conjunctive normal form)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=1 v i=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1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5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=7 v i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2 v FAILURE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6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-FAILURE v -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8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9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4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(10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CBD169B-4294-4006-90F0-37CCF8BA803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NewRoman"/>
              </a:rPr>
              <a:t>Satisfiable at the following assignmen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=1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2), (4) and (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UCCESS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3), (4) and (8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FAILURE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7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(1)=7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5) and (9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x(2)</a:t>
            </a:r>
            <a:r>
              <a:rPr b="0" lang="en-US" sz="2800" spc="-1" strike="noStrike">
                <a:solidFill>
                  <a:srgbClr val="000000"/>
                </a:solidFill>
                <a:latin typeface="SymbolMT"/>
                <a:ea typeface="SymbolMT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7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satisfying 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NewRoman"/>
              </a:rPr>
              <a:t>(4) and (1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501234D-911E-4333-AF91-C136F695E2E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mantic tre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843280" y="4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5257800" y="152280"/>
          <a:ext cx="3693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280"/>
                    <a:ext cx="3693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6F24845-49F3-4C24-8CEE-431439F3E25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arching for 7, but x(1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, x(2)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 </a:t>
            </a:r>
            <a:r>
              <a:rPr b="0" lang="en-US" sz="3600" spc="-1" strike="noStrike">
                <a:solidFill>
                  <a:srgbClr val="000000"/>
                </a:solidFill>
                <a:latin typeface="TimesNewRoman"/>
              </a:rPr>
              <a:t>(conjunctive normal for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Object 4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343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91426EC-25CD-403F-986A-2F8E6E277C4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resolution principl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Object 4" descr=""/>
          <p:cNvPicPr/>
          <p:nvPr/>
        </p:nvPicPr>
        <p:blipFill>
          <a:blip r:embed="rId1"/>
          <a:stretch/>
        </p:blipFill>
        <p:spPr>
          <a:xfrm>
            <a:off x="682560" y="1747800"/>
            <a:ext cx="7844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E822F23-4A18-44B3-BB05-13ACB315FF3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81928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Object 4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62800" cy="37576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arching for 7, where x(1)=7, x(2)=7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E5528DC-C6A4-402F-AAA0-F4E2B2AC49D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concepts of N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inition of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redu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Problem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reduces 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 B (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) iff A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eterministic polynom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ime algorithm using 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istic algorithm that solves B 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olynomi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now, none of the NPC problems can be solved by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deterministic polynom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ime algorithm in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orst c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does no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e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have any polynomial time algorithm to solve the NPC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0669574-334D-4778-B068-496286D6FFB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mantic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re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43280" y="4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96704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933720" y="0"/>
            <a:ext cx="5097600" cy="5638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228600" y="5715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 implies that both assignments (i=1, i=2) satisfy the clau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C6688F39-655D-4ACE-AF0F-B8E355025A5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de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Given a graph G=(V, E), S is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de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if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and for every edge (u, v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, either 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or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338640" y="2519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3429000" cy="23148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4952880" y="38098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cover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, 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2, 4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066680" y="5715000"/>
            <a:ext cx="7772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problem 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C74A7254-6BD7-434F-A78C-674CEFC25F9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orming the node cover problem to S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Object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4678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3BF8429-706D-4B8F-9FCD-FF7DA6302B3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Object 2"/>
          <p:cNvGraphicFramePr/>
          <p:nvPr/>
        </p:nvGraphicFramePr>
        <p:xfrm>
          <a:off x="2209680" y="533520"/>
          <a:ext cx="67057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33520"/>
                    <a:ext cx="67057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1287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NF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600200" y="6338880"/>
            <a:ext cx="289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343400" y="63244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o be continue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B6E2D8F4-EE11-403A-A711-3E6B45AA909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Object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1629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8E2463A-D310-4114-8CF6-828687E256F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T is NP-compl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SAT is an NP algorith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SAT is NP-har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NP algorithm can be transformed 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SAT [Horowitz 1998]  such that SAT is satisfiable if and only if the answer for the original NP problem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is, every NP proble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AT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(1) and (2), SAT is NP-comple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FD5D0D5D-B4F9-48B2-8957-B16A3F16A1E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of NP-Completene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at A is NP-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ve that A is an NP problem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rove th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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B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NPC, B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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hy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D6C71D83-8F2D-4C82-9BCF-9790A94DC9D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-satisfiability problem (3-SAT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lause contains exactly three liter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SAT is an NP problem (obvious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3-S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One literal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in 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C68734CE-DF9C-4D5A-A9E5-932EE965FB3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 Two literals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in 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 Three literals in a clause 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ain unchang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 More than 3 literals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claus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-SA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EDBE340-BB7E-479A-82A3-A45E9ED68C2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876560" y="1523520"/>
            <a:ext cx="40021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stance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3-SAT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v  -y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v  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  -y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1981080" y="6248520"/>
            <a:ext cx="49532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0880" y="1523880"/>
            <a:ext cx="457200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S in SAT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新細明體"/>
              </a:rPr>
              <a:t>-x</a:t>
            </a:r>
            <a:r>
              <a:rPr b="0" lang="en-US" sz="2400" spc="-1" strike="noStrike" baseline="-30000">
                <a:solidFill>
                  <a:srgbClr val="ff0000"/>
                </a:solidFill>
                <a:latin typeface="Tahoma"/>
                <a:ea typeface="新細明體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-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4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新細明體"/>
              </a:rPr>
              <a:t>  v  x</a:t>
            </a:r>
            <a:r>
              <a:rPr b="0" lang="en-US" sz="2400" spc="-1" strike="noStrike" baseline="-30000">
                <a:solidFill>
                  <a:srgbClr val="00cc00"/>
                </a:solidFill>
                <a:latin typeface="Tahoma"/>
                <a:ea typeface="新細明體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295280" y="57150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AT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ahoma"/>
              </a:rPr>
              <a:t>transform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3-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S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transforming 3-SAT to S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FC80818-CEED-4470-A1FE-663CDA17D09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eory of NP-completeness always considers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orst c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any NPC problem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eem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in the order of an exponential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NP problems are difficult. (e.g. the MST problem is an NP proble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If A, B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NPC, the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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B and B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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Theory of NP-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f any NPC problem can be solved in polynomial time, then all NP problems can be solved in polynomial time.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NP = P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17B01397-6017-4148-BCF6-1BFD2D7C2BC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26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of : S is satisfi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atisfi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literals in S    (triv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 lit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: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9D8FE72C-9D68-4185-A875-0765B6465B51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lvl="1" marL="482760" indent="-1857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s satisfi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least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1857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-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F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-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atisfi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-1857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atisfiable, then assignment satisfy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not contain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onl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e can also apply the resolution princip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3-SAT is NP-comple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82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EC90210-405B-46FE-BF83-58477FC2052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mment for 3-S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problem is NP-complete, its special cases may or may not be NP-compl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F662F7E0-DE7C-40C2-A2D1-F27A2E5D2BE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romatic number decision problem (C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l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raph G=(V, E) is a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: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 1, 2, 3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k } such that if (u, v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, then f(u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v). The CN problem is to determine if G has a coloring for 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&lt;Theorem&gt; Satisfiability with at most 3 literals per clause (SATY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C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567240" y="23623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2590920" cy="24703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4495680" y="3809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olor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)=1,  f(b)=2,  f(c)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d)=2,  f(e)=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7"/>
          <p:cNvSpPr/>
          <p:nvPr/>
        </p:nvSpPr>
        <p:spPr>
          <a:xfrm>
            <a:off x="2057400" y="320040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3657600" y="4191120"/>
            <a:ext cx="380880" cy="3808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205740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365760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2819520" y="51055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BC4AF7CD-376D-4836-8F8D-8CCFBE0BA80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Object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5219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AT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C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56A4A05-7223-4973-8FAA-B9D00F5C7F1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94796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895320" y="3340080"/>
            <a:ext cx="4495680" cy="3441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xample of SAT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C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1504800" y="5867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2114640" y="5867280"/>
            <a:ext cx="1522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2724120" y="586728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3333600" y="58672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3943440" y="5867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552920" y="586728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Oval 13"/>
          <p:cNvSpPr/>
          <p:nvPr/>
        </p:nvSpPr>
        <p:spPr>
          <a:xfrm>
            <a:off x="3924360" y="3809880"/>
            <a:ext cx="1522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4552920" y="380988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2724120" y="3809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5791320" y="2209680"/>
            <a:ext cx="312408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assig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3A36CF1-EC1A-44F9-B213-A28C5A9C5D0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isfi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+1 colo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, then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,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,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, then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, then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 at least one such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of of SAT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C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5A7994B-4F55-4B8A-9EDE-18AB5AE6411D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ssigned with color 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and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  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n+1 and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 at most 3 literals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not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assign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assign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(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i = f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imilar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0B1A6F1-35DF-42CB-8C48-B0F2EDDBA1C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cover decis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 = {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= {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i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F if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and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t cover decisio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o determine if F has a cover T containing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= {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e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{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}    set cover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exact c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386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0"/>
              <p:cNvSpPr txBox="1"/>
              <p:nvPr/>
            </p:nvSpPr>
            <p:spPr>
              <a:xfrm>
                <a:off x="1600200" y="2133720"/>
                <a:ext cx="371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14" name="Rectangle 6"/>
          <p:cNvSpPr/>
          <p:nvPr/>
        </p:nvSpPr>
        <p:spPr>
          <a:xfrm>
            <a:off x="43671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"/>
              <p:cNvSpPr txBox="1"/>
              <p:nvPr/>
            </p:nvSpPr>
            <p:spPr>
              <a:xfrm>
                <a:off x="5715000" y="2590920"/>
                <a:ext cx="409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16" name="Rectangle 8"/>
          <p:cNvSpPr/>
          <p:nvPr/>
        </p:nvSpPr>
        <p:spPr>
          <a:xfrm>
            <a:off x="4362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6705720" y="2590920"/>
                <a:ext cx="419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FB025878-C077-4830-B0E0-04A01D7B35A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ct cover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Notations same as those in set cover.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etermine if F has a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xact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, which is a cover of F and the sets in T are pairwise disjoi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&lt;Theorem&gt; C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exact cove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467160" y="472428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No proof her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8EE4D74-CFB6-4760-B2AB-EA118D24006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s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olution is simp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s are more difficul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he traveling salesperson probl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tour whose total length is less than or equal to a consta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8CF85371-C213-43A7-8D25-4A422EA3055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 of subset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positive numbers A = {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tant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 A = { 7, 5, 19, 1, 12, 8, 14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21, 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 7, 14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11,  no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Exact cover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sum of subs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30524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"/>
              <p:cNvSpPr txBox="1"/>
              <p:nvPr/>
            </p:nvSpPr>
            <p:spPr>
              <a:xfrm>
                <a:off x="5410080" y="3048120"/>
                <a:ext cx="78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Î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678C616D-F221-4CA8-A7A9-94435E50621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ce of exact cov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= {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ce of sum of subset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= {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  whe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e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 if u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0 if otherw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y k+1?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the example on the next p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xact cover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sum of subset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4052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5486400" y="2209680"/>
                <a:ext cx="2971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1371600" y="4191120"/>
                <a:ext cx="25909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1371600" y="5181480"/>
                <a:ext cx="5688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B14BA820-93A4-4E92-BF30-875211FF177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617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Example of Exact cover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sum of subse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 transfor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, n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3}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3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,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={1,2,3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=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46483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alid transformait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1,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}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2,3}.  K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k-2=2 is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1071720" y="357192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9DC8A0B-91D3-42AD-8424-7E64AD3413F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tion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set of positive numbers A = {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}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partition P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                 i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 g.  A = {3, 6, 1,  9, 4, 11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: {3, 1, 9, 4} and {6, 11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&lt;Theorem&gt; sum of subsets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 part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864F098-AFAA-4C7D-9A9D-89DE6E18694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m of subsets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parti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609480" y="1523880"/>
          <a:ext cx="716292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16292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Oval 4"/>
          <p:cNvSpPr/>
          <p:nvPr/>
        </p:nvSpPr>
        <p:spPr>
          <a:xfrm>
            <a:off x="7848720" y="4191120"/>
            <a:ext cx="76176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7848720" y="4952880"/>
            <a:ext cx="761760" cy="5968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Object 7"/>
          <p:cNvGraphicFramePr/>
          <p:nvPr/>
        </p:nvGraphicFramePr>
        <p:xfrm>
          <a:off x="8153280" y="4724280"/>
          <a:ext cx="309600" cy="381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4724280"/>
                    <a:ext cx="30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8"/>
          <p:cNvGraphicFramePr/>
          <p:nvPr/>
        </p:nvGraphicFramePr>
        <p:xfrm>
          <a:off x="8153280" y="5562720"/>
          <a:ext cx="309600" cy="380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5562720"/>
                    <a:ext cx="309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9"/>
          <p:cNvGraphicFramePr/>
          <p:nvPr/>
        </p:nvGraphicFramePr>
        <p:xfrm>
          <a:off x="7696080" y="4267080"/>
          <a:ext cx="274680" cy="346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5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4267080"/>
                    <a:ext cx="2746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0"/>
          <p:cNvGraphicFramePr/>
          <p:nvPr/>
        </p:nvGraphicFramePr>
        <p:xfrm>
          <a:off x="8534520" y="4191120"/>
          <a:ext cx="309600" cy="3808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5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34520" y="4191120"/>
                    <a:ext cx="309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B4C15FC-2073-4992-B649-1ECB4E58A3C7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+1 ?  why not b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C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void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+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be partitioned into the same sub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5D0EC15-C4B2-490D-9391-C1ADF136596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items, each of size 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, 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 capacity :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if we can assign the items i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bin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,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&lt;Theorem&gt; partitio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bin pack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6B28435-944A-4757-B207-6511F87C6B4B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LSI discrete layout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:  n rectangles, each with heigh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w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an area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if there i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n rectangles within the area A according to the rul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aries of rectangles parallel to x axis or y ax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ners of rectangles lie on integer poi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wo rectangles overla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rectangles are separated by at least a unit d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2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the figure on the next page.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3ABE7AC7-E314-416F-B6A6-E5E87C2F97B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01924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095880" cy="37879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5"/>
          <p:cNvSpPr/>
          <p:nvPr/>
        </p:nvSpPr>
        <p:spPr>
          <a:xfrm>
            <a:off x="1676520" y="4952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ccessful Place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0" y="571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bin packing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VLSI discrete layo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E74770BB-D8A7-48C4-A267-2B3423201B2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x cliqu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ximal complete subgraph of a graph G=(V,E)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ax (maximum) cliq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 is to determine the size of a largest clique in 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 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SAT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clique decision problem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3343320" y="2295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2514600" cy="21243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4876920" y="358128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x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ique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 b}, {a, c, d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 d, e, f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iqu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rge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 d, e, f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AA7F1A2B-879E-4955-989C-E112EC7EFE6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olving an optimization problem by a decision algorithm 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6437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ing TSP optimization problem by decision algorith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est  (decision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est  (decision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est  (decision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asily find the smalles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11244A13-4F19-41AD-925D-8B4E8939E87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ode cover decisi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et 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node co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 graph G = (V, E) iff all edges in E are incident to  at least one vertex in S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&lt;Theorem&gt; clique decision problem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 node cover decision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proof on the next p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CC36942D-96C7-4F99-9E81-4CCA25AF2E9C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que decision 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node cover deci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=(V,E) : clique Q of size k (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V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) : node cover S of size n-k, S=V-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(u,v)|u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,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and (u,v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4"/>
          <p:cNvSpPr/>
          <p:nvPr/>
        </p:nvSpPr>
        <p:spPr>
          <a:xfrm>
            <a:off x="3429000" y="1981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2" name="Object 10"/>
          <p:cNvGraphicFramePr/>
          <p:nvPr/>
        </p:nvGraphicFramePr>
        <p:xfrm>
          <a:off x="609480" y="3886200"/>
          <a:ext cx="372744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37274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2"/>
          <p:cNvGraphicFramePr/>
          <p:nvPr/>
        </p:nvGraphicFramePr>
        <p:xfrm>
          <a:off x="4267080" y="3733920"/>
          <a:ext cx="410364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733920"/>
                    <a:ext cx="41036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4C1E29FF-70F5-4DB3-B114-B6FDA97C6E8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amiltonian cycle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Hamilton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round trip path along n edges of G which visits every vertex once and returns to its starting vert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iltonian cycle : 1, 2, 8, 7, 6, 5, 4, 3, 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SAT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directed Hamiltonian cycle ( in a directed graph )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967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209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A866C9B-9626-4695-9D0F-7B60F6DF647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veling salespers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directed graph G=(V, E) is a directed cycle that includes every vertex in V. The problem is to find a tour of minimum cos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&lt;Theorem&gt; Directed Hamiltonian cycl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traveling salesperson decision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(See proof on the next pag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D862F79B-5D59-4D7B-9486-03DF5AD5CFE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of Hamiltonian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</a:t>
            </a:r>
            <a:r>
              <a:rPr b="1" lang="en-US" sz="4000" spc="-1" strike="noStrike">
                <a:solidFill>
                  <a:srgbClr val="333399"/>
                </a:solidFill>
                <a:latin typeface="新細明體"/>
              </a:rPr>
              <a:t>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96" name="Object 3"/>
          <p:cNvGraphicFramePr/>
          <p:nvPr/>
        </p:nvGraphicFramePr>
        <p:xfrm>
          <a:off x="914400" y="1752480"/>
          <a:ext cx="7701120" cy="44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70112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20CA18A-83E2-4C78-A690-9D915A6FC3E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0/1 knapsack problem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 objects, each with a weight w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fit 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 of knapsack :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 or 1,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version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apsack problem :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,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&lt;Theorem&gt; partition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0/1 knapsack decision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04EE5DF9-588F-48F2-B6F5-033CD2934E69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 to Sec. 11.3, Sec. 11.4 and its exercises of [Horowitz 1998] for the proofs of more NP-complete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2907B777-6613-4BB5-B47F-A25195EDD88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atisfiability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ogical formula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ssignment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make the above formula true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represents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5CEBE1E9-6164-475A-BB05-AB2FB0C8C77E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 least 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 which satisfies a formula, then we say that this formula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atis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otherwise, it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unsatis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unsatisfiable formul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 -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4a8"/>
                </a:solidFill>
                <a:latin typeface="Tahoma"/>
              </a:rPr>
              <a:t>3- </a:t>
            </a:r>
            <a:fld id="{712DB879-868A-4F53-875D-FBFB2FE83CA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of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satisfiability probl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Given a Boolean formula, determine whether this formula is satisfiable or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liter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 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-x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formu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: conjunctive normal for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&amp; 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6:26:59Z</dcterms:created>
  <dc:creator>cby</dc:creator>
  <dc:description/>
  <dc:language>en-US</dc:language>
  <cp:lastModifiedBy>islab</cp:lastModifiedBy>
  <dcterms:modified xsi:type="dcterms:W3CDTF">2007-06-11T14:32:27Z</dcterms:modified>
  <cp:revision>119</cp:revision>
  <dc:subject/>
  <dc:title>chap 3 The Theory of NP-Completeness</dc:title>
</cp:coreProperties>
</file>