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B61-5C29-438F-8AB6-E82E206C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BF2-AE00-4D8F-A6CC-CFD6186D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F4B-507A-494B-9A5A-687BD2D9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43C-8933-4A16-9F9D-CEBFA777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C9C-D6CA-40DF-9105-25B7D235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3C6E-893E-42D8-96E7-244DD96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161-37CC-458A-B7CE-9A7BC8C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D8A6-9A54-4E1D-98DC-6BEBDB90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2FE7-AEC2-44A1-B7B5-44EEE0CC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8F94-2C17-47C2-A00E-0E286E5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2B7C-A6D3-4573-9E87-6D7CA4B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578-DBBA-4372-BB53-40FEACA1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888A-FAAA-4878-AF5B-DA0A8993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85C-588A-4680-B166-EDEFBF78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55DF-15D1-454B-A5ED-1D70BA7D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602D-C547-4649-9ED2-42BBC72C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4753-BA7F-4107-B9EE-56A8C42E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FA0-4C72-4E6A-8321-DD1D24ED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152-A6E0-4B12-8DA5-9F2ACB27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A68-B0FB-42FE-8944-87FA0896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8DE-13CB-4D49-9E0C-3EB01FBF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3E8-C981-4271-B4C9-EEF87A2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7CF-FD20-4AD7-9111-684D9604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A31-3AAD-4142-88A2-2AE2811D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9BAB-0B36-4D43-A4A9-614EF6C0A957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3244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F06AD681-3C57-4C23-88FC-C213349B10A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7CD-6AD3-4A0C-91CF-DE592FCD8B4D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437920" y="624852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9C3-B1E8-4E3D-8F0B-0ADB99C3D6E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1B8A8AB-0CC7-4D38-9981-CB2D8EBC459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hapter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295280" y="3352680"/>
            <a:ext cx="6782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Theory of NP-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ormul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logical consequence of a formul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f whenev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rue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rue. In other words, every assignment satisfy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so satisfi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351887B-A9CF-43FD-B639-8B225A3ECF0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970DD5FF-6304-44DF-B7B4-0DA62B51944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6970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Resolution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new clauses can be deduced, then it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atisfiab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&amp; (2) 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(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 &amp; (3) 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(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&amp; (3)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olution princi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2A94DD9-D8C8-474A-87E7-D07E30E264B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 empty clause is deduced, then it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unsatis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&amp; (2)  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(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 &amp; (5)  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6) &amp; (3)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(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51623EEC-67E1-4C69-B613-4EFAF87A21D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mantic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mantic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path from the root to a leaf node represents a class of assign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ach leaf node is attached with a clause, then it is unsatisf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3716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80060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mantic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BC9B23B-0D6A-4671-B326-AC1D4FD9139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橢圓 4"/>
          <p:cNvSpPr/>
          <p:nvPr/>
        </p:nvSpPr>
        <p:spPr>
          <a:xfrm>
            <a:off x="5715000" y="178596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橢圓 5"/>
          <p:cNvSpPr/>
          <p:nvPr/>
        </p:nvSpPr>
        <p:spPr>
          <a:xfrm>
            <a:off x="4786200" y="271476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橢圓 6"/>
          <p:cNvSpPr/>
          <p:nvPr/>
        </p:nvSpPr>
        <p:spPr>
          <a:xfrm>
            <a:off x="3857760" y="371484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橢圓 7"/>
          <p:cNvSpPr/>
          <p:nvPr/>
        </p:nvSpPr>
        <p:spPr>
          <a:xfrm>
            <a:off x="2857680" y="478620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橢圓 8"/>
          <p:cNvSpPr/>
          <p:nvPr/>
        </p:nvSpPr>
        <p:spPr>
          <a:xfrm>
            <a:off x="6929280" y="2714760"/>
            <a:ext cx="5004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橢圓 9"/>
          <p:cNvSpPr/>
          <p:nvPr/>
        </p:nvSpPr>
        <p:spPr>
          <a:xfrm>
            <a:off x="6143760" y="371484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橢圓 10"/>
          <p:cNvSpPr/>
          <p:nvPr/>
        </p:nvSpPr>
        <p:spPr>
          <a:xfrm>
            <a:off x="5357880" y="478620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橢圓 11"/>
          <p:cNvSpPr/>
          <p:nvPr/>
        </p:nvSpPr>
        <p:spPr>
          <a:xfrm>
            <a:off x="6858000" y="478620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直線單箭頭接點 13"/>
          <p:cNvCxnSpPr>
            <a:stCxn id="133" idx="3"/>
            <a:endCxn id="134" idx="7"/>
          </p:cNvCxnSpPr>
          <p:nvPr/>
        </p:nvCxnSpPr>
        <p:spPr>
          <a:xfrm flipH="1">
            <a:off x="5213160" y="2212920"/>
            <a:ext cx="5752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直線單箭頭接點 15"/>
          <p:cNvCxnSpPr>
            <a:stCxn id="134" idx="3"/>
            <a:endCxn id="135" idx="7"/>
          </p:cNvCxnSpPr>
          <p:nvPr/>
        </p:nvCxnSpPr>
        <p:spPr>
          <a:xfrm flipH="1">
            <a:off x="4284360" y="3141360"/>
            <a:ext cx="575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直線單箭頭接點 19"/>
          <p:cNvCxnSpPr>
            <a:stCxn id="135" idx="3"/>
            <a:endCxn id="136" idx="7"/>
          </p:cNvCxnSpPr>
          <p:nvPr/>
        </p:nvCxnSpPr>
        <p:spPr>
          <a:xfrm flipH="1">
            <a:off x="3284280" y="4141440"/>
            <a:ext cx="6465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直線單箭頭接點 22"/>
          <p:cNvCxnSpPr>
            <a:stCxn id="133" idx="5"/>
            <a:endCxn id="137" idx="1"/>
          </p:cNvCxnSpPr>
          <p:nvPr/>
        </p:nvCxnSpPr>
        <p:spPr>
          <a:xfrm>
            <a:off x="6141960" y="2212920"/>
            <a:ext cx="86112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直線單箭頭接點 25"/>
          <p:cNvCxnSpPr>
            <a:stCxn id="137" idx="3"/>
            <a:endCxn id="138" idx="7"/>
          </p:cNvCxnSpPr>
          <p:nvPr/>
        </p:nvCxnSpPr>
        <p:spPr>
          <a:xfrm flipH="1">
            <a:off x="6570000" y="3141360"/>
            <a:ext cx="43236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直線單箭頭接點 27"/>
          <p:cNvCxnSpPr>
            <a:stCxn id="138" idx="3"/>
            <a:endCxn id="139" idx="7"/>
          </p:cNvCxnSpPr>
          <p:nvPr/>
        </p:nvCxnSpPr>
        <p:spPr>
          <a:xfrm flipH="1">
            <a:off x="5784120" y="4141440"/>
            <a:ext cx="4323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直線單箭頭接點 29"/>
          <p:cNvCxnSpPr>
            <a:stCxn id="138" idx="5"/>
            <a:endCxn id="140" idx="1"/>
          </p:cNvCxnSpPr>
          <p:nvPr/>
        </p:nvCxnSpPr>
        <p:spPr>
          <a:xfrm>
            <a:off x="6569640" y="4141440"/>
            <a:ext cx="36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直線單箭頭接點 34"/>
          <p:cNvCxnSpPr>
            <a:stCxn id="134" idx="5"/>
          </p:cNvCxnSpPr>
          <p:nvPr/>
        </p:nvCxnSpPr>
        <p:spPr>
          <a:xfrm>
            <a:off x="5213520" y="3141360"/>
            <a:ext cx="358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直線單箭頭接點 36"/>
          <p:cNvCxnSpPr>
            <a:stCxn id="135" idx="5"/>
          </p:cNvCxnSpPr>
          <p:nvPr/>
        </p:nvCxnSpPr>
        <p:spPr>
          <a:xfrm>
            <a:off x="4284720" y="4141440"/>
            <a:ext cx="358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直線單箭頭接點 38"/>
          <p:cNvCxnSpPr>
            <a:stCxn id="136" idx="3"/>
          </p:cNvCxnSpPr>
          <p:nvPr/>
        </p:nvCxnSpPr>
        <p:spPr>
          <a:xfrm flipH="1">
            <a:off x="2428560" y="5213160"/>
            <a:ext cx="501840" cy="57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直線單箭頭接點 40"/>
          <p:cNvCxnSpPr>
            <a:stCxn id="136" idx="5"/>
          </p:cNvCxnSpPr>
          <p:nvPr/>
        </p:nvCxnSpPr>
        <p:spPr>
          <a:xfrm>
            <a:off x="3283560" y="5213160"/>
            <a:ext cx="43092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直線單箭頭接點 42"/>
          <p:cNvCxnSpPr>
            <a:stCxn id="139" idx="3"/>
          </p:cNvCxnSpPr>
          <p:nvPr/>
        </p:nvCxnSpPr>
        <p:spPr>
          <a:xfrm flipH="1">
            <a:off x="5000040" y="5213160"/>
            <a:ext cx="43092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直線單箭頭接點 44"/>
          <p:cNvCxnSpPr>
            <a:stCxn id="139" idx="5"/>
          </p:cNvCxnSpPr>
          <p:nvPr/>
        </p:nvCxnSpPr>
        <p:spPr>
          <a:xfrm>
            <a:off x="5784840" y="5213160"/>
            <a:ext cx="28800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直線單箭頭接點 46"/>
          <p:cNvCxnSpPr>
            <a:stCxn id="140" idx="3"/>
          </p:cNvCxnSpPr>
          <p:nvPr/>
        </p:nvCxnSpPr>
        <p:spPr>
          <a:xfrm flipH="1">
            <a:off x="6571440" y="5213160"/>
            <a:ext cx="35964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直線單箭頭接點 48"/>
          <p:cNvCxnSpPr>
            <a:stCxn id="140" idx="5"/>
          </p:cNvCxnSpPr>
          <p:nvPr/>
        </p:nvCxnSpPr>
        <p:spPr>
          <a:xfrm>
            <a:off x="7283880" y="5213520"/>
            <a:ext cx="43092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直線單箭頭接點 50"/>
          <p:cNvCxnSpPr>
            <a:stCxn id="137" idx="5"/>
          </p:cNvCxnSpPr>
          <p:nvPr/>
        </p:nvCxnSpPr>
        <p:spPr>
          <a:xfrm>
            <a:off x="7355520" y="3141720"/>
            <a:ext cx="50184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文字方塊 51"/>
          <p:cNvSpPr/>
          <p:nvPr/>
        </p:nvSpPr>
        <p:spPr>
          <a:xfrm>
            <a:off x="5289120" y="221472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文字方塊 52"/>
          <p:cNvSpPr/>
          <p:nvPr/>
        </p:nvSpPr>
        <p:spPr>
          <a:xfrm>
            <a:off x="6578280" y="214308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文字方塊 53"/>
          <p:cNvSpPr/>
          <p:nvPr/>
        </p:nvSpPr>
        <p:spPr>
          <a:xfrm>
            <a:off x="4146120" y="314316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文字方塊 54"/>
          <p:cNvSpPr/>
          <p:nvPr/>
        </p:nvSpPr>
        <p:spPr>
          <a:xfrm>
            <a:off x="3288960" y="42148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文字方塊 55"/>
          <p:cNvSpPr/>
          <p:nvPr/>
        </p:nvSpPr>
        <p:spPr>
          <a:xfrm>
            <a:off x="2288880" y="51436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文字方塊 56"/>
          <p:cNvSpPr/>
          <p:nvPr/>
        </p:nvSpPr>
        <p:spPr>
          <a:xfrm>
            <a:off x="3506400" y="507204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文字方塊 57"/>
          <p:cNvSpPr/>
          <p:nvPr/>
        </p:nvSpPr>
        <p:spPr>
          <a:xfrm>
            <a:off x="4435200" y="407196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文字方塊 58"/>
          <p:cNvSpPr/>
          <p:nvPr/>
        </p:nvSpPr>
        <p:spPr>
          <a:xfrm>
            <a:off x="5363640" y="300024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文字方塊 59"/>
          <p:cNvSpPr/>
          <p:nvPr/>
        </p:nvSpPr>
        <p:spPr>
          <a:xfrm>
            <a:off x="6503760" y="30718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文字方塊 60"/>
          <p:cNvSpPr/>
          <p:nvPr/>
        </p:nvSpPr>
        <p:spPr>
          <a:xfrm>
            <a:off x="7578360" y="307188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文字方塊 61"/>
          <p:cNvSpPr/>
          <p:nvPr/>
        </p:nvSpPr>
        <p:spPr>
          <a:xfrm>
            <a:off x="5572080" y="4286160"/>
            <a:ext cx="36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字方塊 62"/>
          <p:cNvSpPr/>
          <p:nvPr/>
        </p:nvSpPr>
        <p:spPr>
          <a:xfrm>
            <a:off x="6786720" y="4286160"/>
            <a:ext cx="43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文字方塊 63"/>
          <p:cNvSpPr/>
          <p:nvPr/>
        </p:nvSpPr>
        <p:spPr>
          <a:xfrm>
            <a:off x="4789080" y="521496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文字方塊 64"/>
          <p:cNvSpPr/>
          <p:nvPr/>
        </p:nvSpPr>
        <p:spPr>
          <a:xfrm>
            <a:off x="5935320" y="507204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文字方塊 65"/>
          <p:cNvSpPr/>
          <p:nvPr/>
        </p:nvSpPr>
        <p:spPr>
          <a:xfrm>
            <a:off x="6432120" y="51436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文字方塊 66"/>
          <p:cNvSpPr/>
          <p:nvPr/>
        </p:nvSpPr>
        <p:spPr>
          <a:xfrm>
            <a:off x="7578360" y="514368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文字方塊 67"/>
          <p:cNvSpPr/>
          <p:nvPr/>
        </p:nvSpPr>
        <p:spPr>
          <a:xfrm>
            <a:off x="4448880" y="45007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文字方塊 68"/>
          <p:cNvSpPr/>
          <p:nvPr/>
        </p:nvSpPr>
        <p:spPr>
          <a:xfrm>
            <a:off x="5448960" y="3571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文字方塊 69"/>
          <p:cNvSpPr/>
          <p:nvPr/>
        </p:nvSpPr>
        <p:spPr>
          <a:xfrm>
            <a:off x="7806600" y="36432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文字方塊 70"/>
          <p:cNvSpPr/>
          <p:nvPr/>
        </p:nvSpPr>
        <p:spPr>
          <a:xfrm>
            <a:off x="162720" y="17859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文字方塊 71"/>
          <p:cNvSpPr/>
          <p:nvPr/>
        </p:nvSpPr>
        <p:spPr>
          <a:xfrm>
            <a:off x="162720" y="2428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文字方塊 72"/>
          <p:cNvSpPr/>
          <p:nvPr/>
        </p:nvSpPr>
        <p:spPr>
          <a:xfrm>
            <a:off x="162720" y="30002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文字方塊 73"/>
          <p:cNvSpPr/>
          <p:nvPr/>
        </p:nvSpPr>
        <p:spPr>
          <a:xfrm>
            <a:off x="807480" y="564372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above semantic tree shows this s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f clauses is satisf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F6B2C61F-0682-4555-8526-4945F7B2860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ndeterminstic algorith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ists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1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gu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2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he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ge of a nondeterministic algorithm is of polynomial time-complexity, then this algorithm is called 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deterministic polynomial)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P problems : (must be decision proble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, M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isfiability problem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ing salesperson problem (T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5A2D9544-A899-4400-90E9-A6D0CD0F67A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sion proble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ecision version of sor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c, is there a permutation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(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such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decision problems are NP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halting problem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program with a certain input data, will the program terminate or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cid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AEFF231F-8CA4-4D89-9F3D-5122D0E0635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ondeterministic operations and fun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Horowitz 1998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ice(S) : arbitrarily chooses one of the elements in set 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: an unsuccessful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 : a successful comple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Nonderministic search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gorith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oice(1 : n)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/* guessing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(j) = x then success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/* checking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155CB2D2-15D9-4D44-BFE4-8D81ED693AD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nondeterministic algorithm terminates unsuccessfully iff there exist no a set of choices leading to a success sign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The time requir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NewRoman"/>
              </a:rPr>
              <a:t>choice(1 : n)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is O(1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A deterministic interpretation of a non-deterministic algorithm can be made by allow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NewRoman"/>
              </a:rPr>
              <a:t>unbounded parallelism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in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5813B83-1B3A-45F8-8743-C991CD841DE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Nondeterministic sorting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guess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or i = 1 to n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choice(1 : 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f B[j] 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0 then 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B[j] = A[i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checking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or i = 1 to n-1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f B[i] 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B[i+1] then 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CF66DCCB-9644-4C23-9813-48DD9293211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decision problem which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-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can be solved by a 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ha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to which every NP problem redu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complete (NP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are NP-hard and belong to N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813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038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C0F381B8-6FF2-45DA-9D73-47B5B853598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S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guess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or i = 1 to n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choice( true, false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checking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*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f E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) is true  then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DD5B7051-22EC-464A-B36C-A2680EB594A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k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 = P iff the satisfiability problem is a P problem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 is NP-compl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t is the first NP-complete probl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Every NP problem reduces to S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616905B-78DF-48D9-802C-65EFD38757C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Transforming searching to SAT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Does there exist a number in { x(1), x(2), …, x(n) }, which is equal to 7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ssume n = 2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nondeterministic algorith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19320" y="4038480"/>
            <a:ext cx="4643280" cy="206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 = choice(1,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f x(i)=7 then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else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253AB26-A3E5-456B-A2E7-748FBFF77DE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=1 v i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1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2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=7 &amp; i=2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2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FAILURE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-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SUCCESS   (Guarantees a successful terminat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   (Input Dat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AA8AFCDF-6CFB-4C3B-B428-6E1C9851A9A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CNF (conjunctive normal form)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=1 v i=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5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6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FAILURE v -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8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9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0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EBA4EF9-BD76-4A27-B7CC-60B6D21EF0F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Satisfiable at the following assignmen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2), (4) and (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3), (4) and (8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5) and (9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4) and (1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D813B93D-8BBB-4D5B-9BC8-BB574B9D9E1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mantic tre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843280" y="4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5257800" y="152280"/>
          <a:ext cx="3693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280"/>
                    <a:ext cx="3693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303BE22-4CFF-4602-904B-BC8B2521E1E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arching for 7, but x(1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, x(2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 </a:t>
            </a:r>
            <a:r>
              <a:rPr b="0" lang="en-US" sz="3600" spc="-1" strike="noStrike">
                <a:solidFill>
                  <a:srgbClr val="000000"/>
                </a:solidFill>
                <a:latin typeface="TimesNewRoman"/>
              </a:rPr>
              <a:t>(conjunctive normal for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Object 4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343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2940747-EED5-4F44-B0AF-B108FA28EE2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resolution principl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Object 4" descr=""/>
          <p:cNvPicPr/>
          <p:nvPr/>
        </p:nvPicPr>
        <p:blipFill>
          <a:blip r:embed="rId1"/>
          <a:stretch/>
        </p:blipFill>
        <p:spPr>
          <a:xfrm>
            <a:off x="682560" y="1747800"/>
            <a:ext cx="7844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1996A2C-3975-4D92-9A1C-B590ACB64AE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81928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Object 4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62800" cy="37576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ing for 7, where x(1)=7, x(2)=7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BF251FE-4E84-427D-94D5-2FAFF07913C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concepts of N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inition 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redu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blem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reduces 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 B (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) iff A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eterministic polynom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ime algorithm using 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istic algorithm that solves B 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olynomi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now, none of the NPC problems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eterministic polynom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ime algorithm in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orst c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oes no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e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have any polynomial time algorithm to solve the NPC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CA85D90-36D9-4DB6-834A-01D469D3FD1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mantic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re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43280" y="4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6704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933720" y="0"/>
            <a:ext cx="5097600" cy="5638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228600" y="5715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 implies that both assignments (i=1, i=2) satisfy the clau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FEAEFD7-7536-475F-B7BE-1BBA57A2436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de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Given a graph G=(V, E), S is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de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if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and for every edge (u, v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, either 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or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338640" y="2519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3429000" cy="23148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4952880" y="38098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over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, 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2, 4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066680" y="5715000"/>
            <a:ext cx="7772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problem 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CA3C7385-798E-46C7-BA26-C5827C2DDA2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ing the node cover problem to S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Object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4678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29F5F8E-AFB5-4785-8903-A6B772E2210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Object 2"/>
          <p:cNvGraphicFramePr/>
          <p:nvPr/>
        </p:nvGraphicFramePr>
        <p:xfrm>
          <a:off x="2209680" y="533520"/>
          <a:ext cx="67057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33520"/>
                    <a:ext cx="67057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1287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NF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600200" y="633888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343400" y="63244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o be continu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0EF1B53-FE91-4210-AD7D-1543D61EA9D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Object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1629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61D2B26-CFE7-424B-B1BB-FA6FC033625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T is NP-compl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SAT is an NP algorith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SAT is NP-har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NP algorithm can be transformed 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SAT [Horowitz 1998]  such that SAT is satisfiable if and only if the answer for the original NP problem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is, every NP proble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AT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(1) and (2), SAT is NP-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7F9F99F-56DB-4FC5-A061-0EB801C2ABC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of NP-Completene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at A is NP-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ve that A is an NP problem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ve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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B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NPC, B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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y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9F84B11-66D0-46DF-8562-4D90A8E0B48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-satisfiability problem (3-SAT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lause contains exactly three liter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SAT is an NP problem (obvious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3-S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One literal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in 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76813CF-1E83-4017-82B8-76715D51131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 Two literals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in 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 Three literals in a clause 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ain unchang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 More than 3 literals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FAC729E-15C5-4416-8340-C0B4F37FE4A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876560" y="1523520"/>
            <a:ext cx="40021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stance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3-SAT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1981080" y="6248520"/>
            <a:ext cx="49532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0880" y="1523880"/>
            <a:ext cx="457200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S in SAT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  <a:ea typeface="新細明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295280" y="57150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AT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ahoma"/>
              </a:rPr>
              <a:t>transform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-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S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transforming 3-SAT to S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00820E8-AF0B-4A55-88F8-DA5BD7F0B2E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eory of NP-completeness always considers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orst c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any NPC problem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eem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in the order of an exponential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NP problems are difficult. (e.g. the MST problem is an NP proble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If A, B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NPC, the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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B and B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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Theory of NP-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f any NPC problem can be solved in polynomial time, then all NP problems can be solved in polynomial time.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NP = P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D9EA5AC3-4178-4F51-816B-E8997958BC2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26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of : S is satisfi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atisfi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literals in S    (triv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 lit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: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0C4885A-4888-4614-BDE5-668518CE7C1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lvl="1" marL="482760" indent="-1857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s satisfi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least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1857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-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F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-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atisf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1857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atisfiable, then assignment satisfy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not contain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onl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e can also apply the resolution princip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3-SAT is NP-comple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EC26468-ECAA-4D57-AF29-55E0718B7C1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mment for 3-S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problem is NP-complete, its special cases may or may not be NP-compl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1E9087BD-D50C-4E26-9EF5-1307051E0DD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romatic number decision problem (C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l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raph G=(V, E) is a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: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 1, 2, 3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k } such that if (u, v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, then f(u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v). The CN problem is to determine if G has a coloring for 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&lt;Theorem&gt; Satisfiability with at most 3 literals per clause (SATY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C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567240" y="236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2590920" cy="24703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4495680" y="3809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olor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=1,  f(b)=2,  f(c)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d)=2,  f(e)=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7"/>
          <p:cNvSpPr/>
          <p:nvPr/>
        </p:nvSpPr>
        <p:spPr>
          <a:xfrm>
            <a:off x="2057400" y="32004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3657600" y="41911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205740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365760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2819520" y="51055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43B9182-2C08-482F-8F79-EAABAE6C90F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Object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5219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AT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C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515447B3-0A50-4D02-856F-49B94037C9E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94796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895320" y="3340080"/>
            <a:ext cx="4495680" cy="3441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xample of SAT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C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1504800" y="5867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2114640" y="5867280"/>
            <a:ext cx="1522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2724120" y="586728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3333600" y="58672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3943440" y="5867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552920" y="586728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Oval 13"/>
          <p:cNvSpPr/>
          <p:nvPr/>
        </p:nvSpPr>
        <p:spPr>
          <a:xfrm>
            <a:off x="3924360" y="3809880"/>
            <a:ext cx="1522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4552920" y="380988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2724120" y="3809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5791320" y="2209680"/>
            <a:ext cx="312408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assig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DC138C17-59DD-410D-A6E7-67D781CF4B5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isfi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+1 colo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, then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,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,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, then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, then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at least one such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of of SAT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C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5F9502BF-A2D1-47FA-8458-E24E18D08D6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ssigned with color 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and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  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 and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 at most 3 literals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not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assign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assign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imilar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D6BE28EA-C498-4B3F-9375-E6EC7AAE84B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cover decis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 = {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= {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i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F if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and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t cover decisio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o determine if F has a cover T containing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= {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    set cover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exac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386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0"/>
              <p:cNvSpPr txBox="1"/>
              <p:nvPr/>
            </p:nvSpPr>
            <p:spPr>
              <a:xfrm>
                <a:off x="1600200" y="2133720"/>
                <a:ext cx="371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14" name="Rectangle 6"/>
          <p:cNvSpPr/>
          <p:nvPr/>
        </p:nvSpPr>
        <p:spPr>
          <a:xfrm>
            <a:off x="43671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"/>
              <p:cNvSpPr txBox="1"/>
              <p:nvPr/>
            </p:nvSpPr>
            <p:spPr>
              <a:xfrm>
                <a:off x="5715000" y="2590920"/>
                <a:ext cx="409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16" name="Rectangle 8"/>
          <p:cNvSpPr/>
          <p:nvPr/>
        </p:nvSpPr>
        <p:spPr>
          <a:xfrm>
            <a:off x="4362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6705720" y="2590920"/>
                <a:ext cx="419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F8DA72B-57B3-4967-BC46-463347962A0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ct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Notations same as those in set cover.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etermine if F has 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xact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, which is a cover of F and the sets in T are pairwise disj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&lt;Theorem&gt; C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exact cov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467160" y="472428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No proof her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BE814918-DB72-46CB-A1BF-74FAE65649C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s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ution is simp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s are more difficul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he traveling salesperson probl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tour whose total length is less than or equal to a consta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FF0B3998-F884-4EE0-A4FE-C2A442A8A6D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 of subset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positive numbers A = {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tant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 A = { 7, 5, 19, 1, 12, 8, 14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21, 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 7, 14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11,  no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Exact cover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sum of subs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3052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"/>
              <p:cNvSpPr txBox="1"/>
              <p:nvPr/>
            </p:nvSpPr>
            <p:spPr>
              <a:xfrm>
                <a:off x="5410080" y="3048120"/>
                <a:ext cx="78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Î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221ECBA-C85A-485D-A5AE-6EB67BCCD5E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ce of exact cov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= {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ce of sum of subset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= {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  whe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e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 if u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0 if otherw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y k+1?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the example on the next p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xact cover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sum of subset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4052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5486400" y="2209680"/>
                <a:ext cx="2971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1371600" y="4191120"/>
                <a:ext cx="2590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1371600" y="5181480"/>
                <a:ext cx="5688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133B104-86A7-4E7F-8F5C-0E1A48F826B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617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xample of Exact cover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sum of subse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 transfor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, n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3}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3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,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={1,2,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46483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alid transformait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,3}.  K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k-2=2 i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1071720" y="357192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150F714-7C99-44D6-8BD7-1A03883CC96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t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set of positive numbers A = {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partition P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                 i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 g.  A = {3, 6, 1,  9, 4, 11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: {3, 1, 9, 4} and {6, 11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&lt;Theorem&gt; sum of subsets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 part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9820E4B-F61E-4E21-B837-F606DA9F0C0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m of subsets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parti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609480" y="1523880"/>
          <a:ext cx="716292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16292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Oval 4"/>
          <p:cNvSpPr/>
          <p:nvPr/>
        </p:nvSpPr>
        <p:spPr>
          <a:xfrm>
            <a:off x="7848720" y="4191120"/>
            <a:ext cx="76176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7848720" y="4952880"/>
            <a:ext cx="761760" cy="5968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Object 7"/>
          <p:cNvGraphicFramePr/>
          <p:nvPr/>
        </p:nvGraphicFramePr>
        <p:xfrm>
          <a:off x="8153280" y="4724280"/>
          <a:ext cx="309600" cy="381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4724280"/>
                    <a:ext cx="30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8"/>
          <p:cNvGraphicFramePr/>
          <p:nvPr/>
        </p:nvGraphicFramePr>
        <p:xfrm>
          <a:off x="8153280" y="5562720"/>
          <a:ext cx="309600" cy="380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5562720"/>
                    <a:ext cx="309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9"/>
          <p:cNvGraphicFramePr/>
          <p:nvPr/>
        </p:nvGraphicFramePr>
        <p:xfrm>
          <a:off x="7696080" y="4267080"/>
          <a:ext cx="274680" cy="346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5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4267080"/>
                    <a:ext cx="2746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0"/>
          <p:cNvGraphicFramePr/>
          <p:nvPr/>
        </p:nvGraphicFramePr>
        <p:xfrm>
          <a:off x="8534520" y="4191120"/>
          <a:ext cx="309600" cy="3808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5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34520" y="4191120"/>
                    <a:ext cx="309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BB3E838-66A5-45AE-BFEA-62B4B985752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+1 ?  why not 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void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+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be partitioned into the same sub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7FBDC9C-8A03-4A90-854E-BABAD89A77B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items, each of size 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 capacity :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we can assign the items i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bin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,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&lt;Theorem&gt; partitio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bin pack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E68D968-AA96-4D99-8A49-43E0FB82D2B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LSI discrete layout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:  n rectangles, each with heigh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w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an area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if there i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n rectangles within the area A according to the rul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aries of rectangles parallel to x axis or y ax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ners of rectangles lie on integer poi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wo rectangles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rectangles are separated by at least a unit d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the figure on the next page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DE4FD02-5C66-417A-B34B-D25F58CDE92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01924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095880" cy="37879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5"/>
          <p:cNvSpPr/>
          <p:nvPr/>
        </p:nvSpPr>
        <p:spPr>
          <a:xfrm>
            <a:off x="1676520" y="4952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ccessful Place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571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bin packing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VLSI discrete lay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B4F60E7D-0C61-4E37-B4AF-429C718E87E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 cliqu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ximal complete subgraph of a graph G=(V,E)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ax (maximum) cliq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 is to determine the size of a largest clique in 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 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SAT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clique decision problem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3343320" y="2295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2514600" cy="21243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4876920" y="358128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x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iqu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 b}, {a, c, d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 d, e, f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iqu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rg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 d, e, f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5D806AEB-621A-460A-B435-A1C2B985598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lving an optimization problem by a decision algorithm 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6437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ing TSP optimization problem by decision algorith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est  (decision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est  (decision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est  (decision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asily find the smalles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1B9B8A8-8D4E-4C44-9099-41CB0492C96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de cover decisi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et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de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 graph G = (V, E) iff all edges in E are incident to  at least one vertex in S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&lt;Theorem&gt; clique decision problem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node cover decision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proof on the next p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B024BC4-7F45-4623-834F-312AB5112FF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que decision 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node cover deci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=(V,E) : clique Q of size k (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V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: node cover S of size n-k, S=V-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(u,v)|u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,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and (u,v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4"/>
          <p:cNvSpPr/>
          <p:nvPr/>
        </p:nvSpPr>
        <p:spPr>
          <a:xfrm>
            <a:off x="3429000" y="1981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2" name="Object 10"/>
          <p:cNvGraphicFramePr/>
          <p:nvPr/>
        </p:nvGraphicFramePr>
        <p:xfrm>
          <a:off x="609480" y="3886200"/>
          <a:ext cx="372744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37274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2"/>
          <p:cNvGraphicFramePr/>
          <p:nvPr/>
        </p:nvGraphicFramePr>
        <p:xfrm>
          <a:off x="4267080" y="3733920"/>
          <a:ext cx="410364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733920"/>
                    <a:ext cx="41036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9247E3AD-220D-4438-B71C-C2136DE2EBD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amiltonian cycle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Hamilton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round trip path along n edges of G which visits every vertex once and returns to its starting vert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iltonian cycle : 1, 2, 8, 7, 6, 5, 4, 3, 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SAT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directed Hamiltonian cycle ( in a directed graph )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967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20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4026175-D486-45C7-8F09-52988C94570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veling salespers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directed graph G=(V, E) is a directed cycle that includes every vertex in V. The problem is to find a tour of minimum co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Directed Hamiltonian cycl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traveling salesperson decision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proof on the next p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0CF24FD-1E91-447E-AFBA-BC243DF60DF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of Hamiltonian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000" spc="-1" strike="noStrike">
                <a:solidFill>
                  <a:srgbClr val="333399"/>
                </a:solidFill>
                <a:latin typeface="新細明體"/>
              </a:rPr>
              <a:t>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96" name="Object 3"/>
          <p:cNvGraphicFramePr/>
          <p:nvPr/>
        </p:nvGraphicFramePr>
        <p:xfrm>
          <a:off x="914400" y="1752480"/>
          <a:ext cx="7701120" cy="44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0112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AF1F21B9-5AFE-4AE3-94B8-50F12AA182C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0/1 knapsack problem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 objects, each with a weight w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fit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 of knapsack :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 or 1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version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apsack problem :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,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&lt;Theorem&gt; partition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0/1 knapsack decision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531D966-ABBB-4839-A48D-87736D8C8F5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 to Sec. 11.3, Sec. 11.4 and its exercises of [Horowitz 1998] for the proofs of more NP-complete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3C3C652-6CEF-426D-AB06-D3C8EFDBA49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ogical formula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ssign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make the above formula true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represents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51233C99-4EB2-44F1-937A-9313C9BA505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 least 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 which satisfies a formula, then we say that this formula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atis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otherwise, it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unsatis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unsatisfiable formul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F9E2422-2E46-44CE-8317-A53B1DA83DE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of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atisfiability probl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Given a Boolean formula, determine whether this formula is satisfiable or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liter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conjunctive normal for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amp;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6:26:59Z</dcterms:created>
  <dc:creator>cby</dc:creator>
  <dc:description/>
  <dc:language>en-US</dc:language>
  <cp:lastModifiedBy>islab</cp:lastModifiedBy>
  <dcterms:modified xsi:type="dcterms:W3CDTF">2007-06-11T14:32:27Z</dcterms:modified>
  <cp:revision>119</cp:revision>
  <dc:subject/>
  <dc:title>chap 3 The Theory of NP-Completeness</dc:title>
</cp:coreProperties>
</file>