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4.wmf" ContentType="image/x-wmf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D86F-9918-44C8-B488-062162164D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97DB-1F27-4018-848D-89C4A4E4A9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1B85-9009-4AF4-A6BD-60049486C2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A6A-58AA-41C7-B231-213C3634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E7B-5E5C-4E49-A3EC-03C3DA7B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29C-28B4-4F14-A6D9-0027228A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BCA-D3D8-4D0C-B647-2D69291F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51B-E59B-4E21-86E1-9802A210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808-833C-4142-A2B8-681DB0C0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8E0-EBC3-46BD-BFFC-F0FBC035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BAF-6FD0-4F5D-8EA8-32FCA433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DB1-F1CF-4E40-96C5-4CCCB3D0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AAF-494E-40EC-B430-FEACE0A3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4B1-F6A0-49FF-A89C-DD84CA8A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097-32F7-41EA-9D12-D9C52730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689880" cy="797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6429240" y="0"/>
            <a:ext cx="2698920" cy="781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F13A-E9C2-4AB3-B668-40763C0B2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ff8447"/>
                </a:solidFill>
                <a:latin typeface="Tahoma"/>
              </a:rPr>
              <a:t>ОБ ИТОГАХ ВСЕРОССИЙСКОЙ </a:t>
            </a:r>
            <a:br>
              <a:rPr sz="3600"/>
            </a:br>
            <a:r>
              <a:rPr b="1" lang="ru-RU" sz="3600" spc="-1" strike="noStrike">
                <a:solidFill>
                  <a:srgbClr val="ff8447"/>
                </a:solidFill>
                <a:latin typeface="Tahoma"/>
              </a:rPr>
              <a:t>ПЕРЕПИСИ НАСЕЛЕНИЯ 2010 ГОДА</a:t>
            </a:r>
            <a:br>
              <a:rPr sz="1000"/>
            </a:br>
            <a:br>
              <a:rPr sz="1000"/>
            </a:br>
            <a:br>
              <a:rPr sz="20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00360" y="5533560"/>
            <a:ext cx="447516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8447"/>
                </a:solidFill>
                <a:latin typeface="Tahoma"/>
              </a:rPr>
              <a:t>Суринов Александр Евгенье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8447"/>
                </a:solidFill>
                <a:latin typeface="Tahoma"/>
              </a:rPr>
              <a:t>руководитель Росст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79200" y="830160"/>
            <a:ext cx="898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БРАЧНОЕ СОСТОЯНИЕ НАСЕЛЕНИЯ В ВОЗРАСТЕ 16 ЛЕТ И БОЛЕ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Диаграмма 2" descr=""/>
          <p:cNvPicPr/>
          <p:nvPr/>
        </p:nvPicPr>
        <p:blipFill>
          <a:blip r:embed="rId1"/>
          <a:stretch/>
        </p:blipFill>
        <p:spPr>
          <a:xfrm>
            <a:off x="139680" y="1427040"/>
            <a:ext cx="900432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0"/>
          <p:cNvSpPr/>
          <p:nvPr/>
        </p:nvSpPr>
        <p:spPr>
          <a:xfrm>
            <a:off x="214200" y="82872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РОЖДАЕМОСТЬ У ЖЕНЩИН В ВОЗРАСТЕ 15 ЛЕТ И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42920" y="1285920"/>
          <a:ext cx="8858160" cy="5502240"/>
        </p:xfrm>
        <a:graphic>
          <a:graphicData uri="http://schemas.openxmlformats.org/drawingml/2006/table">
            <a:tbl>
              <a:tblPr/>
              <a:tblGrid>
                <a:gridCol w="3558960"/>
                <a:gridCol w="1060560"/>
                <a:gridCol w="1058760"/>
                <a:gridCol w="1276560"/>
                <a:gridCol w="992160"/>
                <a:gridCol w="911160"/>
              </a:tblGrid>
              <a:tr h="496800"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 в % к 2002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ито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 женщины в возрасте 15 лет и более, ответившие на вопрос о рождае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 указали число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жденных детей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716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376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 родили ни одного ребе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142920" y="83988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ЧИСЛО И РАЗМЕР ДОМОХОЗЯ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Диаграмма 7" descr=""/>
          <p:cNvPicPr/>
          <p:nvPr/>
        </p:nvPicPr>
        <p:blipFill>
          <a:blip r:embed="rId1"/>
          <a:stretch/>
        </p:blipFill>
        <p:spPr>
          <a:xfrm>
            <a:off x="754200" y="2924280"/>
            <a:ext cx="7858080" cy="40719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5"/>
          <p:cNvSpPr/>
          <p:nvPr/>
        </p:nvSpPr>
        <p:spPr>
          <a:xfrm>
            <a:off x="4826160" y="3309840"/>
            <a:ext cx="12207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,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1"/>
          <p:cNvCxnSpPr/>
          <p:nvPr/>
        </p:nvCxnSpPr>
        <p:spPr>
          <a:xfrm flipH="1">
            <a:off x="4110840" y="3680280"/>
            <a:ext cx="661320" cy="42948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74" name="Прямая соединительная линия 13"/>
          <p:cNvSpPr/>
          <p:nvPr/>
        </p:nvSpPr>
        <p:spPr>
          <a:xfrm>
            <a:off x="4773600" y="3681360"/>
            <a:ext cx="838080" cy="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Прямая со стрелкой 16"/>
          <p:cNvCxnSpPr/>
          <p:nvPr/>
        </p:nvCxnSpPr>
        <p:spPr>
          <a:xfrm flipH="1">
            <a:off x="3260520" y="3067200"/>
            <a:ext cx="72000" cy="42912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76" name="Прямая соединительная линия 18"/>
          <p:cNvSpPr/>
          <p:nvPr/>
        </p:nvSpPr>
        <p:spPr>
          <a:xfrm>
            <a:off x="3325680" y="3067200"/>
            <a:ext cx="642960" cy="144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5"/>
          <p:cNvSpPr/>
          <p:nvPr/>
        </p:nvSpPr>
        <p:spPr>
          <a:xfrm>
            <a:off x="3286080" y="2714760"/>
            <a:ext cx="107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,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Прямая со стрелкой 22"/>
          <p:cNvCxnSpPr/>
          <p:nvPr/>
        </p:nvCxnSpPr>
        <p:spPr>
          <a:xfrm>
            <a:off x="2756520" y="3271320"/>
            <a:ext cx="143640" cy="35820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79" name="Прямая соединительная линия 24"/>
          <p:cNvSpPr/>
          <p:nvPr/>
        </p:nvSpPr>
        <p:spPr>
          <a:xfrm>
            <a:off x="2043000" y="3271680"/>
            <a:ext cx="714600" cy="180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1947960" y="2900520"/>
            <a:ext cx="108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,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32"/>
          <p:cNvCxnSpPr/>
          <p:nvPr/>
        </p:nvCxnSpPr>
        <p:spPr>
          <a:xfrm>
            <a:off x="1896120" y="3967200"/>
            <a:ext cx="286200" cy="35784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82" name="Прямая соединительная линия 33"/>
          <p:cNvSpPr/>
          <p:nvPr/>
        </p:nvSpPr>
        <p:spPr>
          <a:xfrm>
            <a:off x="1182600" y="3967200"/>
            <a:ext cx="714600" cy="144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1000080" y="3571920"/>
            <a:ext cx="1246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37"/>
          <p:cNvCxnSpPr/>
          <p:nvPr/>
        </p:nvCxnSpPr>
        <p:spPr>
          <a:xfrm flipV="1">
            <a:off x="1825560" y="5566680"/>
            <a:ext cx="286560" cy="21492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85" name="Прямая соединительная линия 38"/>
          <p:cNvSpPr/>
          <p:nvPr/>
        </p:nvSpPr>
        <p:spPr>
          <a:xfrm>
            <a:off x="1119240" y="5781600"/>
            <a:ext cx="714240" cy="180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714240" y="5357880"/>
            <a:ext cx="1336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Прямая со стрелкой 41"/>
          <p:cNvCxnSpPr/>
          <p:nvPr/>
        </p:nvCxnSpPr>
        <p:spPr>
          <a:xfrm flipH="1" flipV="1">
            <a:off x="4236840" y="5966640"/>
            <a:ext cx="375120" cy="39132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42"/>
          <p:cNvSpPr/>
          <p:nvPr/>
        </p:nvSpPr>
        <p:spPr>
          <a:xfrm>
            <a:off x="4611600" y="6357960"/>
            <a:ext cx="714600" cy="144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4754520" y="5996160"/>
            <a:ext cx="13082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Группа 23" descr=""/>
          <p:cNvPicPr/>
          <p:nvPr/>
        </p:nvPicPr>
        <p:blipFill>
          <a:blip r:embed="rId2"/>
          <a:stretch/>
        </p:blipFill>
        <p:spPr>
          <a:xfrm>
            <a:off x="6632640" y="1463760"/>
            <a:ext cx="2523960" cy="1023840"/>
          </a:xfrm>
          <a:prstGeom prst="rect">
            <a:avLst/>
          </a:prstGeom>
          <a:ln w="0">
            <a:noFill/>
          </a:ln>
        </p:spPr>
      </p:pic>
      <p:pic>
        <p:nvPicPr>
          <p:cNvPr id="391" name="Схема 3" descr=""/>
          <p:cNvPicPr/>
          <p:nvPr/>
        </p:nvPicPr>
        <p:blipFill>
          <a:blip r:embed="rId3"/>
          <a:stretch/>
        </p:blipFill>
        <p:spPr>
          <a:xfrm>
            <a:off x="-573120" y="1163520"/>
            <a:ext cx="8217000" cy="156060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27"/>
          <p:cNvSpPr/>
          <p:nvPr/>
        </p:nvSpPr>
        <p:spPr>
          <a:xfrm>
            <a:off x="6858000" y="1500120"/>
            <a:ext cx="24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размер домохозяйства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,6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108000" y="74304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ДОМОХОЗЯЙСТВА ИЗ 2-Х И БОЛЕЕ ЧЕЛОВЕК ПО ЧИСЛУ ДЕТЕЙ МОЛОЖЕ 18 ЛЕТ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Диаграмма 17" descr=""/>
          <p:cNvPicPr/>
          <p:nvPr/>
        </p:nvPicPr>
        <p:blipFill>
          <a:blip r:embed="rId1"/>
          <a:stretch/>
        </p:blipFill>
        <p:spPr>
          <a:xfrm>
            <a:off x="0" y="1785960"/>
            <a:ext cx="8786880" cy="2357280"/>
          </a:xfrm>
          <a:prstGeom prst="rect">
            <a:avLst/>
          </a:prstGeom>
          <a:ln w="0">
            <a:noFill/>
          </a:ln>
        </p:spPr>
      </p:pic>
      <p:pic>
        <p:nvPicPr>
          <p:cNvPr id="395" name="Диаграмма 20" descr=""/>
          <p:cNvPicPr/>
          <p:nvPr/>
        </p:nvPicPr>
        <p:blipFill>
          <a:blip r:embed="rId2"/>
          <a:stretch/>
        </p:blipFill>
        <p:spPr>
          <a:xfrm>
            <a:off x="4437000" y="4357800"/>
            <a:ext cx="4714920" cy="3571920"/>
          </a:xfrm>
          <a:prstGeom prst="rect">
            <a:avLst/>
          </a:prstGeom>
          <a:ln w="0">
            <a:noFill/>
          </a:ln>
        </p:spPr>
      </p:pic>
      <p:sp>
        <p:nvSpPr>
          <p:cNvPr id="396" name="Скругленный прямоугольник 22"/>
          <p:cNvSpPr/>
          <p:nvPr/>
        </p:nvSpPr>
        <p:spPr>
          <a:xfrm>
            <a:off x="2071800" y="1468440"/>
            <a:ext cx="5000400" cy="325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се 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ый прямоугольник 25"/>
          <p:cNvSpPr/>
          <p:nvPr/>
        </p:nvSpPr>
        <p:spPr>
          <a:xfrm>
            <a:off x="5151600" y="4092480"/>
            <a:ext cx="3500280" cy="405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ельские 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кругленный прямоугольник 26"/>
          <p:cNvSpPr/>
          <p:nvPr/>
        </p:nvSpPr>
        <p:spPr>
          <a:xfrm>
            <a:off x="542880" y="4092480"/>
            <a:ext cx="3500640" cy="405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ородские 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Диаграмма 27" descr=""/>
          <p:cNvPicPr/>
          <p:nvPr/>
        </p:nvPicPr>
        <p:blipFill>
          <a:blip r:embed="rId3"/>
          <a:stretch/>
        </p:blipFill>
        <p:spPr>
          <a:xfrm>
            <a:off x="-100080" y="4357800"/>
            <a:ext cx="47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138240" y="771480"/>
            <a:ext cx="89881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НАЦИОНАЛЬНЫЙ СОСТАВ НАСЕЛЕНИЯ,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УКАЗАВШЕГО НАЦИОНАЛЬНОСТЬ В ПЕРЕПИСНОМ ЛИСТЕ, млн человек 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трелка углом 5"/>
          <p:cNvSpPr/>
          <p:nvPr/>
        </p:nvSpPr>
        <p:spPr>
          <a:xfrm>
            <a:off x="1143000" y="1560600"/>
            <a:ext cx="2143080" cy="511200"/>
          </a:xfrm>
          <a:custGeom>
            <a:avLst/>
            <a:gdLst/>
            <a:ahLst/>
            <a:rect l="l" t="t" r="r" b="b"/>
            <a:pathLst>
              <a:path w="2143125" h="511175">
                <a:moveTo>
                  <a:pt x="0" y="511175"/>
                </a:moveTo>
                <a:lnTo>
                  <a:pt x="0" y="287536"/>
                </a:lnTo>
                <a:cubicBezTo>
                  <a:pt x="0" y="164024"/>
                  <a:pt x="100127" y="63897"/>
                  <a:pt x="223639" y="63897"/>
                </a:cubicBezTo>
                <a:lnTo>
                  <a:pt x="2015331" y="63897"/>
                </a:lnTo>
                <a:lnTo>
                  <a:pt x="2015331" y="0"/>
                </a:lnTo>
                <a:lnTo>
                  <a:pt x="2143125" y="127794"/>
                </a:lnTo>
                <a:lnTo>
                  <a:pt x="2015331" y="255588"/>
                </a:lnTo>
                <a:lnTo>
                  <a:pt x="2015331" y="191691"/>
                </a:lnTo>
                <a:lnTo>
                  <a:pt x="223639" y="191691"/>
                </a:lnTo>
                <a:cubicBezTo>
                  <a:pt x="170705" y="191691"/>
                  <a:pt x="127794" y="234602"/>
                  <a:pt x="127794" y="287536"/>
                </a:cubicBezTo>
                <a:lnTo>
                  <a:pt x="127794" y="511175"/>
                </a:lnTo>
                <a:lnTo>
                  <a:pt x="0" y="511175"/>
                </a:lnTo>
                <a:close/>
              </a:path>
            </a:pathLst>
          </a:custGeom>
          <a:solidFill>
            <a:srgbClr val="85bd21">
              <a:alpha val="76000"/>
            </a:srgbClr>
          </a:solidFill>
          <a:ln w="12600">
            <a:solidFill>
              <a:srgbClr val="537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Левая фигурная скобка 6"/>
          <p:cNvSpPr/>
          <p:nvPr/>
        </p:nvSpPr>
        <p:spPr>
          <a:xfrm>
            <a:off x="3583080" y="1508040"/>
            <a:ext cx="285480" cy="48135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4813560"/>
              <a:gd name="textAreaBottom" fmla="*/ 4806360 h 481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"/>
                  <a:pt x="10800" y="107"/>
                </a:cubicBezTo>
                <a:lnTo>
                  <a:pt x="10800" y="835"/>
                </a:lnTo>
                <a:cubicBezTo>
                  <a:pt x="10800" y="889"/>
                  <a:pt x="5400" y="942"/>
                  <a:pt x="0" y="942"/>
                </a:cubicBezTo>
                <a:cubicBezTo>
                  <a:pt x="5400" y="942"/>
                  <a:pt x="10800" y="996"/>
                  <a:pt x="10800" y="1049"/>
                </a:cubicBezTo>
                <a:lnTo>
                  <a:pt x="10800" y="21493"/>
                </a:lnTo>
                <a:cubicBezTo>
                  <a:pt x="10800" y="21547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Диаграмма 7" descr=""/>
          <p:cNvPicPr/>
          <p:nvPr/>
        </p:nvPicPr>
        <p:blipFill>
          <a:blip r:embed="rId1"/>
          <a:stretch/>
        </p:blipFill>
        <p:spPr>
          <a:xfrm>
            <a:off x="-714240" y="1714680"/>
            <a:ext cx="4905360" cy="4929120"/>
          </a:xfrm>
          <a:prstGeom prst="rect">
            <a:avLst/>
          </a:prstGeom>
          <a:ln w="0">
            <a:noFill/>
          </a:ln>
        </p:spPr>
      </p:pic>
      <p:pic>
        <p:nvPicPr>
          <p:cNvPr id="404" name="Диаграмма 8" descr=""/>
          <p:cNvPicPr/>
          <p:nvPr/>
        </p:nvPicPr>
        <p:blipFill>
          <a:blip r:embed="rId2"/>
          <a:stretch/>
        </p:blipFill>
        <p:spPr>
          <a:xfrm>
            <a:off x="3643200" y="1357200"/>
            <a:ext cx="5500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54000" y="1004760"/>
            <a:ext cx="8988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РАСПРЕДЕЛЕНИЕ НАСЕЛЕНИЯ ПО РОДНОМУ ЯЗЫКУ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кругленный прямоугольник 2"/>
          <p:cNvSpPr/>
          <p:nvPr/>
        </p:nvSpPr>
        <p:spPr>
          <a:xfrm>
            <a:off x="214200" y="1643040"/>
            <a:ext cx="8688600" cy="20415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93,8%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селения назвали родным языком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язык соответствующей национ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Схема 11" descr=""/>
          <p:cNvPicPr/>
          <p:nvPr/>
        </p:nvPicPr>
        <p:blipFill>
          <a:blip r:embed="rId1"/>
          <a:stretch/>
        </p:blipFill>
        <p:spPr>
          <a:xfrm>
            <a:off x="281160" y="3803760"/>
            <a:ext cx="872964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79200" y="782640"/>
            <a:ext cx="8988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РАСПРЕДЕЛЕНИЕ НАСЕЛЕНИЯ ПО ГРАЖДАНСТВУ ИНОСТРАННЫХ ГОСУДАРСТВ, тыс. человек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Диаграмма 9" descr=""/>
          <p:cNvPicPr/>
          <p:nvPr/>
        </p:nvPicPr>
        <p:blipFill>
          <a:blip r:embed="rId1"/>
          <a:stretch/>
        </p:blipFill>
        <p:spPr>
          <a:xfrm>
            <a:off x="0" y="1320840"/>
            <a:ext cx="8786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Диаграмма 8" descr=""/>
          <p:cNvPicPr/>
          <p:nvPr/>
        </p:nvPicPr>
        <p:blipFill>
          <a:blip r:embed="rId1"/>
          <a:stretch/>
        </p:blipFill>
        <p:spPr>
          <a:xfrm>
            <a:off x="142920" y="1357200"/>
            <a:ext cx="93582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507960" y="817560"/>
            <a:ext cx="813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УРОВЕНЬ ОБРАЗОВАНИЯ НАСЕЛЕНИЯ                                                                   В ВОЗРАСТЕ 15 ЛЕТ И БОЛЕЕ, млн человек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0"/>
          <p:cNvSpPr/>
          <p:nvPr/>
        </p:nvSpPr>
        <p:spPr>
          <a:xfrm>
            <a:off x="214200" y="72720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НАСЕЛЕНИЕ ПО ВСЕМ УКАЗАННЫМ ИСТОЧНИКАМ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СРЕДСТВ К СУЩЕСТВ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5160" y="1403280"/>
          <a:ext cx="9001080" cy="5421240"/>
        </p:xfrm>
        <a:graphic>
          <a:graphicData uri="http://schemas.openxmlformats.org/drawingml/2006/table">
            <a:tbl>
              <a:tblPr/>
              <a:tblGrid>
                <a:gridCol w="3902040"/>
                <a:gridCol w="1174680"/>
                <a:gridCol w="1174680"/>
                <a:gridCol w="1398600"/>
                <a:gridCol w="1351080"/>
              </a:tblGrid>
              <a:tr h="730440">
                <a:tc rowSpan="2">
                  <a:txBody>
                    <a:bodyPr lIns="34920" rIns="34920" tIns="0" bIns="0" anchor="ctr">
                      <a:noAutofit/>
                    </a:bodyPr>
                    <a:p>
                      <a:pPr marL="50760" indent="457200"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источников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 indent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 существо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еление по все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аза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а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 2002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всем источник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еление п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2010 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вая деятельность (включая работу по совместительств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чное подсоб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пенд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я (кроме пенсии п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валид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я по инвалид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(кроме пособия п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работиц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 безработиц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угой вид государственного обесп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бережения, дивиденд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дача в наем или в аренд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ущества; доход от патентов, авторских пр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ждивение; помощь других лиц; алим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ой источ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60480" y="798480"/>
            <a:ext cx="898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НАСЕЛЕНИЕ ПО ЭКОНОМИЧЕСКОЙ АКТИВНОСТ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Схема 4" descr=""/>
          <p:cNvPicPr/>
          <p:nvPr/>
        </p:nvPicPr>
        <p:blipFill>
          <a:blip r:embed="rId1"/>
          <a:stretch/>
        </p:blipFill>
        <p:spPr>
          <a:xfrm>
            <a:off x="36360" y="858960"/>
            <a:ext cx="9047160" cy="5213160"/>
          </a:xfrm>
          <a:prstGeom prst="rect">
            <a:avLst/>
          </a:prstGeom>
          <a:ln w="0">
            <a:noFill/>
          </a:ln>
        </p:spPr>
      </p:pic>
      <p:grpSp>
        <p:nvGrpSpPr>
          <p:cNvPr id="416" name="Группа 6"/>
          <p:cNvGrpSpPr/>
          <p:nvPr/>
        </p:nvGrpSpPr>
        <p:grpSpPr>
          <a:xfrm>
            <a:off x="428760" y="4400640"/>
            <a:ext cx="8429400" cy="1214280"/>
            <a:chOff x="428760" y="4400640"/>
            <a:chExt cx="8429400" cy="1214280"/>
          </a:xfrm>
        </p:grpSpPr>
        <p:sp>
          <p:nvSpPr>
            <p:cNvPr id="417" name="Скругленный прямоугольник 7"/>
            <p:cNvSpPr/>
            <p:nvPr/>
          </p:nvSpPr>
          <p:spPr>
            <a:xfrm>
              <a:off x="428760" y="4400640"/>
              <a:ext cx="8429400" cy="1214280"/>
            </a:xfrm>
            <a:prstGeom prst="roundRect">
              <a:avLst>
                <a:gd name="adj" fmla="val 10000"/>
              </a:avLst>
            </a:prstGeom>
            <a:solidFill>
              <a:srgbClr val="002060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Скругленный прямоугольник 4"/>
            <p:cNvSpPr/>
            <p:nvPr/>
          </p:nvSpPr>
          <p:spPr>
            <a:xfrm>
              <a:off x="449280" y="4435560"/>
              <a:ext cx="65991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Численность экономически неактивного населения сократилась на </a:t>
              </a: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18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Скругленный прямоугольник 13"/>
          <p:cNvSpPr/>
          <p:nvPr/>
        </p:nvSpPr>
        <p:spPr>
          <a:xfrm>
            <a:off x="1474920" y="5707080"/>
            <a:ext cx="6500520" cy="1000080"/>
          </a:xfrm>
          <a:prstGeom prst="roundRect">
            <a:avLst>
              <a:gd name="adj" fmla="val 10000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,7 млн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нят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2,5%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казали, что имеют не одну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Группа 14"/>
          <p:cNvGrpSpPr/>
          <p:nvPr/>
        </p:nvGrpSpPr>
        <p:grpSpPr>
          <a:xfrm>
            <a:off x="6715080" y="4478400"/>
            <a:ext cx="974880" cy="836640"/>
            <a:chOff x="6715080" y="4478400"/>
            <a:chExt cx="974880" cy="836640"/>
          </a:xfrm>
        </p:grpSpPr>
        <p:sp>
          <p:nvSpPr>
            <p:cNvPr id="421" name="Стрелка вниз 15"/>
            <p:cNvSpPr/>
            <p:nvPr/>
          </p:nvSpPr>
          <p:spPr>
            <a:xfrm>
              <a:off x="6715080" y="4478400"/>
              <a:ext cx="974880" cy="83664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rgbClr val="85bd21"/>
            </a:solidFill>
            <a:ln w="1260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Стрелка вниз 4"/>
            <p:cNvSpPr/>
            <p:nvPr/>
          </p:nvSpPr>
          <p:spPr>
            <a:xfrm>
              <a:off x="6934680" y="4478760"/>
              <a:ext cx="53676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2"/>
          <p:cNvSpPr/>
          <p:nvPr/>
        </p:nvSpPr>
        <p:spPr>
          <a:xfrm>
            <a:off x="123840" y="811080"/>
            <a:ext cx="88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КАТЕГОРИИ НАСЕЛЕНИЯ, УЧТЕННОГО ПРИ ПРОВЕДЕНИИ ВСЕРОССИЙСКОЙ ПЕРЕПИСИ НАСЕЛЕНИЯ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52"/>
          <p:cNvSpPr/>
          <p:nvPr/>
        </p:nvSpPr>
        <p:spPr>
          <a:xfrm>
            <a:off x="2597040" y="4875120"/>
            <a:ext cx="4076640" cy="18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23"/>
          <p:cNvGrpSpPr/>
          <p:nvPr/>
        </p:nvGrpSpPr>
        <p:grpSpPr>
          <a:xfrm>
            <a:off x="2445840" y="2733840"/>
            <a:ext cx="4032720" cy="429840"/>
            <a:chOff x="2445840" y="2733840"/>
            <a:chExt cx="4032720" cy="429840"/>
          </a:xfrm>
        </p:grpSpPr>
        <p:sp>
          <p:nvSpPr>
            <p:cNvPr id="55" name="Прямая соединительная линия 46"/>
            <p:cNvSpPr/>
            <p:nvPr/>
          </p:nvSpPr>
          <p:spPr>
            <a:xfrm>
              <a:off x="2446200" y="2943360"/>
              <a:ext cx="4032360" cy="1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ая соединительная линия 47"/>
            <p:cNvSpPr/>
            <p:nvPr/>
          </p:nvSpPr>
          <p:spPr>
            <a:xfrm flipH="1" flipV="1">
              <a:off x="2445840" y="2935080"/>
              <a:ext cx="4680" cy="2048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48"/>
            <p:cNvSpPr/>
            <p:nvPr/>
          </p:nvSpPr>
          <p:spPr>
            <a:xfrm flipH="1" flipV="1">
              <a:off x="6469200" y="2933640"/>
              <a:ext cx="1440" cy="2300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ая соединительная линия 65"/>
            <p:cNvSpPr/>
            <p:nvPr/>
          </p:nvSpPr>
          <p:spPr>
            <a:xfrm>
              <a:off x="4565520" y="2733840"/>
              <a:ext cx="0" cy="2080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Прямая соединительная линия 67"/>
          <p:cNvSpPr/>
          <p:nvPr/>
        </p:nvSpPr>
        <p:spPr>
          <a:xfrm>
            <a:off x="3546360" y="4662360"/>
            <a:ext cx="0" cy="1954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68"/>
          <p:cNvSpPr/>
          <p:nvPr/>
        </p:nvSpPr>
        <p:spPr>
          <a:xfrm>
            <a:off x="6662880" y="4879800"/>
            <a:ext cx="1440" cy="1954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69"/>
          <p:cNvSpPr/>
          <p:nvPr/>
        </p:nvSpPr>
        <p:spPr>
          <a:xfrm>
            <a:off x="2598840" y="4875120"/>
            <a:ext cx="0" cy="1954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7"/>
          <p:cNvSpPr/>
          <p:nvPr/>
        </p:nvSpPr>
        <p:spPr>
          <a:xfrm>
            <a:off x="1488960" y="1581120"/>
            <a:ext cx="6143760" cy="128592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ЕГО УЧТЕНО ПРИ ВСЕРОССИЙСКОЙ ПЕРЕПИ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СЕЛЕНИЯ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143 4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36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8"/>
          <p:cNvSpPr/>
          <p:nvPr/>
        </p:nvSpPr>
        <p:spPr>
          <a:xfrm>
            <a:off x="774720" y="3090960"/>
            <a:ext cx="3357720" cy="166356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АС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142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946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9"/>
          <p:cNvSpPr/>
          <p:nvPr/>
        </p:nvSpPr>
        <p:spPr>
          <a:xfrm>
            <a:off x="4807080" y="3090960"/>
            <a:ext cx="3908160" cy="171432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ЛИЦА,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РЕМЕННО НАХОДИВШИЕ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А ТЕРРИТ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ОССИЙСКОЙ ФЕДЕРАЦИИ, НО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СТОЯННО ПРОЖИВАЮЩИЕ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ЗА РУБЕЖ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48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0"/>
          <p:cNvSpPr/>
          <p:nvPr/>
        </p:nvSpPr>
        <p:spPr>
          <a:xfrm>
            <a:off x="642960" y="5019840"/>
            <a:ext cx="3357720" cy="152712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СТОЯННОЕ НАС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142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856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1"/>
          <p:cNvSpPr/>
          <p:nvPr/>
        </p:nvSpPr>
        <p:spPr>
          <a:xfrm>
            <a:off x="4500720" y="4948200"/>
            <a:ext cx="4357440" cy="178596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ГРАЖДАНЕ РОССИЙСКОЙ ФЕДЕРА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АХОДИВШИЕСЯ ЗА РУБЕЖОМ В СВЯЗИ С ДЛИТЕЛЬНОЙ СЛУЖЕБНОЙ КОМАНДИРОВКОЙ ПО ЛИНИИ ОРГАНОВ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ГОСУДАРСТВЕННОЙ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90,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 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2280" y="774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ЗАНЯТОЕ НАСЕЛЕНИЕ ЧАСТНЫХ ДОХОЗЯЙ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Скругленный прямоугольник 3"/>
          <p:cNvSpPr/>
          <p:nvPr/>
        </p:nvSpPr>
        <p:spPr>
          <a:xfrm>
            <a:off x="1071720" y="1357200"/>
            <a:ext cx="6929280" cy="107172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Лица в трудоспособном возра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c090"/>
                </a:solidFill>
                <a:latin typeface="Calibri"/>
              </a:rPr>
              <a:t>92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4"/>
          <p:cNvSpPr/>
          <p:nvPr/>
        </p:nvSpPr>
        <p:spPr>
          <a:xfrm>
            <a:off x="142920" y="2571840"/>
            <a:ext cx="4238640" cy="185724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ост  занятост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старших возра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(начиная с 5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5"/>
          <p:cNvSpPr/>
          <p:nvPr/>
        </p:nvSpPr>
        <p:spPr>
          <a:xfrm>
            <a:off x="4595760" y="2571840"/>
            <a:ext cx="4405320" cy="185724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окращение д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нятого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возрасте 15 – 19 л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(на 4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трелка вверх 6"/>
          <p:cNvSpPr/>
          <p:nvPr/>
        </p:nvSpPr>
        <p:spPr>
          <a:xfrm>
            <a:off x="285840" y="2894040"/>
            <a:ext cx="785880" cy="110664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7cb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кругленный прямоугольник 8"/>
          <p:cNvSpPr/>
          <p:nvPr/>
        </p:nvSpPr>
        <p:spPr>
          <a:xfrm>
            <a:off x="1214280" y="4572000"/>
            <a:ext cx="6858000" cy="207180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62 млн человек (94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население в возрасте 15 – 72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являются работающими по най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(из общего числа занятых в экономи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верх 9"/>
          <p:cNvSpPr/>
          <p:nvPr/>
        </p:nvSpPr>
        <p:spPr>
          <a:xfrm rot="10800000">
            <a:off x="4642920" y="2965320"/>
            <a:ext cx="785880" cy="110664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7cb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Диаграмма 1" descr=""/>
          <p:cNvPicPr/>
          <p:nvPr/>
        </p:nvPicPr>
        <p:blipFill>
          <a:blip r:embed="rId1"/>
          <a:stretch/>
        </p:blipFill>
        <p:spPr>
          <a:xfrm>
            <a:off x="1568520" y="2452680"/>
            <a:ext cx="6572160" cy="45036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0"/>
          <p:cNvSpPr/>
          <p:nvPr/>
        </p:nvSpPr>
        <p:spPr>
          <a:xfrm>
            <a:off x="214200" y="82224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ЦЕЛИ ПРИЕЗДА В РОССИЙСКУЮ ФЕДЕ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3"/>
          <p:cNvSpPr/>
          <p:nvPr/>
        </p:nvSpPr>
        <p:spPr>
          <a:xfrm>
            <a:off x="6716880" y="37861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 работу – 6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Прямая со стрелкой 5"/>
          <p:cNvCxnSpPr/>
          <p:nvPr/>
        </p:nvCxnSpPr>
        <p:spPr>
          <a:xfrm flipH="1">
            <a:off x="6211080" y="4248720"/>
            <a:ext cx="1500840" cy="57204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sp>
        <p:nvSpPr>
          <p:cNvPr id="434" name="TextBox 6"/>
          <p:cNvSpPr/>
          <p:nvPr/>
        </p:nvSpPr>
        <p:spPr>
          <a:xfrm>
            <a:off x="425520" y="253512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Другие и не указавшие цель приезда –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136440" y="3672000"/>
            <a:ext cx="27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лужебная командировка – 1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8"/>
          <p:cNvSpPr/>
          <p:nvPr/>
        </p:nvSpPr>
        <p:spPr>
          <a:xfrm>
            <a:off x="-88920" y="507996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 отдых – 5,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9"/>
          <p:cNvSpPr/>
          <p:nvPr/>
        </p:nvSpPr>
        <p:spPr>
          <a:xfrm>
            <a:off x="482760" y="602784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 учебу – 6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Прямая со стрелкой 10"/>
          <p:cNvCxnSpPr>
            <a:stCxn id="434" idx="2"/>
          </p:cNvCxnSpPr>
          <p:nvPr/>
        </p:nvCxnSpPr>
        <p:spPr>
          <a:xfrm>
            <a:off x="1996920" y="3180960"/>
            <a:ext cx="1501200" cy="28332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cxnSp>
        <p:nvCxnSpPr>
          <p:cNvPr id="439" name="Прямая со стрелкой 12"/>
          <p:cNvCxnSpPr/>
          <p:nvPr/>
        </p:nvCxnSpPr>
        <p:spPr>
          <a:xfrm>
            <a:off x="1819440" y="4308120"/>
            <a:ext cx="1249920" cy="14472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cxnSp>
        <p:nvCxnSpPr>
          <p:cNvPr id="440" name="Прямая со стрелкой 14"/>
          <p:cNvCxnSpPr/>
          <p:nvPr/>
        </p:nvCxnSpPr>
        <p:spPr>
          <a:xfrm flipV="1">
            <a:off x="2282400" y="5034960"/>
            <a:ext cx="715320" cy="14364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cxnSp>
        <p:nvCxnSpPr>
          <p:cNvPr id="441" name="Прямая со стрелкой 19"/>
          <p:cNvCxnSpPr/>
          <p:nvPr/>
        </p:nvCxnSpPr>
        <p:spPr>
          <a:xfrm flipV="1">
            <a:off x="2425680" y="5678280"/>
            <a:ext cx="714960" cy="35784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pic>
        <p:nvPicPr>
          <p:cNvPr id="442" name="Схема 26" descr=""/>
          <p:cNvPicPr/>
          <p:nvPr/>
        </p:nvPicPr>
        <p:blipFill>
          <a:blip r:embed="rId2"/>
          <a:stretch/>
        </p:blipFill>
        <p:spPr>
          <a:xfrm>
            <a:off x="384120" y="1158840"/>
            <a:ext cx="83818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3"/>
          <p:cNvSpPr/>
          <p:nvPr/>
        </p:nvSpPr>
        <p:spPr>
          <a:xfrm>
            <a:off x="214200" y="257184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7"/>
          <p:cNvSpPr/>
          <p:nvPr/>
        </p:nvSpPr>
        <p:spPr>
          <a:xfrm>
            <a:off x="-54000" y="6405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f2f2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57240" y="100656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ИЗМЕНЕНИЕ ЧИСЛЕННОСТИ ПОСТОЯНН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(по данным переписей), 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Диаграмма 5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8143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57240" y="7858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СООТНОШЕНИЕ ГОРОДСКОГО И СЕЛЬСКОГО НАСЕЛЕНИЯ РОССИЙСКОЙ ФЕДЕРАЦИИ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Диаграмма 9" descr=""/>
          <p:cNvPicPr/>
          <p:nvPr/>
        </p:nvPicPr>
        <p:blipFill>
          <a:blip r:embed="rId1"/>
          <a:stretch/>
        </p:blipFill>
        <p:spPr>
          <a:xfrm>
            <a:off x="1500120" y="1285920"/>
            <a:ext cx="7500960" cy="5572080"/>
          </a:xfrm>
          <a:prstGeom prst="rect">
            <a:avLst/>
          </a:prstGeom>
          <a:ln w="0">
            <a:noFill/>
          </a:ln>
        </p:spPr>
      </p:pic>
      <p:sp>
        <p:nvSpPr>
          <p:cNvPr id="71" name="Правая фигурная скобка 11"/>
          <p:cNvSpPr/>
          <p:nvPr/>
        </p:nvSpPr>
        <p:spPr>
          <a:xfrm>
            <a:off x="8175600" y="1824120"/>
            <a:ext cx="466920" cy="4444920"/>
          </a:xfrm>
          <a:custGeom>
            <a:avLst/>
            <a:gdLst>
              <a:gd name="textAreaLeft" fmla="*/ 0 w 466920"/>
              <a:gd name="textAreaRight" fmla="*/ 168480 w 466920"/>
              <a:gd name="textAreaTop" fmla="*/ 11880 h 4444920"/>
              <a:gd name="textAreaBottom" fmla="*/ 4433040 h 444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"/>
                  <a:pt x="10800" y="189"/>
                </a:cubicBezTo>
                <a:lnTo>
                  <a:pt x="10800" y="10655"/>
                </a:lnTo>
                <a:cubicBezTo>
                  <a:pt x="10800" y="10750"/>
                  <a:pt x="16200" y="10844"/>
                  <a:pt x="21600" y="10844"/>
                </a:cubicBezTo>
                <a:cubicBezTo>
                  <a:pt x="16200" y="10844"/>
                  <a:pt x="10800" y="10939"/>
                  <a:pt x="10800" y="11033"/>
                </a:cubicBezTo>
                <a:lnTo>
                  <a:pt x="10800" y="21411"/>
                </a:lnTo>
                <a:cubicBezTo>
                  <a:pt x="10800" y="2150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7994520" y="373212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Группа 14"/>
          <p:cNvGrpSpPr/>
          <p:nvPr/>
        </p:nvGrpSpPr>
        <p:grpSpPr>
          <a:xfrm>
            <a:off x="374760" y="2274840"/>
            <a:ext cx="1509480" cy="903240"/>
            <a:chOff x="374760" y="2274840"/>
            <a:chExt cx="1509480" cy="903240"/>
          </a:xfrm>
        </p:grpSpPr>
        <p:grpSp>
          <p:nvGrpSpPr>
            <p:cNvPr id="74" name="Стрелка вправо 9"/>
            <p:cNvGrpSpPr/>
            <p:nvPr/>
          </p:nvGrpSpPr>
          <p:grpSpPr>
            <a:xfrm>
              <a:off x="374760" y="2274840"/>
              <a:ext cx="1509480" cy="903240"/>
              <a:chOff x="374760" y="2274840"/>
              <a:chExt cx="1509480" cy="903240"/>
            </a:xfrm>
          </p:grpSpPr>
          <p:pic>
            <p:nvPicPr>
              <p:cNvPr id="75" name="Стрелка вправо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74760" y="2274840"/>
                <a:ext cx="1509480" cy="9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393840" y="2516040"/>
                <a:ext cx="1247400" cy="4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Box 8"/>
            <p:cNvSpPr/>
            <p:nvPr/>
          </p:nvSpPr>
          <p:spPr>
            <a:xfrm>
              <a:off x="389160" y="2480400"/>
              <a:ext cx="141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7434"/>
                  </a:solidFill>
                  <a:latin typeface="Arial"/>
                </a:rPr>
                <a:t>Сельское насел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Группа 8"/>
          <p:cNvGrpSpPr/>
          <p:nvPr/>
        </p:nvGrpSpPr>
        <p:grpSpPr>
          <a:xfrm>
            <a:off x="357120" y="4572000"/>
            <a:ext cx="1484280" cy="879480"/>
            <a:chOff x="357120" y="4572000"/>
            <a:chExt cx="1484280" cy="879480"/>
          </a:xfrm>
        </p:grpSpPr>
        <p:grpSp>
          <p:nvGrpSpPr>
            <p:cNvPr id="79" name="Стрелка вправо 16"/>
            <p:cNvGrpSpPr/>
            <p:nvPr/>
          </p:nvGrpSpPr>
          <p:grpSpPr>
            <a:xfrm>
              <a:off x="357120" y="4572000"/>
              <a:ext cx="1484280" cy="879480"/>
              <a:chOff x="357120" y="4572000"/>
              <a:chExt cx="1484280" cy="879480"/>
            </a:xfrm>
          </p:grpSpPr>
          <p:pic>
            <p:nvPicPr>
              <p:cNvPr id="80" name="Стрелка вправо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57120" y="4572000"/>
                <a:ext cx="1484280" cy="87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77280" y="4806360"/>
                <a:ext cx="12258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7"/>
            <p:cNvSpPr/>
            <p:nvPr/>
          </p:nvSpPr>
          <p:spPr>
            <a:xfrm>
              <a:off x="366480" y="4767840"/>
              <a:ext cx="142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2ac"/>
                  </a:solidFill>
                  <a:latin typeface="Arial"/>
                </a:rPr>
                <a:t>Городское насе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57240" y="9334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ЧИСЛЕННОСТЬ НАСЕЛЕНИЯ ПО ФЕДЕРАЛЬНЫМ ОКРУГАМ,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Диаграмма 12" descr=""/>
          <p:cNvPicPr/>
          <p:nvPr/>
        </p:nvPicPr>
        <p:blipFill>
          <a:blip r:embed="rId1"/>
          <a:stretch/>
        </p:blipFill>
        <p:spPr>
          <a:xfrm>
            <a:off x="38160" y="1719360"/>
            <a:ext cx="91058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57240" y="804960"/>
            <a:ext cx="90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ИЗМЕНЕНИЕ ЧИСЛЕННОСТИ НАСЕЛЕНИЯ В СУБЪЕКТАХ РОССИЙСКОЙ ФЕДЕРАЦИИ МЕЖДУ ПЕРЕПИСЯМИ НА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2002 г. и 201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248"/>
          <p:cNvGrpSpPr/>
          <p:nvPr/>
        </p:nvGrpSpPr>
        <p:grpSpPr>
          <a:xfrm>
            <a:off x="-360" y="1500120"/>
            <a:ext cx="9056880" cy="5224680"/>
            <a:chOff x="-360" y="1500120"/>
            <a:chExt cx="9056880" cy="5224680"/>
          </a:xfrm>
        </p:grpSpPr>
        <p:grpSp>
          <p:nvGrpSpPr>
            <p:cNvPr id="87" name="Группа 248"/>
            <p:cNvGrpSpPr/>
            <p:nvPr/>
          </p:nvGrpSpPr>
          <p:grpSpPr>
            <a:xfrm>
              <a:off x="-360" y="1500120"/>
              <a:ext cx="9056880" cy="5224680"/>
              <a:chOff x="-360" y="1500120"/>
              <a:chExt cx="9056880" cy="5224680"/>
            </a:xfrm>
          </p:grpSpPr>
          <p:sp>
            <p:nvSpPr>
              <p:cNvPr id="88" name="Freeform 613"/>
              <p:cNvSpPr/>
              <p:nvPr/>
            </p:nvSpPr>
            <p:spPr>
              <a:xfrm>
                <a:off x="2474640" y="4557960"/>
                <a:ext cx="195120" cy="3236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40" h="432">
                    <a:moveTo>
                      <a:pt x="0" y="35"/>
                    </a:moveTo>
                    <a:lnTo>
                      <a:pt x="37" y="0"/>
                    </a:lnTo>
                    <a:lnTo>
                      <a:pt x="63" y="21"/>
                    </a:lnTo>
                    <a:lnTo>
                      <a:pt x="77" y="6"/>
                    </a:lnTo>
                    <a:lnTo>
                      <a:pt x="96" y="25"/>
                    </a:lnTo>
                    <a:lnTo>
                      <a:pt x="114" y="9"/>
                    </a:lnTo>
                    <a:lnTo>
                      <a:pt x="141" y="33"/>
                    </a:lnTo>
                    <a:lnTo>
                      <a:pt x="130" y="54"/>
                    </a:lnTo>
                    <a:lnTo>
                      <a:pt x="157" y="78"/>
                    </a:lnTo>
                    <a:lnTo>
                      <a:pt x="172" y="63"/>
                    </a:lnTo>
                    <a:lnTo>
                      <a:pt x="240" y="112"/>
                    </a:lnTo>
                    <a:lnTo>
                      <a:pt x="219" y="168"/>
                    </a:lnTo>
                    <a:lnTo>
                      <a:pt x="218" y="199"/>
                    </a:lnTo>
                    <a:lnTo>
                      <a:pt x="209" y="248"/>
                    </a:lnTo>
                    <a:lnTo>
                      <a:pt x="179" y="292"/>
                    </a:lnTo>
                    <a:lnTo>
                      <a:pt x="176" y="330"/>
                    </a:lnTo>
                    <a:lnTo>
                      <a:pt x="179" y="358"/>
                    </a:lnTo>
                    <a:lnTo>
                      <a:pt x="209" y="374"/>
                    </a:lnTo>
                    <a:lnTo>
                      <a:pt x="213" y="417"/>
                    </a:lnTo>
                    <a:lnTo>
                      <a:pt x="185" y="418"/>
                    </a:lnTo>
                    <a:lnTo>
                      <a:pt x="141" y="422"/>
                    </a:lnTo>
                    <a:lnTo>
                      <a:pt x="101" y="412"/>
                    </a:lnTo>
                    <a:lnTo>
                      <a:pt x="79" y="432"/>
                    </a:lnTo>
                    <a:lnTo>
                      <a:pt x="47" y="412"/>
                    </a:lnTo>
                    <a:lnTo>
                      <a:pt x="17" y="383"/>
                    </a:lnTo>
                    <a:lnTo>
                      <a:pt x="18" y="357"/>
                    </a:lnTo>
                    <a:lnTo>
                      <a:pt x="25" y="336"/>
                    </a:lnTo>
                    <a:lnTo>
                      <a:pt x="32" y="339"/>
                    </a:lnTo>
                    <a:lnTo>
                      <a:pt x="39" y="323"/>
                    </a:lnTo>
                    <a:lnTo>
                      <a:pt x="34" y="313"/>
                    </a:lnTo>
                    <a:lnTo>
                      <a:pt x="27" y="318"/>
                    </a:lnTo>
                    <a:lnTo>
                      <a:pt x="23" y="312"/>
                    </a:lnTo>
                    <a:lnTo>
                      <a:pt x="9" y="307"/>
                    </a:lnTo>
                    <a:lnTo>
                      <a:pt x="1" y="276"/>
                    </a:lnTo>
                    <a:lnTo>
                      <a:pt x="4" y="268"/>
                    </a:lnTo>
                    <a:lnTo>
                      <a:pt x="32" y="250"/>
                    </a:lnTo>
                    <a:lnTo>
                      <a:pt x="53" y="220"/>
                    </a:lnTo>
                    <a:lnTo>
                      <a:pt x="60" y="237"/>
                    </a:lnTo>
                    <a:lnTo>
                      <a:pt x="75" y="220"/>
                    </a:lnTo>
                    <a:lnTo>
                      <a:pt x="95" y="177"/>
                    </a:lnTo>
                    <a:lnTo>
                      <a:pt x="89" y="149"/>
                    </a:lnTo>
                    <a:lnTo>
                      <a:pt x="77" y="158"/>
                    </a:lnTo>
                    <a:lnTo>
                      <a:pt x="14" y="117"/>
                    </a:lnTo>
                    <a:lnTo>
                      <a:pt x="12" y="107"/>
                    </a:lnTo>
                    <a:lnTo>
                      <a:pt x="27" y="96"/>
                    </a:lnTo>
                    <a:lnTo>
                      <a:pt x="26" y="85"/>
                    </a:lnTo>
                    <a:lnTo>
                      <a:pt x="29" y="80"/>
                    </a:lnTo>
                    <a:lnTo>
                      <a:pt x="18" y="68"/>
                    </a:lnTo>
                    <a:lnTo>
                      <a:pt x="21" y="6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dea178"/>
                </a:solidFill>
              </a:ln>
              <a:effectLst>
                <a:outerShdw dist="50760" dir="5400000" blurRad="0" rotWithShape="0">
                  <a:srgbClr val="dea17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504"/>
              <p:cNvSpPr/>
              <p:nvPr/>
            </p:nvSpPr>
            <p:spPr>
              <a:xfrm>
                <a:off x="8512200" y="3772080"/>
                <a:ext cx="36360" cy="1076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49" h="145">
                    <a:moveTo>
                      <a:pt x="7" y="6"/>
                    </a:moveTo>
                    <a:lnTo>
                      <a:pt x="20" y="0"/>
                    </a:lnTo>
                    <a:lnTo>
                      <a:pt x="49" y="27"/>
                    </a:lnTo>
                    <a:lnTo>
                      <a:pt x="36" y="71"/>
                    </a:lnTo>
                    <a:lnTo>
                      <a:pt x="30" y="145"/>
                    </a:lnTo>
                    <a:lnTo>
                      <a:pt x="0" y="6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Freeform 503"/>
              <p:cNvGrpSpPr/>
              <p:nvPr/>
            </p:nvGrpSpPr>
            <p:grpSpPr>
              <a:xfrm>
                <a:off x="8369640" y="3986640"/>
                <a:ext cx="457200" cy="877680"/>
                <a:chOff x="8369640" y="3986640"/>
                <a:chExt cx="457200" cy="877680"/>
              </a:xfrm>
            </p:grpSpPr>
            <p:pic>
              <p:nvPicPr>
                <p:cNvPr id="91" name="Freeform 50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69640" y="3986640"/>
                  <a:ext cx="457200" cy="87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>
                  <a:off x="8389800" y="4009680"/>
                  <a:ext cx="414720" cy="83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Freeform 505"/>
              <p:cNvSpPr/>
              <p:nvPr/>
            </p:nvSpPr>
            <p:spPr>
              <a:xfrm>
                <a:off x="8910720" y="4019760"/>
                <a:ext cx="71280" cy="20520"/>
              </a:xfrm>
              <a:custGeom>
                <a:avLst/>
                <a:gdLst>
                  <a:gd name="textAreaLeft" fmla="*/ 0 w 71280"/>
                  <a:gd name="textAreaRight" fmla="*/ 71280 w 712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7" h="26">
                    <a:moveTo>
                      <a:pt x="13" y="0"/>
                    </a:moveTo>
                    <a:lnTo>
                      <a:pt x="45" y="12"/>
                    </a:lnTo>
                    <a:lnTo>
                      <a:pt x="74" y="7"/>
                    </a:lnTo>
                    <a:lnTo>
                      <a:pt x="97" y="26"/>
                    </a:lnTo>
                    <a:lnTo>
                      <a:pt x="67" y="21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06"/>
              <p:cNvSpPr/>
              <p:nvPr/>
            </p:nvSpPr>
            <p:spPr>
              <a:xfrm>
                <a:off x="9009000" y="3976560"/>
                <a:ext cx="47520" cy="10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2" h="13">
                    <a:moveTo>
                      <a:pt x="28" y="2"/>
                    </a:moveTo>
                    <a:lnTo>
                      <a:pt x="62" y="0"/>
                    </a:lnTo>
                    <a:lnTo>
                      <a:pt x="0" y="13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7"/>
              <p:cNvSpPr/>
              <p:nvPr/>
            </p:nvSpPr>
            <p:spPr>
              <a:xfrm>
                <a:off x="7547040" y="5831280"/>
                <a:ext cx="433080" cy="89352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893520"/>
                  <a:gd name="textAreaBottom" fmla="*/ 893880 h 893520"/>
                </a:gdLst>
                <a:ahLst/>
                <a:rect l="textAreaLeft" t="textAreaTop" r="textAreaRight" b="textAreaBottom"/>
                <a:pathLst>
                  <a:path w="570" h="1188">
                    <a:moveTo>
                      <a:pt x="171" y="441"/>
                    </a:moveTo>
                    <a:lnTo>
                      <a:pt x="211" y="409"/>
                    </a:lnTo>
                    <a:lnTo>
                      <a:pt x="194" y="375"/>
                    </a:lnTo>
                    <a:lnTo>
                      <a:pt x="199" y="342"/>
                    </a:lnTo>
                    <a:lnTo>
                      <a:pt x="232" y="324"/>
                    </a:lnTo>
                    <a:lnTo>
                      <a:pt x="258" y="315"/>
                    </a:lnTo>
                    <a:lnTo>
                      <a:pt x="277" y="343"/>
                    </a:lnTo>
                    <a:lnTo>
                      <a:pt x="303" y="319"/>
                    </a:lnTo>
                    <a:lnTo>
                      <a:pt x="336" y="331"/>
                    </a:lnTo>
                    <a:lnTo>
                      <a:pt x="369" y="320"/>
                    </a:lnTo>
                    <a:lnTo>
                      <a:pt x="412" y="262"/>
                    </a:lnTo>
                    <a:lnTo>
                      <a:pt x="401" y="213"/>
                    </a:lnTo>
                    <a:lnTo>
                      <a:pt x="431" y="212"/>
                    </a:lnTo>
                    <a:lnTo>
                      <a:pt x="474" y="137"/>
                    </a:lnTo>
                    <a:lnTo>
                      <a:pt x="442" y="117"/>
                    </a:lnTo>
                    <a:lnTo>
                      <a:pt x="396" y="131"/>
                    </a:lnTo>
                    <a:lnTo>
                      <a:pt x="368" y="102"/>
                    </a:lnTo>
                    <a:lnTo>
                      <a:pt x="374" y="67"/>
                    </a:lnTo>
                    <a:lnTo>
                      <a:pt x="405" y="56"/>
                    </a:lnTo>
                    <a:lnTo>
                      <a:pt x="424" y="0"/>
                    </a:lnTo>
                    <a:lnTo>
                      <a:pt x="481" y="25"/>
                    </a:lnTo>
                    <a:lnTo>
                      <a:pt x="503" y="44"/>
                    </a:lnTo>
                    <a:lnTo>
                      <a:pt x="511" y="72"/>
                    </a:lnTo>
                    <a:lnTo>
                      <a:pt x="507" y="120"/>
                    </a:lnTo>
                    <a:lnTo>
                      <a:pt x="570" y="105"/>
                    </a:lnTo>
                    <a:lnTo>
                      <a:pt x="555" y="173"/>
                    </a:lnTo>
                    <a:lnTo>
                      <a:pt x="562" y="287"/>
                    </a:lnTo>
                    <a:lnTo>
                      <a:pt x="552" y="401"/>
                    </a:lnTo>
                    <a:lnTo>
                      <a:pt x="516" y="526"/>
                    </a:lnTo>
                    <a:lnTo>
                      <a:pt x="512" y="574"/>
                    </a:lnTo>
                    <a:lnTo>
                      <a:pt x="509" y="618"/>
                    </a:lnTo>
                    <a:lnTo>
                      <a:pt x="487" y="657"/>
                    </a:lnTo>
                    <a:lnTo>
                      <a:pt x="487" y="705"/>
                    </a:lnTo>
                    <a:lnTo>
                      <a:pt x="483" y="769"/>
                    </a:lnTo>
                    <a:lnTo>
                      <a:pt x="479" y="799"/>
                    </a:lnTo>
                    <a:lnTo>
                      <a:pt x="455" y="842"/>
                    </a:lnTo>
                    <a:lnTo>
                      <a:pt x="419" y="907"/>
                    </a:lnTo>
                    <a:lnTo>
                      <a:pt x="401" y="956"/>
                    </a:lnTo>
                    <a:lnTo>
                      <a:pt x="339" y="1013"/>
                    </a:lnTo>
                    <a:lnTo>
                      <a:pt x="314" y="996"/>
                    </a:lnTo>
                    <a:lnTo>
                      <a:pt x="285" y="998"/>
                    </a:lnTo>
                    <a:lnTo>
                      <a:pt x="253" y="1002"/>
                    </a:lnTo>
                    <a:lnTo>
                      <a:pt x="229" y="965"/>
                    </a:lnTo>
                    <a:lnTo>
                      <a:pt x="209" y="1014"/>
                    </a:lnTo>
                    <a:lnTo>
                      <a:pt x="202" y="972"/>
                    </a:lnTo>
                    <a:lnTo>
                      <a:pt x="172" y="990"/>
                    </a:lnTo>
                    <a:lnTo>
                      <a:pt x="159" y="1110"/>
                    </a:lnTo>
                    <a:lnTo>
                      <a:pt x="129" y="1123"/>
                    </a:lnTo>
                    <a:lnTo>
                      <a:pt x="100" y="1122"/>
                    </a:lnTo>
                    <a:lnTo>
                      <a:pt x="127" y="1142"/>
                    </a:lnTo>
                    <a:lnTo>
                      <a:pt x="122" y="1188"/>
                    </a:lnTo>
                    <a:lnTo>
                      <a:pt x="102" y="1143"/>
                    </a:lnTo>
                    <a:lnTo>
                      <a:pt x="76" y="1124"/>
                    </a:lnTo>
                    <a:lnTo>
                      <a:pt x="131" y="1070"/>
                    </a:lnTo>
                    <a:lnTo>
                      <a:pt x="126" y="1037"/>
                    </a:lnTo>
                    <a:lnTo>
                      <a:pt x="120" y="1002"/>
                    </a:lnTo>
                    <a:lnTo>
                      <a:pt x="101" y="977"/>
                    </a:lnTo>
                    <a:lnTo>
                      <a:pt x="75" y="899"/>
                    </a:lnTo>
                    <a:lnTo>
                      <a:pt x="29" y="833"/>
                    </a:lnTo>
                    <a:lnTo>
                      <a:pt x="0" y="813"/>
                    </a:lnTo>
                    <a:lnTo>
                      <a:pt x="47" y="764"/>
                    </a:lnTo>
                    <a:lnTo>
                      <a:pt x="53" y="721"/>
                    </a:lnTo>
                    <a:lnTo>
                      <a:pt x="170" y="712"/>
                    </a:lnTo>
                    <a:lnTo>
                      <a:pt x="186" y="593"/>
                    </a:lnTo>
                    <a:lnTo>
                      <a:pt x="177" y="519"/>
                    </a:lnTo>
                    <a:lnTo>
                      <a:pt x="171" y="441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08"/>
              <p:cNvSpPr/>
              <p:nvPr/>
            </p:nvSpPr>
            <p:spPr>
              <a:xfrm>
                <a:off x="6994440" y="4199040"/>
                <a:ext cx="987120" cy="1960560"/>
              </a:xfrm>
              <a:custGeom>
                <a:avLst/>
                <a:gdLst>
                  <a:gd name="textAreaLeft" fmla="*/ 0 w 987120"/>
                  <a:gd name="textAreaRight" fmla="*/ 987120 w 987120"/>
                  <a:gd name="textAreaTop" fmla="*/ 0 h 1960560"/>
                  <a:gd name="textAreaBottom" fmla="*/ 1960920 h 1960560"/>
                </a:gdLst>
                <a:ahLst/>
                <a:rect l="textAreaLeft" t="textAreaTop" r="textAreaRight" b="textAreaBottom"/>
                <a:pathLst>
                  <a:path w="1310" h="2606">
                    <a:moveTo>
                      <a:pt x="593" y="44"/>
                    </a:moveTo>
                    <a:lnTo>
                      <a:pt x="625" y="44"/>
                    </a:lnTo>
                    <a:lnTo>
                      <a:pt x="652" y="21"/>
                    </a:lnTo>
                    <a:lnTo>
                      <a:pt x="672" y="0"/>
                    </a:lnTo>
                    <a:lnTo>
                      <a:pt x="704" y="4"/>
                    </a:lnTo>
                    <a:lnTo>
                      <a:pt x="741" y="33"/>
                    </a:lnTo>
                    <a:lnTo>
                      <a:pt x="770" y="51"/>
                    </a:lnTo>
                    <a:lnTo>
                      <a:pt x="795" y="87"/>
                    </a:lnTo>
                    <a:lnTo>
                      <a:pt x="788" y="123"/>
                    </a:lnTo>
                    <a:lnTo>
                      <a:pt x="809" y="166"/>
                    </a:lnTo>
                    <a:lnTo>
                      <a:pt x="767" y="205"/>
                    </a:lnTo>
                    <a:lnTo>
                      <a:pt x="790" y="248"/>
                    </a:lnTo>
                    <a:lnTo>
                      <a:pt x="837" y="231"/>
                    </a:lnTo>
                    <a:lnTo>
                      <a:pt x="866" y="234"/>
                    </a:lnTo>
                    <a:lnTo>
                      <a:pt x="907" y="245"/>
                    </a:lnTo>
                    <a:lnTo>
                      <a:pt x="938" y="256"/>
                    </a:lnTo>
                    <a:lnTo>
                      <a:pt x="957" y="316"/>
                    </a:lnTo>
                    <a:lnTo>
                      <a:pt x="926" y="321"/>
                    </a:lnTo>
                    <a:lnTo>
                      <a:pt x="939" y="362"/>
                    </a:lnTo>
                    <a:lnTo>
                      <a:pt x="923" y="389"/>
                    </a:lnTo>
                    <a:lnTo>
                      <a:pt x="906" y="358"/>
                    </a:lnTo>
                    <a:lnTo>
                      <a:pt x="865" y="373"/>
                    </a:lnTo>
                    <a:lnTo>
                      <a:pt x="830" y="397"/>
                    </a:lnTo>
                    <a:lnTo>
                      <a:pt x="800" y="423"/>
                    </a:lnTo>
                    <a:lnTo>
                      <a:pt x="765" y="438"/>
                    </a:lnTo>
                    <a:lnTo>
                      <a:pt x="744" y="471"/>
                    </a:lnTo>
                    <a:lnTo>
                      <a:pt x="718" y="482"/>
                    </a:lnTo>
                    <a:lnTo>
                      <a:pt x="696" y="510"/>
                    </a:lnTo>
                    <a:lnTo>
                      <a:pt x="673" y="570"/>
                    </a:lnTo>
                    <a:lnTo>
                      <a:pt x="677" y="618"/>
                    </a:lnTo>
                    <a:lnTo>
                      <a:pt x="666" y="673"/>
                    </a:lnTo>
                    <a:lnTo>
                      <a:pt x="647" y="698"/>
                    </a:lnTo>
                    <a:lnTo>
                      <a:pt x="638" y="727"/>
                    </a:lnTo>
                    <a:lnTo>
                      <a:pt x="656" y="818"/>
                    </a:lnTo>
                    <a:lnTo>
                      <a:pt x="632" y="850"/>
                    </a:lnTo>
                    <a:lnTo>
                      <a:pt x="627" y="879"/>
                    </a:lnTo>
                    <a:lnTo>
                      <a:pt x="624" y="915"/>
                    </a:lnTo>
                    <a:lnTo>
                      <a:pt x="605" y="936"/>
                    </a:lnTo>
                    <a:lnTo>
                      <a:pt x="609" y="971"/>
                    </a:lnTo>
                    <a:lnTo>
                      <a:pt x="589" y="995"/>
                    </a:lnTo>
                    <a:lnTo>
                      <a:pt x="591" y="1031"/>
                    </a:lnTo>
                    <a:lnTo>
                      <a:pt x="581" y="1066"/>
                    </a:lnTo>
                    <a:lnTo>
                      <a:pt x="580" y="1149"/>
                    </a:lnTo>
                    <a:lnTo>
                      <a:pt x="571" y="1186"/>
                    </a:lnTo>
                    <a:lnTo>
                      <a:pt x="548" y="1251"/>
                    </a:lnTo>
                    <a:lnTo>
                      <a:pt x="528" y="1277"/>
                    </a:lnTo>
                    <a:lnTo>
                      <a:pt x="524" y="1321"/>
                    </a:lnTo>
                    <a:lnTo>
                      <a:pt x="514" y="1349"/>
                    </a:lnTo>
                    <a:lnTo>
                      <a:pt x="488" y="1376"/>
                    </a:lnTo>
                    <a:lnTo>
                      <a:pt x="478" y="1406"/>
                    </a:lnTo>
                    <a:lnTo>
                      <a:pt x="495" y="1441"/>
                    </a:lnTo>
                    <a:lnTo>
                      <a:pt x="529" y="1433"/>
                    </a:lnTo>
                    <a:lnTo>
                      <a:pt x="598" y="1408"/>
                    </a:lnTo>
                    <a:lnTo>
                      <a:pt x="626" y="1394"/>
                    </a:lnTo>
                    <a:lnTo>
                      <a:pt x="646" y="1447"/>
                    </a:lnTo>
                    <a:lnTo>
                      <a:pt x="657" y="1494"/>
                    </a:lnTo>
                    <a:lnTo>
                      <a:pt x="687" y="1490"/>
                    </a:lnTo>
                    <a:lnTo>
                      <a:pt x="699" y="1457"/>
                    </a:lnTo>
                    <a:lnTo>
                      <a:pt x="687" y="1408"/>
                    </a:lnTo>
                    <a:lnTo>
                      <a:pt x="705" y="1440"/>
                    </a:lnTo>
                    <a:lnTo>
                      <a:pt x="745" y="1439"/>
                    </a:lnTo>
                    <a:lnTo>
                      <a:pt x="739" y="1489"/>
                    </a:lnTo>
                    <a:lnTo>
                      <a:pt x="721" y="1515"/>
                    </a:lnTo>
                    <a:lnTo>
                      <a:pt x="772" y="1495"/>
                    </a:lnTo>
                    <a:lnTo>
                      <a:pt x="793" y="1453"/>
                    </a:lnTo>
                    <a:lnTo>
                      <a:pt x="800" y="1399"/>
                    </a:lnTo>
                    <a:lnTo>
                      <a:pt x="810" y="1442"/>
                    </a:lnTo>
                    <a:lnTo>
                      <a:pt x="803" y="1472"/>
                    </a:lnTo>
                    <a:lnTo>
                      <a:pt x="828" y="1444"/>
                    </a:lnTo>
                    <a:lnTo>
                      <a:pt x="815" y="1404"/>
                    </a:lnTo>
                    <a:lnTo>
                      <a:pt x="794" y="1366"/>
                    </a:lnTo>
                    <a:lnTo>
                      <a:pt x="821" y="1348"/>
                    </a:lnTo>
                    <a:lnTo>
                      <a:pt x="852" y="1338"/>
                    </a:lnTo>
                    <a:lnTo>
                      <a:pt x="867" y="1309"/>
                    </a:lnTo>
                    <a:lnTo>
                      <a:pt x="893" y="1320"/>
                    </a:lnTo>
                    <a:lnTo>
                      <a:pt x="934" y="1329"/>
                    </a:lnTo>
                    <a:lnTo>
                      <a:pt x="1016" y="1363"/>
                    </a:lnTo>
                    <a:lnTo>
                      <a:pt x="1047" y="1372"/>
                    </a:lnTo>
                    <a:lnTo>
                      <a:pt x="1076" y="1379"/>
                    </a:lnTo>
                    <a:lnTo>
                      <a:pt x="1070" y="1415"/>
                    </a:lnTo>
                    <a:lnTo>
                      <a:pt x="1031" y="1415"/>
                    </a:lnTo>
                    <a:lnTo>
                      <a:pt x="1087" y="1433"/>
                    </a:lnTo>
                    <a:lnTo>
                      <a:pt x="1108" y="1467"/>
                    </a:lnTo>
                    <a:lnTo>
                      <a:pt x="1112" y="1496"/>
                    </a:lnTo>
                    <a:lnTo>
                      <a:pt x="1145" y="1507"/>
                    </a:lnTo>
                    <a:lnTo>
                      <a:pt x="1156" y="1539"/>
                    </a:lnTo>
                    <a:lnTo>
                      <a:pt x="1156" y="1574"/>
                    </a:lnTo>
                    <a:lnTo>
                      <a:pt x="1148" y="1614"/>
                    </a:lnTo>
                    <a:lnTo>
                      <a:pt x="1158" y="1645"/>
                    </a:lnTo>
                    <a:lnTo>
                      <a:pt x="1176" y="1693"/>
                    </a:lnTo>
                    <a:lnTo>
                      <a:pt x="1176" y="1729"/>
                    </a:lnTo>
                    <a:lnTo>
                      <a:pt x="1192" y="1764"/>
                    </a:lnTo>
                    <a:lnTo>
                      <a:pt x="1214" y="1797"/>
                    </a:lnTo>
                    <a:lnTo>
                      <a:pt x="1234" y="1832"/>
                    </a:lnTo>
                    <a:lnTo>
                      <a:pt x="1245" y="1878"/>
                    </a:lnTo>
                    <a:lnTo>
                      <a:pt x="1269" y="1897"/>
                    </a:lnTo>
                    <a:lnTo>
                      <a:pt x="1282" y="1935"/>
                    </a:lnTo>
                    <a:lnTo>
                      <a:pt x="1288" y="1966"/>
                    </a:lnTo>
                    <a:lnTo>
                      <a:pt x="1295" y="1997"/>
                    </a:lnTo>
                    <a:lnTo>
                      <a:pt x="1310" y="2047"/>
                    </a:lnTo>
                    <a:lnTo>
                      <a:pt x="1305" y="2151"/>
                    </a:lnTo>
                    <a:lnTo>
                      <a:pt x="1295" y="2182"/>
                    </a:lnTo>
                    <a:lnTo>
                      <a:pt x="1299" y="2214"/>
                    </a:lnTo>
                    <a:lnTo>
                      <a:pt x="1304" y="2270"/>
                    </a:lnTo>
                    <a:lnTo>
                      <a:pt x="1241" y="2285"/>
                    </a:lnTo>
                    <a:lnTo>
                      <a:pt x="1245" y="2237"/>
                    </a:lnTo>
                    <a:lnTo>
                      <a:pt x="1237" y="2209"/>
                    </a:lnTo>
                    <a:lnTo>
                      <a:pt x="1215" y="2190"/>
                    </a:lnTo>
                    <a:lnTo>
                      <a:pt x="1158" y="2165"/>
                    </a:lnTo>
                    <a:lnTo>
                      <a:pt x="1139" y="2221"/>
                    </a:lnTo>
                    <a:lnTo>
                      <a:pt x="1108" y="2232"/>
                    </a:lnTo>
                    <a:lnTo>
                      <a:pt x="1102" y="2267"/>
                    </a:lnTo>
                    <a:lnTo>
                      <a:pt x="1130" y="2296"/>
                    </a:lnTo>
                    <a:lnTo>
                      <a:pt x="1176" y="2282"/>
                    </a:lnTo>
                    <a:lnTo>
                      <a:pt x="1208" y="2302"/>
                    </a:lnTo>
                    <a:lnTo>
                      <a:pt x="1165" y="2377"/>
                    </a:lnTo>
                    <a:lnTo>
                      <a:pt x="1135" y="2378"/>
                    </a:lnTo>
                    <a:lnTo>
                      <a:pt x="1146" y="2427"/>
                    </a:lnTo>
                    <a:lnTo>
                      <a:pt x="1103" y="2485"/>
                    </a:lnTo>
                    <a:lnTo>
                      <a:pt x="1070" y="2496"/>
                    </a:lnTo>
                    <a:lnTo>
                      <a:pt x="1037" y="2484"/>
                    </a:lnTo>
                    <a:lnTo>
                      <a:pt x="1011" y="2508"/>
                    </a:lnTo>
                    <a:lnTo>
                      <a:pt x="992" y="2480"/>
                    </a:lnTo>
                    <a:lnTo>
                      <a:pt x="966" y="2489"/>
                    </a:lnTo>
                    <a:lnTo>
                      <a:pt x="933" y="2507"/>
                    </a:lnTo>
                    <a:lnTo>
                      <a:pt x="928" y="2540"/>
                    </a:lnTo>
                    <a:lnTo>
                      <a:pt x="945" y="2574"/>
                    </a:lnTo>
                    <a:lnTo>
                      <a:pt x="905" y="2606"/>
                    </a:lnTo>
                    <a:lnTo>
                      <a:pt x="892" y="2541"/>
                    </a:lnTo>
                    <a:lnTo>
                      <a:pt x="882" y="2513"/>
                    </a:lnTo>
                    <a:lnTo>
                      <a:pt x="885" y="2484"/>
                    </a:lnTo>
                    <a:lnTo>
                      <a:pt x="905" y="2451"/>
                    </a:lnTo>
                    <a:lnTo>
                      <a:pt x="902" y="2420"/>
                    </a:lnTo>
                    <a:lnTo>
                      <a:pt x="872" y="2397"/>
                    </a:lnTo>
                    <a:lnTo>
                      <a:pt x="848" y="2350"/>
                    </a:lnTo>
                    <a:lnTo>
                      <a:pt x="875" y="2322"/>
                    </a:lnTo>
                    <a:lnTo>
                      <a:pt x="871" y="2290"/>
                    </a:lnTo>
                    <a:lnTo>
                      <a:pt x="843" y="2307"/>
                    </a:lnTo>
                    <a:lnTo>
                      <a:pt x="800" y="2307"/>
                    </a:lnTo>
                    <a:lnTo>
                      <a:pt x="769" y="2334"/>
                    </a:lnTo>
                    <a:lnTo>
                      <a:pt x="745" y="2352"/>
                    </a:lnTo>
                    <a:lnTo>
                      <a:pt x="703" y="2344"/>
                    </a:lnTo>
                    <a:lnTo>
                      <a:pt x="673" y="2338"/>
                    </a:lnTo>
                    <a:lnTo>
                      <a:pt x="648" y="2319"/>
                    </a:lnTo>
                    <a:lnTo>
                      <a:pt x="620" y="2301"/>
                    </a:lnTo>
                    <a:lnTo>
                      <a:pt x="591" y="2298"/>
                    </a:lnTo>
                    <a:lnTo>
                      <a:pt x="559" y="2297"/>
                    </a:lnTo>
                    <a:lnTo>
                      <a:pt x="554" y="2330"/>
                    </a:lnTo>
                    <a:lnTo>
                      <a:pt x="529" y="2354"/>
                    </a:lnTo>
                    <a:lnTo>
                      <a:pt x="516" y="2323"/>
                    </a:lnTo>
                    <a:lnTo>
                      <a:pt x="507" y="2295"/>
                    </a:lnTo>
                    <a:lnTo>
                      <a:pt x="485" y="2259"/>
                    </a:lnTo>
                    <a:lnTo>
                      <a:pt x="477" y="2227"/>
                    </a:lnTo>
                    <a:lnTo>
                      <a:pt x="435" y="2219"/>
                    </a:lnTo>
                    <a:lnTo>
                      <a:pt x="405" y="2214"/>
                    </a:lnTo>
                    <a:lnTo>
                      <a:pt x="406" y="2183"/>
                    </a:lnTo>
                    <a:lnTo>
                      <a:pt x="376" y="2199"/>
                    </a:lnTo>
                    <a:lnTo>
                      <a:pt x="372" y="2133"/>
                    </a:lnTo>
                    <a:lnTo>
                      <a:pt x="387" y="2092"/>
                    </a:lnTo>
                    <a:lnTo>
                      <a:pt x="405" y="2065"/>
                    </a:lnTo>
                    <a:lnTo>
                      <a:pt x="404" y="2014"/>
                    </a:lnTo>
                    <a:lnTo>
                      <a:pt x="449" y="1971"/>
                    </a:lnTo>
                    <a:lnTo>
                      <a:pt x="452" y="1935"/>
                    </a:lnTo>
                    <a:lnTo>
                      <a:pt x="451" y="1899"/>
                    </a:lnTo>
                    <a:lnTo>
                      <a:pt x="501" y="1857"/>
                    </a:lnTo>
                    <a:lnTo>
                      <a:pt x="471" y="1837"/>
                    </a:lnTo>
                    <a:lnTo>
                      <a:pt x="476" y="1803"/>
                    </a:lnTo>
                    <a:lnTo>
                      <a:pt x="550" y="1794"/>
                    </a:lnTo>
                    <a:lnTo>
                      <a:pt x="588" y="1778"/>
                    </a:lnTo>
                    <a:lnTo>
                      <a:pt x="586" y="1748"/>
                    </a:lnTo>
                    <a:lnTo>
                      <a:pt x="558" y="1735"/>
                    </a:lnTo>
                    <a:lnTo>
                      <a:pt x="554" y="1675"/>
                    </a:lnTo>
                    <a:lnTo>
                      <a:pt x="546" y="1640"/>
                    </a:lnTo>
                    <a:lnTo>
                      <a:pt x="496" y="1626"/>
                    </a:lnTo>
                    <a:lnTo>
                      <a:pt x="474" y="1670"/>
                    </a:lnTo>
                    <a:lnTo>
                      <a:pt x="433" y="1675"/>
                    </a:lnTo>
                    <a:lnTo>
                      <a:pt x="411" y="1699"/>
                    </a:lnTo>
                    <a:lnTo>
                      <a:pt x="417" y="1727"/>
                    </a:lnTo>
                    <a:lnTo>
                      <a:pt x="396" y="1746"/>
                    </a:lnTo>
                    <a:lnTo>
                      <a:pt x="361" y="1765"/>
                    </a:lnTo>
                    <a:lnTo>
                      <a:pt x="314" y="1780"/>
                    </a:lnTo>
                    <a:lnTo>
                      <a:pt x="278" y="1782"/>
                    </a:lnTo>
                    <a:lnTo>
                      <a:pt x="265" y="1753"/>
                    </a:lnTo>
                    <a:lnTo>
                      <a:pt x="243" y="1724"/>
                    </a:lnTo>
                    <a:lnTo>
                      <a:pt x="188" y="1739"/>
                    </a:lnTo>
                    <a:lnTo>
                      <a:pt x="158" y="1727"/>
                    </a:lnTo>
                    <a:lnTo>
                      <a:pt x="157" y="1681"/>
                    </a:lnTo>
                    <a:lnTo>
                      <a:pt x="189" y="1658"/>
                    </a:lnTo>
                    <a:lnTo>
                      <a:pt x="177" y="1608"/>
                    </a:lnTo>
                    <a:lnTo>
                      <a:pt x="206" y="1575"/>
                    </a:lnTo>
                    <a:lnTo>
                      <a:pt x="224" y="1537"/>
                    </a:lnTo>
                    <a:lnTo>
                      <a:pt x="233" y="1510"/>
                    </a:lnTo>
                    <a:lnTo>
                      <a:pt x="243" y="1475"/>
                    </a:lnTo>
                    <a:lnTo>
                      <a:pt x="259" y="1448"/>
                    </a:lnTo>
                    <a:lnTo>
                      <a:pt x="226" y="1442"/>
                    </a:lnTo>
                    <a:lnTo>
                      <a:pt x="196" y="1424"/>
                    </a:lnTo>
                    <a:lnTo>
                      <a:pt x="157" y="1457"/>
                    </a:lnTo>
                    <a:lnTo>
                      <a:pt x="125" y="1462"/>
                    </a:lnTo>
                    <a:lnTo>
                      <a:pt x="97" y="1473"/>
                    </a:lnTo>
                    <a:lnTo>
                      <a:pt x="77" y="1409"/>
                    </a:lnTo>
                    <a:lnTo>
                      <a:pt x="73" y="1342"/>
                    </a:lnTo>
                    <a:lnTo>
                      <a:pt x="107" y="1327"/>
                    </a:lnTo>
                    <a:lnTo>
                      <a:pt x="102" y="1280"/>
                    </a:lnTo>
                    <a:lnTo>
                      <a:pt x="50" y="1246"/>
                    </a:lnTo>
                    <a:lnTo>
                      <a:pt x="19" y="1246"/>
                    </a:lnTo>
                    <a:lnTo>
                      <a:pt x="48" y="1222"/>
                    </a:lnTo>
                    <a:lnTo>
                      <a:pt x="52" y="1182"/>
                    </a:lnTo>
                    <a:lnTo>
                      <a:pt x="57" y="1154"/>
                    </a:lnTo>
                    <a:lnTo>
                      <a:pt x="33" y="1132"/>
                    </a:lnTo>
                    <a:lnTo>
                      <a:pt x="0" y="1105"/>
                    </a:lnTo>
                    <a:lnTo>
                      <a:pt x="42" y="1093"/>
                    </a:lnTo>
                    <a:lnTo>
                      <a:pt x="30" y="1063"/>
                    </a:lnTo>
                    <a:lnTo>
                      <a:pt x="21" y="1034"/>
                    </a:lnTo>
                    <a:lnTo>
                      <a:pt x="37" y="1002"/>
                    </a:lnTo>
                    <a:lnTo>
                      <a:pt x="24" y="966"/>
                    </a:lnTo>
                    <a:lnTo>
                      <a:pt x="44" y="935"/>
                    </a:lnTo>
                    <a:lnTo>
                      <a:pt x="41" y="895"/>
                    </a:lnTo>
                    <a:lnTo>
                      <a:pt x="57" y="871"/>
                    </a:lnTo>
                    <a:lnTo>
                      <a:pt x="92" y="862"/>
                    </a:lnTo>
                    <a:lnTo>
                      <a:pt x="131" y="857"/>
                    </a:lnTo>
                    <a:lnTo>
                      <a:pt x="198" y="843"/>
                    </a:lnTo>
                    <a:lnTo>
                      <a:pt x="191" y="811"/>
                    </a:lnTo>
                    <a:lnTo>
                      <a:pt x="193" y="768"/>
                    </a:lnTo>
                    <a:lnTo>
                      <a:pt x="285" y="748"/>
                    </a:lnTo>
                    <a:lnTo>
                      <a:pt x="317" y="687"/>
                    </a:lnTo>
                    <a:lnTo>
                      <a:pt x="313" y="648"/>
                    </a:lnTo>
                    <a:lnTo>
                      <a:pt x="335" y="628"/>
                    </a:lnTo>
                    <a:lnTo>
                      <a:pt x="364" y="640"/>
                    </a:lnTo>
                    <a:lnTo>
                      <a:pt x="356" y="606"/>
                    </a:lnTo>
                    <a:lnTo>
                      <a:pt x="320" y="572"/>
                    </a:lnTo>
                    <a:lnTo>
                      <a:pt x="309" y="511"/>
                    </a:lnTo>
                    <a:lnTo>
                      <a:pt x="263" y="468"/>
                    </a:lnTo>
                    <a:lnTo>
                      <a:pt x="255" y="438"/>
                    </a:lnTo>
                    <a:lnTo>
                      <a:pt x="279" y="411"/>
                    </a:lnTo>
                    <a:lnTo>
                      <a:pt x="288" y="379"/>
                    </a:lnTo>
                    <a:lnTo>
                      <a:pt x="312" y="336"/>
                    </a:lnTo>
                    <a:lnTo>
                      <a:pt x="309" y="294"/>
                    </a:lnTo>
                    <a:lnTo>
                      <a:pt x="302" y="250"/>
                    </a:lnTo>
                    <a:lnTo>
                      <a:pt x="301" y="173"/>
                    </a:lnTo>
                    <a:lnTo>
                      <a:pt x="318" y="137"/>
                    </a:lnTo>
                    <a:lnTo>
                      <a:pt x="354" y="132"/>
                    </a:lnTo>
                    <a:lnTo>
                      <a:pt x="422" y="175"/>
                    </a:lnTo>
                    <a:lnTo>
                      <a:pt x="442" y="155"/>
                    </a:lnTo>
                    <a:lnTo>
                      <a:pt x="469" y="169"/>
                    </a:lnTo>
                    <a:lnTo>
                      <a:pt x="500" y="146"/>
                    </a:lnTo>
                    <a:lnTo>
                      <a:pt x="491" y="108"/>
                    </a:lnTo>
                    <a:lnTo>
                      <a:pt x="521" y="103"/>
                    </a:lnTo>
                    <a:lnTo>
                      <a:pt x="548" y="116"/>
                    </a:lnTo>
                    <a:lnTo>
                      <a:pt x="587" y="120"/>
                    </a:lnTo>
                    <a:lnTo>
                      <a:pt x="593" y="88"/>
                    </a:lnTo>
                    <a:lnTo>
                      <a:pt x="593" y="44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09"/>
              <p:cNvSpPr/>
              <p:nvPr/>
            </p:nvSpPr>
            <p:spPr>
              <a:xfrm>
                <a:off x="7473960" y="5168880"/>
                <a:ext cx="45720" cy="568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60" h="76">
                    <a:moveTo>
                      <a:pt x="45" y="0"/>
                    </a:moveTo>
                    <a:lnTo>
                      <a:pt x="60" y="40"/>
                    </a:lnTo>
                    <a:lnTo>
                      <a:pt x="46" y="76"/>
                    </a:lnTo>
                    <a:lnTo>
                      <a:pt x="8" y="56"/>
                    </a:lnTo>
                    <a:lnTo>
                      <a:pt x="0" y="2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11"/>
              <p:cNvSpPr/>
              <p:nvPr/>
            </p:nvSpPr>
            <p:spPr>
              <a:xfrm>
                <a:off x="7858080" y="2090520"/>
                <a:ext cx="96840" cy="177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29" h="235">
                    <a:moveTo>
                      <a:pt x="110" y="0"/>
                    </a:moveTo>
                    <a:lnTo>
                      <a:pt x="116" y="2"/>
                    </a:lnTo>
                    <a:lnTo>
                      <a:pt x="129" y="49"/>
                    </a:lnTo>
                    <a:lnTo>
                      <a:pt x="123" y="78"/>
                    </a:lnTo>
                    <a:lnTo>
                      <a:pt x="105" y="132"/>
                    </a:lnTo>
                    <a:lnTo>
                      <a:pt x="76" y="152"/>
                    </a:lnTo>
                    <a:lnTo>
                      <a:pt x="76" y="184"/>
                    </a:lnTo>
                    <a:lnTo>
                      <a:pt x="60" y="235"/>
                    </a:lnTo>
                    <a:lnTo>
                      <a:pt x="15" y="213"/>
                    </a:lnTo>
                    <a:lnTo>
                      <a:pt x="1" y="155"/>
                    </a:lnTo>
                    <a:lnTo>
                      <a:pt x="0" y="81"/>
                    </a:lnTo>
                    <a:lnTo>
                      <a:pt x="17" y="51"/>
                    </a:lnTo>
                    <a:lnTo>
                      <a:pt x="40" y="23"/>
                    </a:lnTo>
                    <a:lnTo>
                      <a:pt x="84" y="13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12"/>
              <p:cNvSpPr/>
              <p:nvPr/>
            </p:nvSpPr>
            <p:spPr>
              <a:xfrm>
                <a:off x="7701120" y="2678040"/>
                <a:ext cx="61560" cy="5868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2" h="77">
                    <a:moveTo>
                      <a:pt x="30" y="17"/>
                    </a:moveTo>
                    <a:lnTo>
                      <a:pt x="60" y="0"/>
                    </a:lnTo>
                    <a:lnTo>
                      <a:pt x="80" y="27"/>
                    </a:lnTo>
                    <a:lnTo>
                      <a:pt x="82" y="64"/>
                    </a:lnTo>
                    <a:lnTo>
                      <a:pt x="40" y="77"/>
                    </a:lnTo>
                    <a:lnTo>
                      <a:pt x="7" y="77"/>
                    </a:lnTo>
                    <a:lnTo>
                      <a:pt x="0" y="40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13"/>
              <p:cNvSpPr/>
              <p:nvPr/>
            </p:nvSpPr>
            <p:spPr>
              <a:xfrm>
                <a:off x="7804080" y="5077080"/>
                <a:ext cx="527040" cy="84780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701" h="1131">
                    <a:moveTo>
                      <a:pt x="7" y="0"/>
                    </a:moveTo>
                    <a:lnTo>
                      <a:pt x="43" y="22"/>
                    </a:lnTo>
                    <a:lnTo>
                      <a:pt x="59" y="59"/>
                    </a:lnTo>
                    <a:lnTo>
                      <a:pt x="78" y="91"/>
                    </a:lnTo>
                    <a:lnTo>
                      <a:pt x="100" y="110"/>
                    </a:lnTo>
                    <a:lnTo>
                      <a:pt x="142" y="141"/>
                    </a:lnTo>
                    <a:lnTo>
                      <a:pt x="118" y="120"/>
                    </a:lnTo>
                    <a:lnTo>
                      <a:pt x="148" y="164"/>
                    </a:lnTo>
                    <a:lnTo>
                      <a:pt x="193" y="212"/>
                    </a:lnTo>
                    <a:lnTo>
                      <a:pt x="199" y="241"/>
                    </a:lnTo>
                    <a:lnTo>
                      <a:pt x="183" y="216"/>
                    </a:lnTo>
                    <a:lnTo>
                      <a:pt x="193" y="254"/>
                    </a:lnTo>
                    <a:lnTo>
                      <a:pt x="234" y="313"/>
                    </a:lnTo>
                    <a:lnTo>
                      <a:pt x="259" y="344"/>
                    </a:lnTo>
                    <a:lnTo>
                      <a:pt x="288" y="353"/>
                    </a:lnTo>
                    <a:lnTo>
                      <a:pt x="308" y="376"/>
                    </a:lnTo>
                    <a:lnTo>
                      <a:pt x="333" y="397"/>
                    </a:lnTo>
                    <a:lnTo>
                      <a:pt x="382" y="465"/>
                    </a:lnTo>
                    <a:lnTo>
                      <a:pt x="439" y="516"/>
                    </a:lnTo>
                    <a:lnTo>
                      <a:pt x="504" y="564"/>
                    </a:lnTo>
                    <a:lnTo>
                      <a:pt x="554" y="615"/>
                    </a:lnTo>
                    <a:lnTo>
                      <a:pt x="590" y="625"/>
                    </a:lnTo>
                    <a:lnTo>
                      <a:pt x="612" y="649"/>
                    </a:lnTo>
                    <a:lnTo>
                      <a:pt x="574" y="628"/>
                    </a:lnTo>
                    <a:lnTo>
                      <a:pt x="536" y="619"/>
                    </a:lnTo>
                    <a:lnTo>
                      <a:pt x="502" y="606"/>
                    </a:lnTo>
                    <a:lnTo>
                      <a:pt x="458" y="622"/>
                    </a:lnTo>
                    <a:lnTo>
                      <a:pt x="432" y="638"/>
                    </a:lnTo>
                    <a:lnTo>
                      <a:pt x="434" y="689"/>
                    </a:lnTo>
                    <a:lnTo>
                      <a:pt x="449" y="742"/>
                    </a:lnTo>
                    <a:lnTo>
                      <a:pt x="470" y="841"/>
                    </a:lnTo>
                    <a:lnTo>
                      <a:pt x="516" y="901"/>
                    </a:lnTo>
                    <a:lnTo>
                      <a:pt x="562" y="909"/>
                    </a:lnTo>
                    <a:lnTo>
                      <a:pt x="607" y="956"/>
                    </a:lnTo>
                    <a:lnTo>
                      <a:pt x="640" y="958"/>
                    </a:lnTo>
                    <a:lnTo>
                      <a:pt x="683" y="994"/>
                    </a:lnTo>
                    <a:lnTo>
                      <a:pt x="701" y="1037"/>
                    </a:lnTo>
                    <a:lnTo>
                      <a:pt x="658" y="1004"/>
                    </a:lnTo>
                    <a:lnTo>
                      <a:pt x="613" y="1006"/>
                    </a:lnTo>
                    <a:lnTo>
                      <a:pt x="585" y="1003"/>
                    </a:lnTo>
                    <a:lnTo>
                      <a:pt x="574" y="1035"/>
                    </a:lnTo>
                    <a:lnTo>
                      <a:pt x="598" y="1123"/>
                    </a:lnTo>
                    <a:lnTo>
                      <a:pt x="569" y="1131"/>
                    </a:lnTo>
                    <a:lnTo>
                      <a:pt x="535" y="1086"/>
                    </a:lnTo>
                    <a:lnTo>
                      <a:pt x="504" y="981"/>
                    </a:lnTo>
                    <a:lnTo>
                      <a:pt x="456" y="917"/>
                    </a:lnTo>
                    <a:lnTo>
                      <a:pt x="455" y="873"/>
                    </a:lnTo>
                    <a:lnTo>
                      <a:pt x="431" y="840"/>
                    </a:lnTo>
                    <a:lnTo>
                      <a:pt x="384" y="807"/>
                    </a:lnTo>
                    <a:lnTo>
                      <a:pt x="360" y="785"/>
                    </a:lnTo>
                    <a:lnTo>
                      <a:pt x="333" y="676"/>
                    </a:lnTo>
                    <a:lnTo>
                      <a:pt x="298" y="614"/>
                    </a:lnTo>
                    <a:lnTo>
                      <a:pt x="285" y="579"/>
                    </a:lnTo>
                    <a:lnTo>
                      <a:pt x="250" y="552"/>
                    </a:lnTo>
                    <a:lnTo>
                      <a:pt x="229" y="501"/>
                    </a:lnTo>
                    <a:lnTo>
                      <a:pt x="225" y="462"/>
                    </a:lnTo>
                    <a:lnTo>
                      <a:pt x="203" y="438"/>
                    </a:lnTo>
                    <a:lnTo>
                      <a:pt x="161" y="419"/>
                    </a:lnTo>
                    <a:lnTo>
                      <a:pt x="130" y="405"/>
                    </a:lnTo>
                    <a:lnTo>
                      <a:pt x="90" y="335"/>
                    </a:lnTo>
                    <a:lnTo>
                      <a:pt x="80" y="293"/>
                    </a:lnTo>
                    <a:lnTo>
                      <a:pt x="47" y="217"/>
                    </a:lnTo>
                    <a:lnTo>
                      <a:pt x="10" y="184"/>
                    </a:lnTo>
                    <a:lnTo>
                      <a:pt x="31" y="142"/>
                    </a:lnTo>
                    <a:lnTo>
                      <a:pt x="56" y="156"/>
                    </a:lnTo>
                    <a:lnTo>
                      <a:pt x="64" y="125"/>
                    </a:lnTo>
                    <a:lnTo>
                      <a:pt x="65" y="94"/>
                    </a:lnTo>
                    <a:lnTo>
                      <a:pt x="43" y="68"/>
                    </a:lnTo>
                    <a:lnTo>
                      <a:pt x="0" y="4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14"/>
              <p:cNvSpPr/>
              <p:nvPr/>
            </p:nvSpPr>
            <p:spPr>
              <a:xfrm>
                <a:off x="8639280" y="5680440"/>
                <a:ext cx="55440" cy="1872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74" h="247">
                    <a:moveTo>
                      <a:pt x="74" y="0"/>
                    </a:moveTo>
                    <a:lnTo>
                      <a:pt x="67" y="65"/>
                    </a:lnTo>
                    <a:lnTo>
                      <a:pt x="48" y="125"/>
                    </a:lnTo>
                    <a:lnTo>
                      <a:pt x="27" y="206"/>
                    </a:lnTo>
                    <a:lnTo>
                      <a:pt x="14" y="247"/>
                    </a:lnTo>
                    <a:lnTo>
                      <a:pt x="10" y="216"/>
                    </a:lnTo>
                    <a:lnTo>
                      <a:pt x="0" y="186"/>
                    </a:lnTo>
                    <a:lnTo>
                      <a:pt x="18" y="135"/>
                    </a:lnTo>
                    <a:lnTo>
                      <a:pt x="27" y="86"/>
                    </a:lnTo>
                    <a:lnTo>
                      <a:pt x="65" y="5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15"/>
              <p:cNvSpPr/>
              <p:nvPr/>
            </p:nvSpPr>
            <p:spPr>
              <a:xfrm>
                <a:off x="8761320" y="4872240"/>
                <a:ext cx="36360" cy="8244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2" h="110">
                    <a:moveTo>
                      <a:pt x="12" y="0"/>
                    </a:moveTo>
                    <a:lnTo>
                      <a:pt x="38" y="23"/>
                    </a:lnTo>
                    <a:lnTo>
                      <a:pt x="42" y="82"/>
                    </a:lnTo>
                    <a:lnTo>
                      <a:pt x="33" y="110"/>
                    </a:lnTo>
                    <a:lnTo>
                      <a:pt x="0" y="107"/>
                    </a:lnTo>
                    <a:lnTo>
                      <a:pt x="16" y="6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16"/>
              <p:cNvSpPr/>
              <p:nvPr/>
            </p:nvSpPr>
            <p:spPr>
              <a:xfrm>
                <a:off x="8732880" y="5540400"/>
                <a:ext cx="28440" cy="104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8" h="140">
                    <a:moveTo>
                      <a:pt x="38" y="0"/>
                    </a:moveTo>
                    <a:lnTo>
                      <a:pt x="33" y="70"/>
                    </a:lnTo>
                    <a:lnTo>
                      <a:pt x="5" y="140"/>
                    </a:lnTo>
                    <a:lnTo>
                      <a:pt x="0" y="96"/>
                    </a:lnTo>
                    <a:lnTo>
                      <a:pt x="13" y="4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17"/>
              <p:cNvSpPr/>
              <p:nvPr/>
            </p:nvSpPr>
            <p:spPr>
              <a:xfrm>
                <a:off x="8593200" y="5882040"/>
                <a:ext cx="29880" cy="997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45" h="133">
                    <a:moveTo>
                      <a:pt x="6" y="15"/>
                    </a:moveTo>
                    <a:lnTo>
                      <a:pt x="45" y="0"/>
                    </a:lnTo>
                    <a:lnTo>
                      <a:pt x="24" y="46"/>
                    </a:lnTo>
                    <a:lnTo>
                      <a:pt x="11" y="133"/>
                    </a:lnTo>
                    <a:lnTo>
                      <a:pt x="0" y="87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18"/>
              <p:cNvSpPr/>
              <p:nvPr/>
            </p:nvSpPr>
            <p:spPr>
              <a:xfrm>
                <a:off x="8802720" y="5372280"/>
                <a:ext cx="4680" cy="55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7" h="74">
                    <a:moveTo>
                      <a:pt x="7" y="0"/>
                    </a:moveTo>
                    <a:lnTo>
                      <a:pt x="6" y="36"/>
                    </a:lnTo>
                    <a:lnTo>
                      <a:pt x="0" y="74"/>
                    </a:lnTo>
                    <a:lnTo>
                      <a:pt x="0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19"/>
              <p:cNvSpPr/>
              <p:nvPr/>
            </p:nvSpPr>
            <p:spPr>
              <a:xfrm>
                <a:off x="8653320" y="6013800"/>
                <a:ext cx="4680" cy="93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0" y="8"/>
                    </a:moveTo>
                    <a:lnTo>
                      <a:pt x="3" y="0"/>
                    </a:lnTo>
                    <a:lnTo>
                      <a:pt x="6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21"/>
              <p:cNvSpPr/>
              <p:nvPr/>
            </p:nvSpPr>
            <p:spPr>
              <a:xfrm>
                <a:off x="7329600" y="5926320"/>
                <a:ext cx="323640" cy="21888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431" h="295">
                    <a:moveTo>
                      <a:pt x="0" y="159"/>
                    </a:moveTo>
                    <a:lnTo>
                      <a:pt x="6" y="134"/>
                    </a:lnTo>
                    <a:lnTo>
                      <a:pt x="23" y="127"/>
                    </a:lnTo>
                    <a:lnTo>
                      <a:pt x="20" y="110"/>
                    </a:lnTo>
                    <a:lnTo>
                      <a:pt x="69" y="70"/>
                    </a:lnTo>
                    <a:lnTo>
                      <a:pt x="79" y="73"/>
                    </a:lnTo>
                    <a:lnTo>
                      <a:pt x="85" y="64"/>
                    </a:lnTo>
                    <a:lnTo>
                      <a:pt x="110" y="40"/>
                    </a:lnTo>
                    <a:lnTo>
                      <a:pt x="115" y="7"/>
                    </a:lnTo>
                    <a:lnTo>
                      <a:pt x="147" y="8"/>
                    </a:lnTo>
                    <a:lnTo>
                      <a:pt x="176" y="11"/>
                    </a:lnTo>
                    <a:lnTo>
                      <a:pt x="204" y="29"/>
                    </a:lnTo>
                    <a:lnTo>
                      <a:pt x="229" y="48"/>
                    </a:lnTo>
                    <a:lnTo>
                      <a:pt x="259" y="54"/>
                    </a:lnTo>
                    <a:lnTo>
                      <a:pt x="301" y="62"/>
                    </a:lnTo>
                    <a:lnTo>
                      <a:pt x="325" y="44"/>
                    </a:lnTo>
                    <a:lnTo>
                      <a:pt x="356" y="17"/>
                    </a:lnTo>
                    <a:lnTo>
                      <a:pt x="399" y="17"/>
                    </a:lnTo>
                    <a:lnTo>
                      <a:pt x="427" y="0"/>
                    </a:lnTo>
                    <a:lnTo>
                      <a:pt x="431" y="32"/>
                    </a:lnTo>
                    <a:lnTo>
                      <a:pt x="404" y="60"/>
                    </a:lnTo>
                    <a:lnTo>
                      <a:pt x="363" y="91"/>
                    </a:lnTo>
                    <a:lnTo>
                      <a:pt x="345" y="115"/>
                    </a:lnTo>
                    <a:lnTo>
                      <a:pt x="294" y="151"/>
                    </a:lnTo>
                    <a:lnTo>
                      <a:pt x="282" y="179"/>
                    </a:lnTo>
                    <a:lnTo>
                      <a:pt x="260" y="234"/>
                    </a:lnTo>
                    <a:lnTo>
                      <a:pt x="232" y="254"/>
                    </a:lnTo>
                    <a:lnTo>
                      <a:pt x="182" y="278"/>
                    </a:lnTo>
                    <a:lnTo>
                      <a:pt x="134" y="295"/>
                    </a:lnTo>
                    <a:lnTo>
                      <a:pt x="106" y="271"/>
                    </a:lnTo>
                    <a:lnTo>
                      <a:pt x="76" y="256"/>
                    </a:lnTo>
                    <a:lnTo>
                      <a:pt x="65" y="197"/>
                    </a:lnTo>
                    <a:lnTo>
                      <a:pt x="34" y="191"/>
                    </a:lnTo>
                    <a:lnTo>
                      <a:pt x="31" y="154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23"/>
              <p:cNvSpPr/>
              <p:nvPr/>
            </p:nvSpPr>
            <p:spPr>
              <a:xfrm>
                <a:off x="1512720" y="3260520"/>
                <a:ext cx="585720" cy="78732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787320"/>
                  <a:gd name="textAreaBottom" fmla="*/ 787680 h 787320"/>
                </a:gdLst>
                <a:ahLst/>
                <a:rect l="textAreaLeft" t="textAreaTop" r="textAreaRight" b="textAreaBottom"/>
                <a:pathLst>
                  <a:path w="781" h="1042">
                    <a:moveTo>
                      <a:pt x="0" y="645"/>
                    </a:moveTo>
                    <a:lnTo>
                      <a:pt x="170" y="616"/>
                    </a:lnTo>
                    <a:lnTo>
                      <a:pt x="256" y="592"/>
                    </a:lnTo>
                    <a:lnTo>
                      <a:pt x="300" y="558"/>
                    </a:lnTo>
                    <a:lnTo>
                      <a:pt x="305" y="505"/>
                    </a:lnTo>
                    <a:lnTo>
                      <a:pt x="295" y="455"/>
                    </a:lnTo>
                    <a:lnTo>
                      <a:pt x="296" y="391"/>
                    </a:lnTo>
                    <a:lnTo>
                      <a:pt x="370" y="374"/>
                    </a:lnTo>
                    <a:lnTo>
                      <a:pt x="378" y="308"/>
                    </a:lnTo>
                    <a:lnTo>
                      <a:pt x="412" y="265"/>
                    </a:lnTo>
                    <a:lnTo>
                      <a:pt x="418" y="216"/>
                    </a:lnTo>
                    <a:lnTo>
                      <a:pt x="453" y="207"/>
                    </a:lnTo>
                    <a:lnTo>
                      <a:pt x="478" y="172"/>
                    </a:lnTo>
                    <a:lnTo>
                      <a:pt x="498" y="146"/>
                    </a:lnTo>
                    <a:lnTo>
                      <a:pt x="531" y="137"/>
                    </a:lnTo>
                    <a:lnTo>
                      <a:pt x="584" y="0"/>
                    </a:lnTo>
                    <a:lnTo>
                      <a:pt x="687" y="98"/>
                    </a:lnTo>
                    <a:lnTo>
                      <a:pt x="667" y="121"/>
                    </a:lnTo>
                    <a:lnTo>
                      <a:pt x="673" y="149"/>
                    </a:lnTo>
                    <a:lnTo>
                      <a:pt x="722" y="167"/>
                    </a:lnTo>
                    <a:lnTo>
                      <a:pt x="751" y="170"/>
                    </a:lnTo>
                    <a:lnTo>
                      <a:pt x="775" y="227"/>
                    </a:lnTo>
                    <a:lnTo>
                      <a:pt x="731" y="222"/>
                    </a:lnTo>
                    <a:lnTo>
                      <a:pt x="763" y="244"/>
                    </a:lnTo>
                    <a:lnTo>
                      <a:pt x="776" y="270"/>
                    </a:lnTo>
                    <a:lnTo>
                      <a:pt x="781" y="298"/>
                    </a:lnTo>
                    <a:lnTo>
                      <a:pt x="769" y="344"/>
                    </a:lnTo>
                    <a:lnTo>
                      <a:pt x="760" y="374"/>
                    </a:lnTo>
                    <a:lnTo>
                      <a:pt x="733" y="390"/>
                    </a:lnTo>
                    <a:lnTo>
                      <a:pt x="703" y="395"/>
                    </a:lnTo>
                    <a:lnTo>
                      <a:pt x="694" y="434"/>
                    </a:lnTo>
                    <a:lnTo>
                      <a:pt x="673" y="463"/>
                    </a:lnTo>
                    <a:lnTo>
                      <a:pt x="658" y="497"/>
                    </a:lnTo>
                    <a:lnTo>
                      <a:pt x="632" y="525"/>
                    </a:lnTo>
                    <a:lnTo>
                      <a:pt x="632" y="559"/>
                    </a:lnTo>
                    <a:lnTo>
                      <a:pt x="655" y="584"/>
                    </a:lnTo>
                    <a:lnTo>
                      <a:pt x="672" y="614"/>
                    </a:lnTo>
                    <a:lnTo>
                      <a:pt x="666" y="669"/>
                    </a:lnTo>
                    <a:lnTo>
                      <a:pt x="632" y="706"/>
                    </a:lnTo>
                    <a:lnTo>
                      <a:pt x="602" y="681"/>
                    </a:lnTo>
                    <a:lnTo>
                      <a:pt x="594" y="733"/>
                    </a:lnTo>
                    <a:lnTo>
                      <a:pt x="560" y="774"/>
                    </a:lnTo>
                    <a:lnTo>
                      <a:pt x="559" y="824"/>
                    </a:lnTo>
                    <a:lnTo>
                      <a:pt x="571" y="858"/>
                    </a:lnTo>
                    <a:lnTo>
                      <a:pt x="593" y="879"/>
                    </a:lnTo>
                    <a:lnTo>
                      <a:pt x="553" y="934"/>
                    </a:lnTo>
                    <a:lnTo>
                      <a:pt x="548" y="977"/>
                    </a:lnTo>
                    <a:lnTo>
                      <a:pt x="525" y="1018"/>
                    </a:lnTo>
                    <a:lnTo>
                      <a:pt x="501" y="1042"/>
                    </a:lnTo>
                    <a:lnTo>
                      <a:pt x="476" y="1014"/>
                    </a:lnTo>
                    <a:lnTo>
                      <a:pt x="446" y="981"/>
                    </a:lnTo>
                    <a:lnTo>
                      <a:pt x="417" y="990"/>
                    </a:lnTo>
                    <a:lnTo>
                      <a:pt x="313" y="1015"/>
                    </a:lnTo>
                    <a:lnTo>
                      <a:pt x="345" y="980"/>
                    </a:lnTo>
                    <a:lnTo>
                      <a:pt x="339" y="952"/>
                    </a:lnTo>
                    <a:lnTo>
                      <a:pt x="313" y="914"/>
                    </a:lnTo>
                    <a:lnTo>
                      <a:pt x="277" y="901"/>
                    </a:lnTo>
                    <a:lnTo>
                      <a:pt x="230" y="866"/>
                    </a:lnTo>
                    <a:lnTo>
                      <a:pt x="240" y="901"/>
                    </a:lnTo>
                    <a:lnTo>
                      <a:pt x="204" y="893"/>
                    </a:lnTo>
                    <a:lnTo>
                      <a:pt x="139" y="906"/>
                    </a:lnTo>
                    <a:lnTo>
                      <a:pt x="20" y="692"/>
                    </a:lnTo>
                    <a:lnTo>
                      <a:pt x="0" y="645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524"/>
              <p:cNvSpPr/>
              <p:nvPr/>
            </p:nvSpPr>
            <p:spPr>
              <a:xfrm>
                <a:off x="2093760" y="342576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0" y="0"/>
                    </a:moveTo>
                    <a:lnTo>
                      <a:pt x="5" y="2"/>
                    </a:lnTo>
                    <a:lnTo>
                      <a:pt x="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525"/>
              <p:cNvSpPr/>
              <p:nvPr/>
            </p:nvSpPr>
            <p:spPr>
              <a:xfrm>
                <a:off x="2039760" y="374796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8"/>
                    </a:moveTo>
                    <a:lnTo>
                      <a:pt x="4" y="0"/>
                    </a:lnTo>
                    <a:lnTo>
                      <a:pt x="4" y="1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26"/>
              <p:cNvSpPr/>
              <p:nvPr/>
            </p:nvSpPr>
            <p:spPr>
              <a:xfrm>
                <a:off x="2100240" y="343368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27"/>
              <p:cNvSpPr/>
              <p:nvPr/>
            </p:nvSpPr>
            <p:spPr>
              <a:xfrm>
                <a:off x="1876320" y="3665520"/>
                <a:ext cx="792000" cy="78876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788760"/>
                  <a:gd name="textAreaBottom" fmla="*/ 789120 h 788760"/>
                </a:gdLst>
                <a:ahLst/>
                <a:rect l="textAreaLeft" t="textAreaTop" r="textAreaRight" b="textAreaBottom"/>
                <a:pathLst>
                  <a:path w="1064" h="1057">
                    <a:moveTo>
                      <a:pt x="19" y="507"/>
                    </a:moveTo>
                    <a:lnTo>
                      <a:pt x="43" y="483"/>
                    </a:lnTo>
                    <a:lnTo>
                      <a:pt x="66" y="442"/>
                    </a:lnTo>
                    <a:lnTo>
                      <a:pt x="71" y="399"/>
                    </a:lnTo>
                    <a:lnTo>
                      <a:pt x="111" y="344"/>
                    </a:lnTo>
                    <a:lnTo>
                      <a:pt x="89" y="323"/>
                    </a:lnTo>
                    <a:lnTo>
                      <a:pt x="77" y="289"/>
                    </a:lnTo>
                    <a:lnTo>
                      <a:pt x="78" y="239"/>
                    </a:lnTo>
                    <a:lnTo>
                      <a:pt x="112" y="198"/>
                    </a:lnTo>
                    <a:lnTo>
                      <a:pt x="120" y="146"/>
                    </a:lnTo>
                    <a:lnTo>
                      <a:pt x="150" y="171"/>
                    </a:lnTo>
                    <a:lnTo>
                      <a:pt x="184" y="134"/>
                    </a:lnTo>
                    <a:lnTo>
                      <a:pt x="202" y="161"/>
                    </a:lnTo>
                    <a:lnTo>
                      <a:pt x="221" y="204"/>
                    </a:lnTo>
                    <a:lnTo>
                      <a:pt x="255" y="204"/>
                    </a:lnTo>
                    <a:lnTo>
                      <a:pt x="287" y="169"/>
                    </a:lnTo>
                    <a:lnTo>
                      <a:pt x="303" y="137"/>
                    </a:lnTo>
                    <a:lnTo>
                      <a:pt x="269" y="122"/>
                    </a:lnTo>
                    <a:lnTo>
                      <a:pt x="269" y="46"/>
                    </a:lnTo>
                    <a:lnTo>
                      <a:pt x="274" y="14"/>
                    </a:lnTo>
                    <a:lnTo>
                      <a:pt x="302" y="19"/>
                    </a:lnTo>
                    <a:lnTo>
                      <a:pt x="335" y="0"/>
                    </a:lnTo>
                    <a:lnTo>
                      <a:pt x="352" y="42"/>
                    </a:lnTo>
                    <a:lnTo>
                      <a:pt x="356" y="88"/>
                    </a:lnTo>
                    <a:lnTo>
                      <a:pt x="373" y="112"/>
                    </a:lnTo>
                    <a:lnTo>
                      <a:pt x="329" y="121"/>
                    </a:lnTo>
                    <a:lnTo>
                      <a:pt x="371" y="117"/>
                    </a:lnTo>
                    <a:lnTo>
                      <a:pt x="391" y="142"/>
                    </a:lnTo>
                    <a:lnTo>
                      <a:pt x="418" y="199"/>
                    </a:lnTo>
                    <a:lnTo>
                      <a:pt x="451" y="201"/>
                    </a:lnTo>
                    <a:lnTo>
                      <a:pt x="479" y="203"/>
                    </a:lnTo>
                    <a:lnTo>
                      <a:pt x="492" y="157"/>
                    </a:lnTo>
                    <a:lnTo>
                      <a:pt x="492" y="92"/>
                    </a:lnTo>
                    <a:lnTo>
                      <a:pt x="506" y="67"/>
                    </a:lnTo>
                    <a:lnTo>
                      <a:pt x="583" y="58"/>
                    </a:lnTo>
                    <a:lnTo>
                      <a:pt x="613" y="46"/>
                    </a:lnTo>
                    <a:lnTo>
                      <a:pt x="639" y="58"/>
                    </a:lnTo>
                    <a:lnTo>
                      <a:pt x="739" y="25"/>
                    </a:lnTo>
                    <a:lnTo>
                      <a:pt x="751" y="52"/>
                    </a:lnTo>
                    <a:lnTo>
                      <a:pt x="782" y="84"/>
                    </a:lnTo>
                    <a:lnTo>
                      <a:pt x="789" y="116"/>
                    </a:lnTo>
                    <a:lnTo>
                      <a:pt x="756" y="132"/>
                    </a:lnTo>
                    <a:lnTo>
                      <a:pt x="790" y="133"/>
                    </a:lnTo>
                    <a:lnTo>
                      <a:pt x="781" y="196"/>
                    </a:lnTo>
                    <a:lnTo>
                      <a:pt x="828" y="122"/>
                    </a:lnTo>
                    <a:lnTo>
                      <a:pt x="837" y="160"/>
                    </a:lnTo>
                    <a:lnTo>
                      <a:pt x="866" y="199"/>
                    </a:lnTo>
                    <a:lnTo>
                      <a:pt x="890" y="225"/>
                    </a:lnTo>
                    <a:lnTo>
                      <a:pt x="912" y="251"/>
                    </a:lnTo>
                    <a:lnTo>
                      <a:pt x="925" y="307"/>
                    </a:lnTo>
                    <a:lnTo>
                      <a:pt x="973" y="322"/>
                    </a:lnTo>
                    <a:lnTo>
                      <a:pt x="1018" y="304"/>
                    </a:lnTo>
                    <a:lnTo>
                      <a:pt x="1064" y="339"/>
                    </a:lnTo>
                    <a:lnTo>
                      <a:pt x="993" y="466"/>
                    </a:lnTo>
                    <a:lnTo>
                      <a:pt x="1026" y="482"/>
                    </a:lnTo>
                    <a:lnTo>
                      <a:pt x="1023" y="548"/>
                    </a:lnTo>
                    <a:lnTo>
                      <a:pt x="1044" y="577"/>
                    </a:lnTo>
                    <a:lnTo>
                      <a:pt x="1011" y="613"/>
                    </a:lnTo>
                    <a:lnTo>
                      <a:pt x="973" y="580"/>
                    </a:lnTo>
                    <a:lnTo>
                      <a:pt x="927" y="571"/>
                    </a:lnTo>
                    <a:lnTo>
                      <a:pt x="890" y="572"/>
                    </a:lnTo>
                    <a:lnTo>
                      <a:pt x="861" y="576"/>
                    </a:lnTo>
                    <a:lnTo>
                      <a:pt x="770" y="498"/>
                    </a:lnTo>
                    <a:lnTo>
                      <a:pt x="729" y="482"/>
                    </a:lnTo>
                    <a:lnTo>
                      <a:pt x="694" y="478"/>
                    </a:lnTo>
                    <a:lnTo>
                      <a:pt x="700" y="520"/>
                    </a:lnTo>
                    <a:lnTo>
                      <a:pt x="726" y="555"/>
                    </a:lnTo>
                    <a:lnTo>
                      <a:pt x="739" y="594"/>
                    </a:lnTo>
                    <a:lnTo>
                      <a:pt x="733" y="634"/>
                    </a:lnTo>
                    <a:lnTo>
                      <a:pt x="721" y="695"/>
                    </a:lnTo>
                    <a:lnTo>
                      <a:pt x="679" y="732"/>
                    </a:lnTo>
                    <a:lnTo>
                      <a:pt x="675" y="767"/>
                    </a:lnTo>
                    <a:lnTo>
                      <a:pt x="648" y="808"/>
                    </a:lnTo>
                    <a:lnTo>
                      <a:pt x="661" y="847"/>
                    </a:lnTo>
                    <a:lnTo>
                      <a:pt x="707" y="858"/>
                    </a:lnTo>
                    <a:lnTo>
                      <a:pt x="723" y="827"/>
                    </a:lnTo>
                    <a:lnTo>
                      <a:pt x="749" y="798"/>
                    </a:lnTo>
                    <a:lnTo>
                      <a:pt x="786" y="800"/>
                    </a:lnTo>
                    <a:lnTo>
                      <a:pt x="828" y="840"/>
                    </a:lnTo>
                    <a:lnTo>
                      <a:pt x="766" y="923"/>
                    </a:lnTo>
                    <a:lnTo>
                      <a:pt x="708" y="975"/>
                    </a:lnTo>
                    <a:lnTo>
                      <a:pt x="730" y="1004"/>
                    </a:lnTo>
                    <a:lnTo>
                      <a:pt x="699" y="1057"/>
                    </a:lnTo>
                    <a:lnTo>
                      <a:pt x="609" y="1056"/>
                    </a:lnTo>
                    <a:lnTo>
                      <a:pt x="592" y="1010"/>
                    </a:lnTo>
                    <a:lnTo>
                      <a:pt x="553" y="983"/>
                    </a:lnTo>
                    <a:lnTo>
                      <a:pt x="525" y="1005"/>
                    </a:lnTo>
                    <a:lnTo>
                      <a:pt x="519" y="1020"/>
                    </a:lnTo>
                    <a:lnTo>
                      <a:pt x="521" y="989"/>
                    </a:lnTo>
                    <a:lnTo>
                      <a:pt x="492" y="962"/>
                    </a:lnTo>
                    <a:lnTo>
                      <a:pt x="460" y="937"/>
                    </a:lnTo>
                    <a:lnTo>
                      <a:pt x="451" y="895"/>
                    </a:lnTo>
                    <a:lnTo>
                      <a:pt x="421" y="921"/>
                    </a:lnTo>
                    <a:lnTo>
                      <a:pt x="353" y="881"/>
                    </a:lnTo>
                    <a:lnTo>
                      <a:pt x="333" y="857"/>
                    </a:lnTo>
                    <a:lnTo>
                      <a:pt x="300" y="869"/>
                    </a:lnTo>
                    <a:lnTo>
                      <a:pt x="274" y="853"/>
                    </a:lnTo>
                    <a:lnTo>
                      <a:pt x="256" y="825"/>
                    </a:lnTo>
                    <a:lnTo>
                      <a:pt x="221" y="811"/>
                    </a:lnTo>
                    <a:lnTo>
                      <a:pt x="205" y="782"/>
                    </a:lnTo>
                    <a:lnTo>
                      <a:pt x="176" y="767"/>
                    </a:lnTo>
                    <a:lnTo>
                      <a:pt x="140" y="785"/>
                    </a:lnTo>
                    <a:lnTo>
                      <a:pt x="106" y="733"/>
                    </a:lnTo>
                    <a:lnTo>
                      <a:pt x="77" y="734"/>
                    </a:lnTo>
                    <a:lnTo>
                      <a:pt x="43" y="702"/>
                    </a:lnTo>
                    <a:lnTo>
                      <a:pt x="1" y="653"/>
                    </a:lnTo>
                    <a:lnTo>
                      <a:pt x="4" y="604"/>
                    </a:lnTo>
                    <a:lnTo>
                      <a:pt x="0" y="551"/>
                    </a:lnTo>
                    <a:lnTo>
                      <a:pt x="19" y="507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28"/>
              <p:cNvSpPr/>
              <p:nvPr/>
            </p:nvSpPr>
            <p:spPr>
              <a:xfrm>
                <a:off x="2825640" y="3533760"/>
                <a:ext cx="93600" cy="903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30" h="123">
                    <a:moveTo>
                      <a:pt x="18" y="47"/>
                    </a:moveTo>
                    <a:lnTo>
                      <a:pt x="36" y="14"/>
                    </a:lnTo>
                    <a:lnTo>
                      <a:pt x="92" y="0"/>
                    </a:lnTo>
                    <a:lnTo>
                      <a:pt x="124" y="29"/>
                    </a:lnTo>
                    <a:lnTo>
                      <a:pt x="130" y="90"/>
                    </a:lnTo>
                    <a:lnTo>
                      <a:pt x="87" y="116"/>
                    </a:lnTo>
                    <a:lnTo>
                      <a:pt x="45" y="123"/>
                    </a:lnTo>
                    <a:lnTo>
                      <a:pt x="0" y="107"/>
                    </a:lnTo>
                    <a:lnTo>
                      <a:pt x="18" y="4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29"/>
              <p:cNvSpPr/>
              <p:nvPr/>
            </p:nvSpPr>
            <p:spPr>
              <a:xfrm>
                <a:off x="3836880" y="2111040"/>
                <a:ext cx="64800" cy="918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82" h="121">
                    <a:moveTo>
                      <a:pt x="54" y="47"/>
                    </a:moveTo>
                    <a:lnTo>
                      <a:pt x="82" y="121"/>
                    </a:lnTo>
                    <a:lnTo>
                      <a:pt x="32" y="91"/>
                    </a:lnTo>
                    <a:lnTo>
                      <a:pt x="24" y="53"/>
                    </a:lnTo>
                    <a:lnTo>
                      <a:pt x="0" y="28"/>
                    </a:lnTo>
                    <a:lnTo>
                      <a:pt x="11" y="0"/>
                    </a:lnTo>
                    <a:lnTo>
                      <a:pt x="54" y="4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30"/>
              <p:cNvSpPr/>
              <p:nvPr/>
            </p:nvSpPr>
            <p:spPr>
              <a:xfrm>
                <a:off x="3305160" y="3625920"/>
                <a:ext cx="68040" cy="1173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90" h="155">
                    <a:moveTo>
                      <a:pt x="73" y="155"/>
                    </a:moveTo>
                    <a:lnTo>
                      <a:pt x="54" y="155"/>
                    </a:lnTo>
                    <a:lnTo>
                      <a:pt x="27" y="123"/>
                    </a:lnTo>
                    <a:lnTo>
                      <a:pt x="9" y="85"/>
                    </a:lnTo>
                    <a:lnTo>
                      <a:pt x="0" y="46"/>
                    </a:lnTo>
                    <a:lnTo>
                      <a:pt x="8" y="8"/>
                    </a:lnTo>
                    <a:lnTo>
                      <a:pt x="52" y="0"/>
                    </a:lnTo>
                    <a:lnTo>
                      <a:pt x="60" y="51"/>
                    </a:lnTo>
                    <a:lnTo>
                      <a:pt x="90" y="107"/>
                    </a:lnTo>
                    <a:lnTo>
                      <a:pt x="73" y="155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31"/>
              <p:cNvSpPr/>
              <p:nvPr/>
            </p:nvSpPr>
            <p:spPr>
              <a:xfrm>
                <a:off x="3881520" y="2133360"/>
                <a:ext cx="41040" cy="58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3" h="77">
                    <a:moveTo>
                      <a:pt x="26" y="70"/>
                    </a:moveTo>
                    <a:lnTo>
                      <a:pt x="18" y="32"/>
                    </a:lnTo>
                    <a:lnTo>
                      <a:pt x="0" y="0"/>
                    </a:lnTo>
                    <a:lnTo>
                      <a:pt x="44" y="42"/>
                    </a:lnTo>
                    <a:lnTo>
                      <a:pt x="53" y="77"/>
                    </a:lnTo>
                    <a:lnTo>
                      <a:pt x="26" y="7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32"/>
              <p:cNvSpPr/>
              <p:nvPr/>
            </p:nvSpPr>
            <p:spPr>
              <a:xfrm>
                <a:off x="3879720" y="2103120"/>
                <a:ext cx="61560" cy="21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3" h="30">
                    <a:moveTo>
                      <a:pt x="83" y="30"/>
                    </a:moveTo>
                    <a:lnTo>
                      <a:pt x="50" y="30"/>
                    </a:lnTo>
                    <a:lnTo>
                      <a:pt x="20" y="27"/>
                    </a:lnTo>
                    <a:lnTo>
                      <a:pt x="0" y="2"/>
                    </a:lnTo>
                    <a:lnTo>
                      <a:pt x="40" y="8"/>
                    </a:lnTo>
                    <a:lnTo>
                      <a:pt x="69" y="0"/>
                    </a:lnTo>
                    <a:lnTo>
                      <a:pt x="83" y="3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3"/>
              <p:cNvSpPr/>
              <p:nvPr/>
            </p:nvSpPr>
            <p:spPr>
              <a:xfrm>
                <a:off x="3935160" y="2074680"/>
                <a:ext cx="21960" cy="4104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29" y="58"/>
                    </a:moveTo>
                    <a:lnTo>
                      <a:pt x="3" y="31"/>
                    </a:lnTo>
                    <a:lnTo>
                      <a:pt x="0" y="0"/>
                    </a:lnTo>
                    <a:lnTo>
                      <a:pt x="29" y="5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34"/>
              <p:cNvSpPr/>
              <p:nvPr/>
            </p:nvSpPr>
            <p:spPr>
              <a:xfrm>
                <a:off x="3120840" y="3179880"/>
                <a:ext cx="268200" cy="39672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358" h="529">
                    <a:moveTo>
                      <a:pt x="238" y="515"/>
                    </a:moveTo>
                    <a:lnTo>
                      <a:pt x="212" y="529"/>
                    </a:lnTo>
                    <a:lnTo>
                      <a:pt x="190" y="499"/>
                    </a:lnTo>
                    <a:lnTo>
                      <a:pt x="206" y="528"/>
                    </a:lnTo>
                    <a:lnTo>
                      <a:pt x="179" y="494"/>
                    </a:lnTo>
                    <a:lnTo>
                      <a:pt x="147" y="497"/>
                    </a:lnTo>
                    <a:lnTo>
                      <a:pt x="134" y="471"/>
                    </a:lnTo>
                    <a:lnTo>
                      <a:pt x="106" y="447"/>
                    </a:lnTo>
                    <a:lnTo>
                      <a:pt x="109" y="482"/>
                    </a:lnTo>
                    <a:lnTo>
                      <a:pt x="90" y="442"/>
                    </a:lnTo>
                    <a:lnTo>
                      <a:pt x="55" y="417"/>
                    </a:lnTo>
                    <a:lnTo>
                      <a:pt x="32" y="401"/>
                    </a:lnTo>
                    <a:lnTo>
                      <a:pt x="56" y="384"/>
                    </a:lnTo>
                    <a:lnTo>
                      <a:pt x="58" y="352"/>
                    </a:lnTo>
                    <a:lnTo>
                      <a:pt x="85" y="364"/>
                    </a:lnTo>
                    <a:lnTo>
                      <a:pt x="68" y="328"/>
                    </a:lnTo>
                    <a:lnTo>
                      <a:pt x="105" y="306"/>
                    </a:lnTo>
                    <a:lnTo>
                      <a:pt x="75" y="318"/>
                    </a:lnTo>
                    <a:lnTo>
                      <a:pt x="89" y="272"/>
                    </a:lnTo>
                    <a:lnTo>
                      <a:pt x="53" y="290"/>
                    </a:lnTo>
                    <a:lnTo>
                      <a:pt x="53" y="255"/>
                    </a:lnTo>
                    <a:lnTo>
                      <a:pt x="20" y="259"/>
                    </a:lnTo>
                    <a:lnTo>
                      <a:pt x="0" y="214"/>
                    </a:lnTo>
                    <a:lnTo>
                      <a:pt x="13" y="174"/>
                    </a:lnTo>
                    <a:lnTo>
                      <a:pt x="66" y="133"/>
                    </a:lnTo>
                    <a:lnTo>
                      <a:pt x="76" y="167"/>
                    </a:lnTo>
                    <a:lnTo>
                      <a:pt x="104" y="133"/>
                    </a:lnTo>
                    <a:lnTo>
                      <a:pt x="132" y="106"/>
                    </a:lnTo>
                    <a:lnTo>
                      <a:pt x="160" y="103"/>
                    </a:lnTo>
                    <a:lnTo>
                      <a:pt x="138" y="70"/>
                    </a:lnTo>
                    <a:lnTo>
                      <a:pt x="160" y="43"/>
                    </a:lnTo>
                    <a:lnTo>
                      <a:pt x="193" y="57"/>
                    </a:lnTo>
                    <a:lnTo>
                      <a:pt x="206" y="15"/>
                    </a:lnTo>
                    <a:lnTo>
                      <a:pt x="231" y="0"/>
                    </a:lnTo>
                    <a:lnTo>
                      <a:pt x="260" y="14"/>
                    </a:lnTo>
                    <a:lnTo>
                      <a:pt x="313" y="3"/>
                    </a:lnTo>
                    <a:lnTo>
                      <a:pt x="323" y="31"/>
                    </a:lnTo>
                    <a:lnTo>
                      <a:pt x="349" y="64"/>
                    </a:lnTo>
                    <a:lnTo>
                      <a:pt x="358" y="91"/>
                    </a:lnTo>
                    <a:lnTo>
                      <a:pt x="329" y="91"/>
                    </a:lnTo>
                    <a:lnTo>
                      <a:pt x="321" y="138"/>
                    </a:lnTo>
                    <a:lnTo>
                      <a:pt x="288" y="128"/>
                    </a:lnTo>
                    <a:lnTo>
                      <a:pt x="293" y="160"/>
                    </a:lnTo>
                    <a:lnTo>
                      <a:pt x="264" y="178"/>
                    </a:lnTo>
                    <a:lnTo>
                      <a:pt x="241" y="209"/>
                    </a:lnTo>
                    <a:lnTo>
                      <a:pt x="227" y="250"/>
                    </a:lnTo>
                    <a:lnTo>
                      <a:pt x="206" y="318"/>
                    </a:lnTo>
                    <a:lnTo>
                      <a:pt x="197" y="379"/>
                    </a:lnTo>
                    <a:lnTo>
                      <a:pt x="213" y="458"/>
                    </a:lnTo>
                    <a:lnTo>
                      <a:pt x="238" y="515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35"/>
              <p:cNvSpPr/>
              <p:nvPr/>
            </p:nvSpPr>
            <p:spPr>
              <a:xfrm>
                <a:off x="3975120" y="2043000"/>
                <a:ext cx="28440" cy="23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8" h="32">
                    <a:moveTo>
                      <a:pt x="38" y="31"/>
                    </a:moveTo>
                    <a:lnTo>
                      <a:pt x="0" y="32"/>
                    </a:lnTo>
                    <a:lnTo>
                      <a:pt x="1" y="0"/>
                    </a:lnTo>
                    <a:lnTo>
                      <a:pt x="38" y="3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36"/>
              <p:cNvSpPr/>
              <p:nvPr/>
            </p:nvSpPr>
            <p:spPr>
              <a:xfrm>
                <a:off x="4019400" y="2207880"/>
                <a:ext cx="77760" cy="745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15" h="101">
                    <a:moveTo>
                      <a:pt x="48" y="101"/>
                    </a:moveTo>
                    <a:lnTo>
                      <a:pt x="5" y="96"/>
                    </a:lnTo>
                    <a:lnTo>
                      <a:pt x="0" y="60"/>
                    </a:lnTo>
                    <a:lnTo>
                      <a:pt x="34" y="35"/>
                    </a:lnTo>
                    <a:lnTo>
                      <a:pt x="71" y="30"/>
                    </a:lnTo>
                    <a:lnTo>
                      <a:pt x="91" y="0"/>
                    </a:lnTo>
                    <a:lnTo>
                      <a:pt x="115" y="25"/>
                    </a:lnTo>
                    <a:lnTo>
                      <a:pt x="104" y="68"/>
                    </a:lnTo>
                    <a:lnTo>
                      <a:pt x="48" y="10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37"/>
              <p:cNvSpPr/>
              <p:nvPr/>
            </p:nvSpPr>
            <p:spPr>
              <a:xfrm>
                <a:off x="3925800" y="2228760"/>
                <a:ext cx="80640" cy="698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80" y="0"/>
                    </a:moveTo>
                    <a:lnTo>
                      <a:pt x="115" y="20"/>
                    </a:lnTo>
                    <a:lnTo>
                      <a:pt x="99" y="46"/>
                    </a:lnTo>
                    <a:lnTo>
                      <a:pt x="50" y="95"/>
                    </a:lnTo>
                    <a:lnTo>
                      <a:pt x="27" y="68"/>
                    </a:lnTo>
                    <a:lnTo>
                      <a:pt x="0" y="42"/>
                    </a:lnTo>
                    <a:lnTo>
                      <a:pt x="27" y="3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38"/>
              <p:cNvSpPr/>
              <p:nvPr/>
            </p:nvSpPr>
            <p:spPr>
              <a:xfrm>
                <a:off x="2900160" y="3700440"/>
                <a:ext cx="23760" cy="61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4" y="8"/>
                    </a:moveTo>
                    <a:lnTo>
                      <a:pt x="0" y="0"/>
                    </a:lnTo>
                    <a:lnTo>
                      <a:pt x="33" y="5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539"/>
              <p:cNvSpPr/>
              <p:nvPr/>
            </p:nvSpPr>
            <p:spPr>
              <a:xfrm>
                <a:off x="3968640" y="2184120"/>
                <a:ext cx="39600" cy="26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53" h="39">
                    <a:moveTo>
                      <a:pt x="53" y="30"/>
                    </a:moveTo>
                    <a:lnTo>
                      <a:pt x="27" y="39"/>
                    </a:lnTo>
                    <a:lnTo>
                      <a:pt x="0" y="22"/>
                    </a:lnTo>
                    <a:lnTo>
                      <a:pt x="50" y="0"/>
                    </a:lnTo>
                    <a:lnTo>
                      <a:pt x="53" y="3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540"/>
              <p:cNvSpPr/>
              <p:nvPr/>
            </p:nvSpPr>
            <p:spPr>
              <a:xfrm>
                <a:off x="3735360" y="2207880"/>
                <a:ext cx="39600" cy="378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2" h="51">
                    <a:moveTo>
                      <a:pt x="7" y="51"/>
                    </a:moveTo>
                    <a:lnTo>
                      <a:pt x="0" y="16"/>
                    </a:lnTo>
                    <a:lnTo>
                      <a:pt x="34" y="0"/>
                    </a:lnTo>
                    <a:lnTo>
                      <a:pt x="52" y="38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41"/>
              <p:cNvSpPr/>
              <p:nvPr/>
            </p:nvSpPr>
            <p:spPr>
              <a:xfrm>
                <a:off x="4073400" y="2108160"/>
                <a:ext cx="23760" cy="205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6" h="27">
                    <a:moveTo>
                      <a:pt x="0" y="27"/>
                    </a:moveTo>
                    <a:lnTo>
                      <a:pt x="10" y="0"/>
                    </a:lnTo>
                    <a:lnTo>
                      <a:pt x="36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42"/>
              <p:cNvSpPr/>
              <p:nvPr/>
            </p:nvSpPr>
            <p:spPr>
              <a:xfrm>
                <a:off x="3587760" y="2062080"/>
                <a:ext cx="96840" cy="536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36" h="73">
                    <a:moveTo>
                      <a:pt x="0" y="0"/>
                    </a:moveTo>
                    <a:lnTo>
                      <a:pt x="37" y="2"/>
                    </a:lnTo>
                    <a:lnTo>
                      <a:pt x="113" y="0"/>
                    </a:lnTo>
                    <a:lnTo>
                      <a:pt x="136" y="35"/>
                    </a:lnTo>
                    <a:lnTo>
                      <a:pt x="120" y="73"/>
                    </a:lnTo>
                    <a:lnTo>
                      <a:pt x="102" y="20"/>
                    </a:lnTo>
                    <a:lnTo>
                      <a:pt x="85" y="46"/>
                    </a:lnTo>
                    <a:lnTo>
                      <a:pt x="59" y="59"/>
                    </a:lnTo>
                    <a:lnTo>
                      <a:pt x="17" y="58"/>
                    </a:lnTo>
                    <a:lnTo>
                      <a:pt x="1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43"/>
              <p:cNvSpPr/>
              <p:nvPr/>
            </p:nvSpPr>
            <p:spPr>
              <a:xfrm>
                <a:off x="3665520" y="2222280"/>
                <a:ext cx="28440" cy="33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9" h="43">
                    <a:moveTo>
                      <a:pt x="39" y="43"/>
                    </a:moveTo>
                    <a:lnTo>
                      <a:pt x="0" y="27"/>
                    </a:lnTo>
                    <a:lnTo>
                      <a:pt x="36" y="0"/>
                    </a:lnTo>
                    <a:lnTo>
                      <a:pt x="39" y="43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544"/>
              <p:cNvSpPr/>
              <p:nvPr/>
            </p:nvSpPr>
            <p:spPr>
              <a:xfrm>
                <a:off x="3327120" y="2876400"/>
                <a:ext cx="666720" cy="352440"/>
              </a:xfrm>
              <a:custGeom>
                <a:avLst/>
                <a:gdLst>
                  <a:gd name="textAreaLeft" fmla="*/ 0 w 666720"/>
                  <a:gd name="textAreaRight" fmla="*/ 666720 w 6667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888" h="473">
                    <a:moveTo>
                      <a:pt x="107" y="473"/>
                    </a:moveTo>
                    <a:lnTo>
                      <a:pt x="93" y="434"/>
                    </a:lnTo>
                    <a:lnTo>
                      <a:pt x="57" y="434"/>
                    </a:lnTo>
                    <a:lnTo>
                      <a:pt x="40" y="402"/>
                    </a:lnTo>
                    <a:lnTo>
                      <a:pt x="0" y="406"/>
                    </a:lnTo>
                    <a:lnTo>
                      <a:pt x="20" y="371"/>
                    </a:lnTo>
                    <a:lnTo>
                      <a:pt x="73" y="369"/>
                    </a:lnTo>
                    <a:lnTo>
                      <a:pt x="33" y="353"/>
                    </a:lnTo>
                    <a:lnTo>
                      <a:pt x="4" y="326"/>
                    </a:lnTo>
                    <a:lnTo>
                      <a:pt x="42" y="315"/>
                    </a:lnTo>
                    <a:lnTo>
                      <a:pt x="74" y="310"/>
                    </a:lnTo>
                    <a:lnTo>
                      <a:pt x="100" y="289"/>
                    </a:lnTo>
                    <a:lnTo>
                      <a:pt x="134" y="312"/>
                    </a:lnTo>
                    <a:lnTo>
                      <a:pt x="113" y="271"/>
                    </a:lnTo>
                    <a:lnTo>
                      <a:pt x="144" y="274"/>
                    </a:lnTo>
                    <a:lnTo>
                      <a:pt x="150" y="244"/>
                    </a:lnTo>
                    <a:lnTo>
                      <a:pt x="179" y="206"/>
                    </a:lnTo>
                    <a:lnTo>
                      <a:pt x="218" y="240"/>
                    </a:lnTo>
                    <a:lnTo>
                      <a:pt x="189" y="192"/>
                    </a:lnTo>
                    <a:lnTo>
                      <a:pt x="239" y="187"/>
                    </a:lnTo>
                    <a:lnTo>
                      <a:pt x="206" y="157"/>
                    </a:lnTo>
                    <a:lnTo>
                      <a:pt x="228" y="125"/>
                    </a:lnTo>
                    <a:lnTo>
                      <a:pt x="236" y="159"/>
                    </a:lnTo>
                    <a:lnTo>
                      <a:pt x="272" y="138"/>
                    </a:lnTo>
                    <a:lnTo>
                      <a:pt x="315" y="142"/>
                    </a:lnTo>
                    <a:lnTo>
                      <a:pt x="313" y="114"/>
                    </a:lnTo>
                    <a:lnTo>
                      <a:pt x="353" y="108"/>
                    </a:lnTo>
                    <a:lnTo>
                      <a:pt x="379" y="84"/>
                    </a:lnTo>
                    <a:lnTo>
                      <a:pt x="407" y="65"/>
                    </a:lnTo>
                    <a:lnTo>
                      <a:pt x="473" y="65"/>
                    </a:lnTo>
                    <a:lnTo>
                      <a:pt x="499" y="54"/>
                    </a:lnTo>
                    <a:lnTo>
                      <a:pt x="522" y="34"/>
                    </a:lnTo>
                    <a:lnTo>
                      <a:pt x="552" y="34"/>
                    </a:lnTo>
                    <a:lnTo>
                      <a:pt x="580" y="56"/>
                    </a:lnTo>
                    <a:lnTo>
                      <a:pt x="600" y="77"/>
                    </a:lnTo>
                    <a:lnTo>
                      <a:pt x="632" y="72"/>
                    </a:lnTo>
                    <a:lnTo>
                      <a:pt x="680" y="61"/>
                    </a:lnTo>
                    <a:lnTo>
                      <a:pt x="708" y="55"/>
                    </a:lnTo>
                    <a:lnTo>
                      <a:pt x="735" y="49"/>
                    </a:lnTo>
                    <a:lnTo>
                      <a:pt x="763" y="18"/>
                    </a:lnTo>
                    <a:lnTo>
                      <a:pt x="817" y="0"/>
                    </a:lnTo>
                    <a:lnTo>
                      <a:pt x="856" y="1"/>
                    </a:lnTo>
                    <a:lnTo>
                      <a:pt x="883" y="23"/>
                    </a:lnTo>
                    <a:lnTo>
                      <a:pt x="888" y="74"/>
                    </a:lnTo>
                    <a:lnTo>
                      <a:pt x="858" y="117"/>
                    </a:lnTo>
                    <a:lnTo>
                      <a:pt x="836" y="137"/>
                    </a:lnTo>
                    <a:lnTo>
                      <a:pt x="778" y="164"/>
                    </a:lnTo>
                    <a:lnTo>
                      <a:pt x="607" y="193"/>
                    </a:lnTo>
                    <a:lnTo>
                      <a:pt x="574" y="198"/>
                    </a:lnTo>
                    <a:lnTo>
                      <a:pt x="525" y="208"/>
                    </a:lnTo>
                    <a:lnTo>
                      <a:pt x="483" y="223"/>
                    </a:lnTo>
                    <a:lnTo>
                      <a:pt x="445" y="231"/>
                    </a:lnTo>
                    <a:lnTo>
                      <a:pt x="417" y="250"/>
                    </a:lnTo>
                    <a:lnTo>
                      <a:pt x="380" y="249"/>
                    </a:lnTo>
                    <a:lnTo>
                      <a:pt x="413" y="266"/>
                    </a:lnTo>
                    <a:lnTo>
                      <a:pt x="386" y="276"/>
                    </a:lnTo>
                    <a:lnTo>
                      <a:pt x="359" y="290"/>
                    </a:lnTo>
                    <a:lnTo>
                      <a:pt x="323" y="267"/>
                    </a:lnTo>
                    <a:lnTo>
                      <a:pt x="314" y="300"/>
                    </a:lnTo>
                    <a:lnTo>
                      <a:pt x="298" y="326"/>
                    </a:lnTo>
                    <a:lnTo>
                      <a:pt x="275" y="285"/>
                    </a:lnTo>
                    <a:lnTo>
                      <a:pt x="281" y="323"/>
                    </a:lnTo>
                    <a:lnTo>
                      <a:pt x="274" y="354"/>
                    </a:lnTo>
                    <a:lnTo>
                      <a:pt x="244" y="369"/>
                    </a:lnTo>
                    <a:lnTo>
                      <a:pt x="216" y="341"/>
                    </a:lnTo>
                    <a:lnTo>
                      <a:pt x="207" y="386"/>
                    </a:lnTo>
                    <a:lnTo>
                      <a:pt x="192" y="420"/>
                    </a:lnTo>
                    <a:lnTo>
                      <a:pt x="176" y="384"/>
                    </a:lnTo>
                    <a:lnTo>
                      <a:pt x="177" y="422"/>
                    </a:lnTo>
                    <a:lnTo>
                      <a:pt x="157" y="442"/>
                    </a:lnTo>
                    <a:lnTo>
                      <a:pt x="141" y="404"/>
                    </a:lnTo>
                    <a:lnTo>
                      <a:pt x="146" y="453"/>
                    </a:lnTo>
                    <a:lnTo>
                      <a:pt x="107" y="473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545"/>
              <p:cNvSpPr/>
              <p:nvPr/>
            </p:nvSpPr>
            <p:spPr>
              <a:xfrm>
                <a:off x="3817800" y="2160360"/>
                <a:ext cx="25200" cy="298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4" h="34">
                    <a:moveTo>
                      <a:pt x="44" y="10"/>
                    </a:moveTo>
                    <a:lnTo>
                      <a:pt x="18" y="34"/>
                    </a:lnTo>
                    <a:lnTo>
                      <a:pt x="0" y="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46"/>
              <p:cNvSpPr/>
              <p:nvPr/>
            </p:nvSpPr>
            <p:spPr>
              <a:xfrm>
                <a:off x="3846240" y="2247840"/>
                <a:ext cx="66600" cy="47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81" h="63">
                    <a:moveTo>
                      <a:pt x="0" y="61"/>
                    </a:moveTo>
                    <a:lnTo>
                      <a:pt x="17" y="0"/>
                    </a:lnTo>
                    <a:lnTo>
                      <a:pt x="50" y="4"/>
                    </a:lnTo>
                    <a:lnTo>
                      <a:pt x="81" y="30"/>
                    </a:lnTo>
                    <a:lnTo>
                      <a:pt x="34" y="63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47"/>
              <p:cNvSpPr/>
              <p:nvPr/>
            </p:nvSpPr>
            <p:spPr>
              <a:xfrm>
                <a:off x="3905280" y="233028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5" h="37">
                    <a:moveTo>
                      <a:pt x="5" y="0"/>
                    </a:moveTo>
                    <a:lnTo>
                      <a:pt x="25" y="21"/>
                    </a:lnTo>
                    <a:lnTo>
                      <a:pt x="0" y="3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548"/>
              <p:cNvSpPr/>
              <p:nvPr/>
            </p:nvSpPr>
            <p:spPr>
              <a:xfrm>
                <a:off x="3127320" y="3389400"/>
                <a:ext cx="26640" cy="475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0" h="63">
                    <a:moveTo>
                      <a:pt x="0" y="6"/>
                    </a:moveTo>
                    <a:lnTo>
                      <a:pt x="32" y="0"/>
                    </a:lnTo>
                    <a:lnTo>
                      <a:pt x="40" y="39"/>
                    </a:lnTo>
                    <a:lnTo>
                      <a:pt x="24" y="6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549"/>
              <p:cNvSpPr/>
              <p:nvPr/>
            </p:nvSpPr>
            <p:spPr>
              <a:xfrm>
                <a:off x="3811320" y="2252520"/>
                <a:ext cx="37800" cy="48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53" h="62">
                    <a:moveTo>
                      <a:pt x="0" y="58"/>
                    </a:moveTo>
                    <a:lnTo>
                      <a:pt x="24" y="0"/>
                    </a:lnTo>
                    <a:lnTo>
                      <a:pt x="53" y="16"/>
                    </a:lnTo>
                    <a:lnTo>
                      <a:pt x="39" y="62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550"/>
              <p:cNvSpPr/>
              <p:nvPr/>
            </p:nvSpPr>
            <p:spPr>
              <a:xfrm>
                <a:off x="3600360" y="2077920"/>
                <a:ext cx="150480" cy="11268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145">
                    <a:moveTo>
                      <a:pt x="121" y="88"/>
                    </a:moveTo>
                    <a:lnTo>
                      <a:pt x="85" y="92"/>
                    </a:lnTo>
                    <a:lnTo>
                      <a:pt x="72" y="135"/>
                    </a:lnTo>
                    <a:lnTo>
                      <a:pt x="36" y="145"/>
                    </a:lnTo>
                    <a:lnTo>
                      <a:pt x="7" y="126"/>
                    </a:lnTo>
                    <a:lnTo>
                      <a:pt x="39" y="115"/>
                    </a:lnTo>
                    <a:lnTo>
                      <a:pt x="0" y="99"/>
                    </a:lnTo>
                    <a:lnTo>
                      <a:pt x="1" y="70"/>
                    </a:lnTo>
                    <a:lnTo>
                      <a:pt x="36" y="61"/>
                    </a:lnTo>
                    <a:lnTo>
                      <a:pt x="55" y="86"/>
                    </a:lnTo>
                    <a:lnTo>
                      <a:pt x="66" y="55"/>
                    </a:lnTo>
                    <a:lnTo>
                      <a:pt x="102" y="70"/>
                    </a:lnTo>
                    <a:lnTo>
                      <a:pt x="124" y="49"/>
                    </a:lnTo>
                    <a:lnTo>
                      <a:pt x="175" y="0"/>
                    </a:lnTo>
                    <a:lnTo>
                      <a:pt x="199" y="15"/>
                    </a:lnTo>
                    <a:lnTo>
                      <a:pt x="167" y="48"/>
                    </a:lnTo>
                    <a:lnTo>
                      <a:pt x="200" y="51"/>
                    </a:lnTo>
                    <a:lnTo>
                      <a:pt x="202" y="87"/>
                    </a:lnTo>
                    <a:lnTo>
                      <a:pt x="173" y="99"/>
                    </a:lnTo>
                    <a:lnTo>
                      <a:pt x="121" y="8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551"/>
              <p:cNvSpPr/>
              <p:nvPr/>
            </p:nvSpPr>
            <p:spPr>
              <a:xfrm>
                <a:off x="2271600" y="3886200"/>
                <a:ext cx="1247760" cy="782640"/>
              </a:xfrm>
              <a:custGeom>
                <a:avLst/>
                <a:gdLst>
                  <a:gd name="textAreaLeft" fmla="*/ 0 w 1247760"/>
                  <a:gd name="textAreaRight" fmla="*/ 1248120 w 124776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1655" h="1048">
                    <a:moveTo>
                      <a:pt x="71" y="785"/>
                    </a:moveTo>
                    <a:lnTo>
                      <a:pt x="80" y="761"/>
                    </a:lnTo>
                    <a:lnTo>
                      <a:pt x="170" y="762"/>
                    </a:lnTo>
                    <a:lnTo>
                      <a:pt x="201" y="709"/>
                    </a:lnTo>
                    <a:lnTo>
                      <a:pt x="179" y="680"/>
                    </a:lnTo>
                    <a:lnTo>
                      <a:pt x="237" y="628"/>
                    </a:lnTo>
                    <a:lnTo>
                      <a:pt x="299" y="545"/>
                    </a:lnTo>
                    <a:lnTo>
                      <a:pt x="257" y="505"/>
                    </a:lnTo>
                    <a:lnTo>
                      <a:pt x="220" y="503"/>
                    </a:lnTo>
                    <a:lnTo>
                      <a:pt x="194" y="532"/>
                    </a:lnTo>
                    <a:lnTo>
                      <a:pt x="178" y="563"/>
                    </a:lnTo>
                    <a:lnTo>
                      <a:pt x="132" y="552"/>
                    </a:lnTo>
                    <a:lnTo>
                      <a:pt x="119" y="513"/>
                    </a:lnTo>
                    <a:lnTo>
                      <a:pt x="146" y="472"/>
                    </a:lnTo>
                    <a:lnTo>
                      <a:pt x="150" y="437"/>
                    </a:lnTo>
                    <a:lnTo>
                      <a:pt x="192" y="400"/>
                    </a:lnTo>
                    <a:lnTo>
                      <a:pt x="204" y="339"/>
                    </a:lnTo>
                    <a:lnTo>
                      <a:pt x="210" y="299"/>
                    </a:lnTo>
                    <a:lnTo>
                      <a:pt x="197" y="260"/>
                    </a:lnTo>
                    <a:lnTo>
                      <a:pt x="171" y="225"/>
                    </a:lnTo>
                    <a:lnTo>
                      <a:pt x="165" y="183"/>
                    </a:lnTo>
                    <a:lnTo>
                      <a:pt x="200" y="187"/>
                    </a:lnTo>
                    <a:lnTo>
                      <a:pt x="241" y="203"/>
                    </a:lnTo>
                    <a:lnTo>
                      <a:pt x="332" y="281"/>
                    </a:lnTo>
                    <a:lnTo>
                      <a:pt x="361" y="277"/>
                    </a:lnTo>
                    <a:lnTo>
                      <a:pt x="398" y="276"/>
                    </a:lnTo>
                    <a:lnTo>
                      <a:pt x="444" y="285"/>
                    </a:lnTo>
                    <a:lnTo>
                      <a:pt x="482" y="318"/>
                    </a:lnTo>
                    <a:lnTo>
                      <a:pt x="515" y="282"/>
                    </a:lnTo>
                    <a:lnTo>
                      <a:pt x="494" y="253"/>
                    </a:lnTo>
                    <a:lnTo>
                      <a:pt x="497" y="187"/>
                    </a:lnTo>
                    <a:lnTo>
                      <a:pt x="464" y="171"/>
                    </a:lnTo>
                    <a:lnTo>
                      <a:pt x="535" y="44"/>
                    </a:lnTo>
                    <a:lnTo>
                      <a:pt x="728" y="30"/>
                    </a:lnTo>
                    <a:lnTo>
                      <a:pt x="744" y="5"/>
                    </a:lnTo>
                    <a:lnTo>
                      <a:pt x="761" y="0"/>
                    </a:lnTo>
                    <a:lnTo>
                      <a:pt x="763" y="5"/>
                    </a:lnTo>
                    <a:lnTo>
                      <a:pt x="790" y="3"/>
                    </a:lnTo>
                    <a:lnTo>
                      <a:pt x="876" y="70"/>
                    </a:lnTo>
                    <a:lnTo>
                      <a:pt x="919" y="92"/>
                    </a:lnTo>
                    <a:lnTo>
                      <a:pt x="1175" y="204"/>
                    </a:lnTo>
                    <a:lnTo>
                      <a:pt x="1342" y="274"/>
                    </a:lnTo>
                    <a:lnTo>
                      <a:pt x="1442" y="250"/>
                    </a:lnTo>
                    <a:lnTo>
                      <a:pt x="1446" y="226"/>
                    </a:lnTo>
                    <a:lnTo>
                      <a:pt x="1486" y="198"/>
                    </a:lnTo>
                    <a:lnTo>
                      <a:pt x="1504" y="214"/>
                    </a:lnTo>
                    <a:lnTo>
                      <a:pt x="1513" y="200"/>
                    </a:lnTo>
                    <a:lnTo>
                      <a:pt x="1525" y="206"/>
                    </a:lnTo>
                    <a:lnTo>
                      <a:pt x="1533" y="189"/>
                    </a:lnTo>
                    <a:lnTo>
                      <a:pt x="1553" y="160"/>
                    </a:lnTo>
                    <a:lnTo>
                      <a:pt x="1576" y="151"/>
                    </a:lnTo>
                    <a:lnTo>
                      <a:pt x="1591" y="129"/>
                    </a:lnTo>
                    <a:lnTo>
                      <a:pt x="1617" y="145"/>
                    </a:lnTo>
                    <a:lnTo>
                      <a:pt x="1631" y="134"/>
                    </a:lnTo>
                    <a:lnTo>
                      <a:pt x="1639" y="141"/>
                    </a:lnTo>
                    <a:lnTo>
                      <a:pt x="1626" y="153"/>
                    </a:lnTo>
                    <a:lnTo>
                      <a:pt x="1615" y="199"/>
                    </a:lnTo>
                    <a:lnTo>
                      <a:pt x="1623" y="226"/>
                    </a:lnTo>
                    <a:lnTo>
                      <a:pt x="1642" y="238"/>
                    </a:lnTo>
                    <a:lnTo>
                      <a:pt x="1651" y="238"/>
                    </a:lnTo>
                    <a:lnTo>
                      <a:pt x="1655" y="281"/>
                    </a:lnTo>
                    <a:lnTo>
                      <a:pt x="1643" y="282"/>
                    </a:lnTo>
                    <a:lnTo>
                      <a:pt x="1630" y="269"/>
                    </a:lnTo>
                    <a:lnTo>
                      <a:pt x="1613" y="285"/>
                    </a:lnTo>
                    <a:lnTo>
                      <a:pt x="1618" y="291"/>
                    </a:lnTo>
                    <a:lnTo>
                      <a:pt x="1634" y="288"/>
                    </a:lnTo>
                    <a:lnTo>
                      <a:pt x="1618" y="315"/>
                    </a:lnTo>
                    <a:lnTo>
                      <a:pt x="1602" y="306"/>
                    </a:lnTo>
                    <a:lnTo>
                      <a:pt x="1600" y="323"/>
                    </a:lnTo>
                    <a:lnTo>
                      <a:pt x="1558" y="334"/>
                    </a:lnTo>
                    <a:lnTo>
                      <a:pt x="1553" y="351"/>
                    </a:lnTo>
                    <a:lnTo>
                      <a:pt x="1541" y="348"/>
                    </a:lnTo>
                    <a:lnTo>
                      <a:pt x="1532" y="383"/>
                    </a:lnTo>
                    <a:lnTo>
                      <a:pt x="1498" y="380"/>
                    </a:lnTo>
                    <a:lnTo>
                      <a:pt x="1495" y="389"/>
                    </a:lnTo>
                    <a:lnTo>
                      <a:pt x="1484" y="388"/>
                    </a:lnTo>
                    <a:lnTo>
                      <a:pt x="1479" y="400"/>
                    </a:lnTo>
                    <a:lnTo>
                      <a:pt x="1450" y="386"/>
                    </a:lnTo>
                    <a:lnTo>
                      <a:pt x="1434" y="405"/>
                    </a:lnTo>
                    <a:lnTo>
                      <a:pt x="1420" y="407"/>
                    </a:lnTo>
                    <a:lnTo>
                      <a:pt x="1394" y="428"/>
                    </a:lnTo>
                    <a:lnTo>
                      <a:pt x="1395" y="439"/>
                    </a:lnTo>
                    <a:lnTo>
                      <a:pt x="1386" y="445"/>
                    </a:lnTo>
                    <a:lnTo>
                      <a:pt x="1383" y="434"/>
                    </a:lnTo>
                    <a:lnTo>
                      <a:pt x="1348" y="465"/>
                    </a:lnTo>
                    <a:lnTo>
                      <a:pt x="1354" y="478"/>
                    </a:lnTo>
                    <a:lnTo>
                      <a:pt x="1323" y="497"/>
                    </a:lnTo>
                    <a:lnTo>
                      <a:pt x="1315" y="491"/>
                    </a:lnTo>
                    <a:lnTo>
                      <a:pt x="1290" y="499"/>
                    </a:lnTo>
                    <a:lnTo>
                      <a:pt x="1274" y="514"/>
                    </a:lnTo>
                    <a:lnTo>
                      <a:pt x="1245" y="519"/>
                    </a:lnTo>
                    <a:lnTo>
                      <a:pt x="1208" y="542"/>
                    </a:lnTo>
                    <a:lnTo>
                      <a:pt x="1212" y="557"/>
                    </a:lnTo>
                    <a:lnTo>
                      <a:pt x="1182" y="578"/>
                    </a:lnTo>
                    <a:lnTo>
                      <a:pt x="1173" y="573"/>
                    </a:lnTo>
                    <a:lnTo>
                      <a:pt x="1143" y="590"/>
                    </a:lnTo>
                    <a:lnTo>
                      <a:pt x="1139" y="583"/>
                    </a:lnTo>
                    <a:lnTo>
                      <a:pt x="1145" y="578"/>
                    </a:lnTo>
                    <a:lnTo>
                      <a:pt x="1141" y="575"/>
                    </a:lnTo>
                    <a:lnTo>
                      <a:pt x="1136" y="553"/>
                    </a:lnTo>
                    <a:lnTo>
                      <a:pt x="1128" y="547"/>
                    </a:lnTo>
                    <a:lnTo>
                      <a:pt x="1089" y="574"/>
                    </a:lnTo>
                    <a:lnTo>
                      <a:pt x="1081" y="572"/>
                    </a:lnTo>
                    <a:lnTo>
                      <a:pt x="1075" y="577"/>
                    </a:lnTo>
                    <a:lnTo>
                      <a:pt x="1075" y="600"/>
                    </a:lnTo>
                    <a:lnTo>
                      <a:pt x="1056" y="616"/>
                    </a:lnTo>
                    <a:lnTo>
                      <a:pt x="1049" y="655"/>
                    </a:lnTo>
                    <a:lnTo>
                      <a:pt x="1054" y="681"/>
                    </a:lnTo>
                    <a:lnTo>
                      <a:pt x="1033" y="693"/>
                    </a:lnTo>
                    <a:lnTo>
                      <a:pt x="1009" y="720"/>
                    </a:lnTo>
                    <a:lnTo>
                      <a:pt x="986" y="775"/>
                    </a:lnTo>
                    <a:lnTo>
                      <a:pt x="973" y="785"/>
                    </a:lnTo>
                    <a:lnTo>
                      <a:pt x="969" y="817"/>
                    </a:lnTo>
                    <a:lnTo>
                      <a:pt x="951" y="819"/>
                    </a:lnTo>
                    <a:lnTo>
                      <a:pt x="945" y="829"/>
                    </a:lnTo>
                    <a:lnTo>
                      <a:pt x="944" y="844"/>
                    </a:lnTo>
                    <a:lnTo>
                      <a:pt x="951" y="857"/>
                    </a:lnTo>
                    <a:lnTo>
                      <a:pt x="946" y="870"/>
                    </a:lnTo>
                    <a:lnTo>
                      <a:pt x="935" y="876"/>
                    </a:lnTo>
                    <a:lnTo>
                      <a:pt x="935" y="892"/>
                    </a:lnTo>
                    <a:lnTo>
                      <a:pt x="930" y="904"/>
                    </a:lnTo>
                    <a:lnTo>
                      <a:pt x="935" y="914"/>
                    </a:lnTo>
                    <a:lnTo>
                      <a:pt x="932" y="934"/>
                    </a:lnTo>
                    <a:lnTo>
                      <a:pt x="918" y="952"/>
                    </a:lnTo>
                    <a:lnTo>
                      <a:pt x="899" y="970"/>
                    </a:lnTo>
                    <a:lnTo>
                      <a:pt x="894" y="986"/>
                    </a:lnTo>
                    <a:lnTo>
                      <a:pt x="880" y="1001"/>
                    </a:lnTo>
                    <a:lnTo>
                      <a:pt x="850" y="1024"/>
                    </a:lnTo>
                    <a:lnTo>
                      <a:pt x="798" y="1035"/>
                    </a:lnTo>
                    <a:lnTo>
                      <a:pt x="696" y="989"/>
                    </a:lnTo>
                    <a:lnTo>
                      <a:pt x="664" y="973"/>
                    </a:lnTo>
                    <a:lnTo>
                      <a:pt x="630" y="980"/>
                    </a:lnTo>
                    <a:lnTo>
                      <a:pt x="586" y="981"/>
                    </a:lnTo>
                    <a:lnTo>
                      <a:pt x="546" y="979"/>
                    </a:lnTo>
                    <a:lnTo>
                      <a:pt x="509" y="1006"/>
                    </a:lnTo>
                    <a:lnTo>
                      <a:pt x="441" y="957"/>
                    </a:lnTo>
                    <a:lnTo>
                      <a:pt x="426" y="972"/>
                    </a:lnTo>
                    <a:lnTo>
                      <a:pt x="399" y="948"/>
                    </a:lnTo>
                    <a:lnTo>
                      <a:pt x="410" y="927"/>
                    </a:lnTo>
                    <a:lnTo>
                      <a:pt x="383" y="903"/>
                    </a:lnTo>
                    <a:lnTo>
                      <a:pt x="365" y="919"/>
                    </a:lnTo>
                    <a:lnTo>
                      <a:pt x="346" y="900"/>
                    </a:lnTo>
                    <a:lnTo>
                      <a:pt x="332" y="915"/>
                    </a:lnTo>
                    <a:lnTo>
                      <a:pt x="306" y="894"/>
                    </a:lnTo>
                    <a:lnTo>
                      <a:pt x="269" y="929"/>
                    </a:lnTo>
                    <a:lnTo>
                      <a:pt x="290" y="958"/>
                    </a:lnTo>
                    <a:lnTo>
                      <a:pt x="287" y="962"/>
                    </a:lnTo>
                    <a:lnTo>
                      <a:pt x="298" y="974"/>
                    </a:lnTo>
                    <a:lnTo>
                      <a:pt x="295" y="979"/>
                    </a:lnTo>
                    <a:lnTo>
                      <a:pt x="296" y="990"/>
                    </a:lnTo>
                    <a:lnTo>
                      <a:pt x="281" y="1001"/>
                    </a:lnTo>
                    <a:lnTo>
                      <a:pt x="254" y="995"/>
                    </a:lnTo>
                    <a:lnTo>
                      <a:pt x="210" y="1013"/>
                    </a:lnTo>
                    <a:lnTo>
                      <a:pt x="198" y="974"/>
                    </a:lnTo>
                    <a:lnTo>
                      <a:pt x="166" y="990"/>
                    </a:lnTo>
                    <a:lnTo>
                      <a:pt x="129" y="980"/>
                    </a:lnTo>
                    <a:lnTo>
                      <a:pt x="99" y="995"/>
                    </a:lnTo>
                    <a:lnTo>
                      <a:pt x="71" y="994"/>
                    </a:lnTo>
                    <a:lnTo>
                      <a:pt x="47" y="1048"/>
                    </a:lnTo>
                    <a:lnTo>
                      <a:pt x="39" y="1008"/>
                    </a:lnTo>
                    <a:lnTo>
                      <a:pt x="31" y="959"/>
                    </a:lnTo>
                    <a:lnTo>
                      <a:pt x="0" y="918"/>
                    </a:lnTo>
                    <a:lnTo>
                      <a:pt x="14" y="884"/>
                    </a:lnTo>
                    <a:lnTo>
                      <a:pt x="54" y="856"/>
                    </a:lnTo>
                    <a:lnTo>
                      <a:pt x="54" y="823"/>
                    </a:lnTo>
                    <a:lnTo>
                      <a:pt x="71" y="785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52"/>
              <p:cNvSpPr/>
              <p:nvPr/>
            </p:nvSpPr>
            <p:spPr>
              <a:xfrm>
                <a:off x="1950840" y="3008160"/>
                <a:ext cx="514080" cy="64116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641160"/>
                  <a:gd name="textAreaBottom" fmla="*/ 641520 h 641160"/>
                </a:gdLst>
                <a:ahLst/>
                <a:rect l="textAreaLeft" t="textAreaTop" r="textAreaRight" b="textAreaBottom"/>
                <a:pathLst>
                  <a:path w="684" h="856">
                    <a:moveTo>
                      <a:pt x="167" y="511"/>
                    </a:moveTo>
                    <a:lnTo>
                      <a:pt x="138" y="508"/>
                    </a:lnTo>
                    <a:lnTo>
                      <a:pt x="89" y="490"/>
                    </a:lnTo>
                    <a:lnTo>
                      <a:pt x="83" y="462"/>
                    </a:lnTo>
                    <a:lnTo>
                      <a:pt x="103" y="439"/>
                    </a:lnTo>
                    <a:lnTo>
                      <a:pt x="0" y="341"/>
                    </a:lnTo>
                    <a:lnTo>
                      <a:pt x="17" y="303"/>
                    </a:lnTo>
                    <a:lnTo>
                      <a:pt x="56" y="281"/>
                    </a:lnTo>
                    <a:lnTo>
                      <a:pt x="134" y="252"/>
                    </a:lnTo>
                    <a:lnTo>
                      <a:pt x="148" y="127"/>
                    </a:lnTo>
                    <a:lnTo>
                      <a:pt x="176" y="71"/>
                    </a:lnTo>
                    <a:lnTo>
                      <a:pt x="233" y="43"/>
                    </a:lnTo>
                    <a:lnTo>
                      <a:pt x="250" y="19"/>
                    </a:lnTo>
                    <a:lnTo>
                      <a:pt x="285" y="30"/>
                    </a:lnTo>
                    <a:lnTo>
                      <a:pt x="323" y="12"/>
                    </a:lnTo>
                    <a:lnTo>
                      <a:pt x="361" y="22"/>
                    </a:lnTo>
                    <a:lnTo>
                      <a:pt x="383" y="0"/>
                    </a:lnTo>
                    <a:lnTo>
                      <a:pt x="394" y="34"/>
                    </a:lnTo>
                    <a:lnTo>
                      <a:pt x="428" y="7"/>
                    </a:lnTo>
                    <a:lnTo>
                      <a:pt x="440" y="38"/>
                    </a:lnTo>
                    <a:lnTo>
                      <a:pt x="472" y="39"/>
                    </a:lnTo>
                    <a:lnTo>
                      <a:pt x="506" y="65"/>
                    </a:lnTo>
                    <a:lnTo>
                      <a:pt x="517" y="93"/>
                    </a:lnTo>
                    <a:lnTo>
                      <a:pt x="492" y="118"/>
                    </a:lnTo>
                    <a:lnTo>
                      <a:pt x="473" y="84"/>
                    </a:lnTo>
                    <a:lnTo>
                      <a:pt x="469" y="114"/>
                    </a:lnTo>
                    <a:lnTo>
                      <a:pt x="488" y="135"/>
                    </a:lnTo>
                    <a:lnTo>
                      <a:pt x="492" y="170"/>
                    </a:lnTo>
                    <a:lnTo>
                      <a:pt x="469" y="192"/>
                    </a:lnTo>
                    <a:lnTo>
                      <a:pt x="438" y="194"/>
                    </a:lnTo>
                    <a:lnTo>
                      <a:pt x="469" y="203"/>
                    </a:lnTo>
                    <a:lnTo>
                      <a:pt x="500" y="184"/>
                    </a:lnTo>
                    <a:lnTo>
                      <a:pt x="523" y="202"/>
                    </a:lnTo>
                    <a:lnTo>
                      <a:pt x="549" y="239"/>
                    </a:lnTo>
                    <a:lnTo>
                      <a:pt x="579" y="271"/>
                    </a:lnTo>
                    <a:lnTo>
                      <a:pt x="606" y="347"/>
                    </a:lnTo>
                    <a:lnTo>
                      <a:pt x="614" y="386"/>
                    </a:lnTo>
                    <a:lnTo>
                      <a:pt x="623" y="448"/>
                    </a:lnTo>
                    <a:lnTo>
                      <a:pt x="625" y="526"/>
                    </a:lnTo>
                    <a:lnTo>
                      <a:pt x="638" y="552"/>
                    </a:lnTo>
                    <a:lnTo>
                      <a:pt x="660" y="597"/>
                    </a:lnTo>
                    <a:lnTo>
                      <a:pt x="669" y="646"/>
                    </a:lnTo>
                    <a:lnTo>
                      <a:pt x="684" y="701"/>
                    </a:lnTo>
                    <a:lnTo>
                      <a:pt x="666" y="737"/>
                    </a:lnTo>
                    <a:lnTo>
                      <a:pt x="650" y="761"/>
                    </a:lnTo>
                    <a:lnTo>
                      <a:pt x="640" y="801"/>
                    </a:lnTo>
                    <a:lnTo>
                      <a:pt x="614" y="823"/>
                    </a:lnTo>
                    <a:lnTo>
                      <a:pt x="549" y="852"/>
                    </a:lnTo>
                    <a:lnTo>
                      <a:pt x="490" y="856"/>
                    </a:lnTo>
                    <a:lnTo>
                      <a:pt x="412" y="829"/>
                    </a:lnTo>
                    <a:lnTo>
                      <a:pt x="373" y="793"/>
                    </a:lnTo>
                    <a:lnTo>
                      <a:pt x="330" y="717"/>
                    </a:lnTo>
                    <a:lnTo>
                      <a:pt x="277" y="643"/>
                    </a:lnTo>
                    <a:lnTo>
                      <a:pt x="263" y="590"/>
                    </a:lnTo>
                    <a:lnTo>
                      <a:pt x="240" y="574"/>
                    </a:lnTo>
                    <a:lnTo>
                      <a:pt x="256" y="538"/>
                    </a:lnTo>
                    <a:lnTo>
                      <a:pt x="232" y="514"/>
                    </a:lnTo>
                    <a:lnTo>
                      <a:pt x="204" y="454"/>
                    </a:lnTo>
                    <a:lnTo>
                      <a:pt x="202" y="416"/>
                    </a:lnTo>
                    <a:lnTo>
                      <a:pt x="179" y="391"/>
                    </a:lnTo>
                    <a:lnTo>
                      <a:pt x="195" y="435"/>
                    </a:lnTo>
                    <a:lnTo>
                      <a:pt x="187" y="468"/>
                    </a:lnTo>
                    <a:lnTo>
                      <a:pt x="167" y="511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53"/>
              <p:cNvSpPr/>
              <p:nvPr/>
            </p:nvSpPr>
            <p:spPr>
              <a:xfrm>
                <a:off x="5110200" y="5451840"/>
                <a:ext cx="1144440" cy="955440"/>
              </a:xfrm>
              <a:custGeom>
                <a:avLst/>
                <a:gdLst>
                  <a:gd name="textAreaLeft" fmla="*/ 0 w 1144440"/>
                  <a:gd name="textAreaRight" fmla="*/ 1144800 w 1144440"/>
                  <a:gd name="textAreaTop" fmla="*/ 0 h 955440"/>
                  <a:gd name="textAreaBottom" fmla="*/ 955800 h 955440"/>
                </a:gdLst>
                <a:ahLst/>
                <a:rect l="textAreaLeft" t="textAreaTop" r="textAreaRight" b="textAreaBottom"/>
                <a:pathLst>
                  <a:path w="1522" h="1273">
                    <a:moveTo>
                      <a:pt x="39" y="877"/>
                    </a:moveTo>
                    <a:lnTo>
                      <a:pt x="48" y="843"/>
                    </a:lnTo>
                    <a:lnTo>
                      <a:pt x="78" y="831"/>
                    </a:lnTo>
                    <a:lnTo>
                      <a:pt x="107" y="805"/>
                    </a:lnTo>
                    <a:lnTo>
                      <a:pt x="142" y="817"/>
                    </a:lnTo>
                    <a:lnTo>
                      <a:pt x="159" y="843"/>
                    </a:lnTo>
                    <a:lnTo>
                      <a:pt x="181" y="862"/>
                    </a:lnTo>
                    <a:lnTo>
                      <a:pt x="225" y="898"/>
                    </a:lnTo>
                    <a:lnTo>
                      <a:pt x="261" y="938"/>
                    </a:lnTo>
                    <a:lnTo>
                      <a:pt x="286" y="958"/>
                    </a:lnTo>
                    <a:lnTo>
                      <a:pt x="319" y="956"/>
                    </a:lnTo>
                    <a:lnTo>
                      <a:pt x="378" y="999"/>
                    </a:lnTo>
                    <a:lnTo>
                      <a:pt x="405" y="1015"/>
                    </a:lnTo>
                    <a:lnTo>
                      <a:pt x="406" y="1049"/>
                    </a:lnTo>
                    <a:lnTo>
                      <a:pt x="431" y="1068"/>
                    </a:lnTo>
                    <a:lnTo>
                      <a:pt x="468" y="1066"/>
                    </a:lnTo>
                    <a:lnTo>
                      <a:pt x="472" y="1108"/>
                    </a:lnTo>
                    <a:lnTo>
                      <a:pt x="498" y="1093"/>
                    </a:lnTo>
                    <a:lnTo>
                      <a:pt x="541" y="1077"/>
                    </a:lnTo>
                    <a:lnTo>
                      <a:pt x="561" y="1046"/>
                    </a:lnTo>
                    <a:lnTo>
                      <a:pt x="699" y="886"/>
                    </a:lnTo>
                    <a:lnTo>
                      <a:pt x="842" y="741"/>
                    </a:lnTo>
                    <a:lnTo>
                      <a:pt x="837" y="650"/>
                    </a:lnTo>
                    <a:lnTo>
                      <a:pt x="846" y="595"/>
                    </a:lnTo>
                    <a:lnTo>
                      <a:pt x="831" y="551"/>
                    </a:lnTo>
                    <a:lnTo>
                      <a:pt x="842" y="515"/>
                    </a:lnTo>
                    <a:lnTo>
                      <a:pt x="846" y="480"/>
                    </a:lnTo>
                    <a:lnTo>
                      <a:pt x="844" y="442"/>
                    </a:lnTo>
                    <a:lnTo>
                      <a:pt x="827" y="407"/>
                    </a:lnTo>
                    <a:lnTo>
                      <a:pt x="836" y="379"/>
                    </a:lnTo>
                    <a:lnTo>
                      <a:pt x="831" y="344"/>
                    </a:lnTo>
                    <a:lnTo>
                      <a:pt x="861" y="325"/>
                    </a:lnTo>
                    <a:lnTo>
                      <a:pt x="830" y="298"/>
                    </a:lnTo>
                    <a:lnTo>
                      <a:pt x="802" y="281"/>
                    </a:lnTo>
                    <a:lnTo>
                      <a:pt x="808" y="253"/>
                    </a:lnTo>
                    <a:lnTo>
                      <a:pt x="834" y="212"/>
                    </a:lnTo>
                    <a:lnTo>
                      <a:pt x="861" y="198"/>
                    </a:lnTo>
                    <a:lnTo>
                      <a:pt x="892" y="172"/>
                    </a:lnTo>
                    <a:lnTo>
                      <a:pt x="925" y="150"/>
                    </a:lnTo>
                    <a:lnTo>
                      <a:pt x="955" y="156"/>
                    </a:lnTo>
                    <a:lnTo>
                      <a:pt x="993" y="158"/>
                    </a:lnTo>
                    <a:lnTo>
                      <a:pt x="1010" y="112"/>
                    </a:lnTo>
                    <a:lnTo>
                      <a:pt x="1044" y="133"/>
                    </a:lnTo>
                    <a:lnTo>
                      <a:pt x="1075" y="139"/>
                    </a:lnTo>
                    <a:lnTo>
                      <a:pt x="1105" y="113"/>
                    </a:lnTo>
                    <a:lnTo>
                      <a:pt x="1141" y="151"/>
                    </a:lnTo>
                    <a:lnTo>
                      <a:pt x="1192" y="140"/>
                    </a:lnTo>
                    <a:lnTo>
                      <a:pt x="1219" y="161"/>
                    </a:lnTo>
                    <a:lnTo>
                      <a:pt x="1243" y="125"/>
                    </a:lnTo>
                    <a:lnTo>
                      <a:pt x="1273" y="118"/>
                    </a:lnTo>
                    <a:lnTo>
                      <a:pt x="1304" y="64"/>
                    </a:lnTo>
                    <a:lnTo>
                      <a:pt x="1351" y="25"/>
                    </a:lnTo>
                    <a:lnTo>
                      <a:pt x="1371" y="0"/>
                    </a:lnTo>
                    <a:lnTo>
                      <a:pt x="1356" y="49"/>
                    </a:lnTo>
                    <a:lnTo>
                      <a:pt x="1355" y="115"/>
                    </a:lnTo>
                    <a:lnTo>
                      <a:pt x="1387" y="173"/>
                    </a:lnTo>
                    <a:lnTo>
                      <a:pt x="1397" y="207"/>
                    </a:lnTo>
                    <a:lnTo>
                      <a:pt x="1403" y="247"/>
                    </a:lnTo>
                    <a:lnTo>
                      <a:pt x="1429" y="290"/>
                    </a:lnTo>
                    <a:lnTo>
                      <a:pt x="1460" y="284"/>
                    </a:lnTo>
                    <a:lnTo>
                      <a:pt x="1500" y="308"/>
                    </a:lnTo>
                    <a:lnTo>
                      <a:pt x="1522" y="357"/>
                    </a:lnTo>
                    <a:lnTo>
                      <a:pt x="1518" y="404"/>
                    </a:lnTo>
                    <a:lnTo>
                      <a:pt x="1491" y="412"/>
                    </a:lnTo>
                    <a:lnTo>
                      <a:pt x="1422" y="448"/>
                    </a:lnTo>
                    <a:lnTo>
                      <a:pt x="1382" y="529"/>
                    </a:lnTo>
                    <a:lnTo>
                      <a:pt x="1357" y="542"/>
                    </a:lnTo>
                    <a:lnTo>
                      <a:pt x="1319" y="579"/>
                    </a:lnTo>
                    <a:lnTo>
                      <a:pt x="1297" y="616"/>
                    </a:lnTo>
                    <a:lnTo>
                      <a:pt x="1330" y="643"/>
                    </a:lnTo>
                    <a:lnTo>
                      <a:pt x="1350" y="677"/>
                    </a:lnTo>
                    <a:lnTo>
                      <a:pt x="1335" y="734"/>
                    </a:lnTo>
                    <a:lnTo>
                      <a:pt x="1309" y="762"/>
                    </a:lnTo>
                    <a:lnTo>
                      <a:pt x="1263" y="790"/>
                    </a:lnTo>
                    <a:lnTo>
                      <a:pt x="1219" y="805"/>
                    </a:lnTo>
                    <a:lnTo>
                      <a:pt x="1186" y="816"/>
                    </a:lnTo>
                    <a:lnTo>
                      <a:pt x="1160" y="861"/>
                    </a:lnTo>
                    <a:lnTo>
                      <a:pt x="1102" y="910"/>
                    </a:lnTo>
                    <a:lnTo>
                      <a:pt x="1079" y="959"/>
                    </a:lnTo>
                    <a:lnTo>
                      <a:pt x="1043" y="953"/>
                    </a:lnTo>
                    <a:lnTo>
                      <a:pt x="1013" y="958"/>
                    </a:lnTo>
                    <a:lnTo>
                      <a:pt x="991" y="986"/>
                    </a:lnTo>
                    <a:lnTo>
                      <a:pt x="965" y="997"/>
                    </a:lnTo>
                    <a:lnTo>
                      <a:pt x="935" y="995"/>
                    </a:lnTo>
                    <a:lnTo>
                      <a:pt x="900" y="1013"/>
                    </a:lnTo>
                    <a:lnTo>
                      <a:pt x="878" y="1034"/>
                    </a:lnTo>
                    <a:lnTo>
                      <a:pt x="898" y="1061"/>
                    </a:lnTo>
                    <a:lnTo>
                      <a:pt x="882" y="1086"/>
                    </a:lnTo>
                    <a:lnTo>
                      <a:pt x="873" y="1124"/>
                    </a:lnTo>
                    <a:lnTo>
                      <a:pt x="924" y="1153"/>
                    </a:lnTo>
                    <a:lnTo>
                      <a:pt x="872" y="1176"/>
                    </a:lnTo>
                    <a:lnTo>
                      <a:pt x="850" y="1211"/>
                    </a:lnTo>
                    <a:lnTo>
                      <a:pt x="865" y="1254"/>
                    </a:lnTo>
                    <a:lnTo>
                      <a:pt x="808" y="1251"/>
                    </a:lnTo>
                    <a:lnTo>
                      <a:pt x="783" y="1227"/>
                    </a:lnTo>
                    <a:lnTo>
                      <a:pt x="755" y="1213"/>
                    </a:lnTo>
                    <a:lnTo>
                      <a:pt x="724" y="1218"/>
                    </a:lnTo>
                    <a:lnTo>
                      <a:pt x="698" y="1210"/>
                    </a:lnTo>
                    <a:lnTo>
                      <a:pt x="648" y="1211"/>
                    </a:lnTo>
                    <a:lnTo>
                      <a:pt x="607" y="1219"/>
                    </a:lnTo>
                    <a:lnTo>
                      <a:pt x="541" y="1248"/>
                    </a:lnTo>
                    <a:lnTo>
                      <a:pt x="508" y="1273"/>
                    </a:lnTo>
                    <a:lnTo>
                      <a:pt x="478" y="1272"/>
                    </a:lnTo>
                    <a:lnTo>
                      <a:pt x="444" y="1265"/>
                    </a:lnTo>
                    <a:lnTo>
                      <a:pt x="404" y="1252"/>
                    </a:lnTo>
                    <a:lnTo>
                      <a:pt x="348" y="1208"/>
                    </a:lnTo>
                    <a:lnTo>
                      <a:pt x="331" y="1179"/>
                    </a:lnTo>
                    <a:lnTo>
                      <a:pt x="316" y="1116"/>
                    </a:lnTo>
                    <a:lnTo>
                      <a:pt x="279" y="1087"/>
                    </a:lnTo>
                    <a:lnTo>
                      <a:pt x="249" y="1094"/>
                    </a:lnTo>
                    <a:lnTo>
                      <a:pt x="223" y="1077"/>
                    </a:lnTo>
                    <a:lnTo>
                      <a:pt x="170" y="1056"/>
                    </a:lnTo>
                    <a:lnTo>
                      <a:pt x="109" y="1056"/>
                    </a:lnTo>
                    <a:lnTo>
                      <a:pt x="80" y="1035"/>
                    </a:lnTo>
                    <a:lnTo>
                      <a:pt x="14" y="1012"/>
                    </a:lnTo>
                    <a:lnTo>
                      <a:pt x="0" y="975"/>
                    </a:lnTo>
                    <a:lnTo>
                      <a:pt x="5" y="945"/>
                    </a:lnTo>
                    <a:lnTo>
                      <a:pt x="15" y="894"/>
                    </a:lnTo>
                    <a:lnTo>
                      <a:pt x="39" y="87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554"/>
              <p:cNvSpPr/>
              <p:nvPr/>
            </p:nvSpPr>
            <p:spPr>
              <a:xfrm>
                <a:off x="5751360" y="5249880"/>
                <a:ext cx="865080" cy="1206360"/>
              </a:xfrm>
              <a:custGeom>
                <a:avLst/>
                <a:gdLst>
                  <a:gd name="textAreaLeft" fmla="*/ 0 w 865080"/>
                  <a:gd name="textAreaRight" fmla="*/ 865440 w 865080"/>
                  <a:gd name="textAreaTop" fmla="*/ 0 h 1206360"/>
                  <a:gd name="textAreaBottom" fmla="*/ 1206720 h 1206360"/>
                </a:gdLst>
                <a:ahLst/>
                <a:rect l="textAreaLeft" t="textAreaTop" r="textAreaRight" b="textAreaBottom"/>
                <a:pathLst>
                  <a:path w="1156" h="1606">
                    <a:moveTo>
                      <a:pt x="0" y="1479"/>
                    </a:moveTo>
                    <a:lnTo>
                      <a:pt x="22" y="1444"/>
                    </a:lnTo>
                    <a:lnTo>
                      <a:pt x="74" y="1421"/>
                    </a:lnTo>
                    <a:lnTo>
                      <a:pt x="23" y="1392"/>
                    </a:lnTo>
                    <a:lnTo>
                      <a:pt x="32" y="1354"/>
                    </a:lnTo>
                    <a:lnTo>
                      <a:pt x="48" y="1329"/>
                    </a:lnTo>
                    <a:lnTo>
                      <a:pt x="28" y="1302"/>
                    </a:lnTo>
                    <a:lnTo>
                      <a:pt x="50" y="1281"/>
                    </a:lnTo>
                    <a:lnTo>
                      <a:pt x="85" y="1263"/>
                    </a:lnTo>
                    <a:lnTo>
                      <a:pt x="115" y="1265"/>
                    </a:lnTo>
                    <a:lnTo>
                      <a:pt x="141" y="1254"/>
                    </a:lnTo>
                    <a:lnTo>
                      <a:pt x="163" y="1226"/>
                    </a:lnTo>
                    <a:lnTo>
                      <a:pt x="193" y="1221"/>
                    </a:lnTo>
                    <a:lnTo>
                      <a:pt x="229" y="1227"/>
                    </a:lnTo>
                    <a:lnTo>
                      <a:pt x="252" y="1178"/>
                    </a:lnTo>
                    <a:lnTo>
                      <a:pt x="310" y="1129"/>
                    </a:lnTo>
                    <a:lnTo>
                      <a:pt x="336" y="1084"/>
                    </a:lnTo>
                    <a:lnTo>
                      <a:pt x="369" y="1073"/>
                    </a:lnTo>
                    <a:lnTo>
                      <a:pt x="413" y="1058"/>
                    </a:lnTo>
                    <a:lnTo>
                      <a:pt x="459" y="1030"/>
                    </a:lnTo>
                    <a:lnTo>
                      <a:pt x="485" y="1002"/>
                    </a:lnTo>
                    <a:lnTo>
                      <a:pt x="500" y="945"/>
                    </a:lnTo>
                    <a:lnTo>
                      <a:pt x="480" y="911"/>
                    </a:lnTo>
                    <a:lnTo>
                      <a:pt x="447" y="884"/>
                    </a:lnTo>
                    <a:lnTo>
                      <a:pt x="469" y="847"/>
                    </a:lnTo>
                    <a:lnTo>
                      <a:pt x="507" y="810"/>
                    </a:lnTo>
                    <a:lnTo>
                      <a:pt x="532" y="797"/>
                    </a:lnTo>
                    <a:lnTo>
                      <a:pt x="572" y="716"/>
                    </a:lnTo>
                    <a:lnTo>
                      <a:pt x="641" y="680"/>
                    </a:lnTo>
                    <a:lnTo>
                      <a:pt x="668" y="672"/>
                    </a:lnTo>
                    <a:lnTo>
                      <a:pt x="672" y="625"/>
                    </a:lnTo>
                    <a:lnTo>
                      <a:pt x="650" y="576"/>
                    </a:lnTo>
                    <a:lnTo>
                      <a:pt x="610" y="552"/>
                    </a:lnTo>
                    <a:lnTo>
                      <a:pt x="579" y="558"/>
                    </a:lnTo>
                    <a:lnTo>
                      <a:pt x="553" y="515"/>
                    </a:lnTo>
                    <a:lnTo>
                      <a:pt x="547" y="475"/>
                    </a:lnTo>
                    <a:lnTo>
                      <a:pt x="537" y="441"/>
                    </a:lnTo>
                    <a:lnTo>
                      <a:pt x="505" y="383"/>
                    </a:lnTo>
                    <a:lnTo>
                      <a:pt x="506" y="317"/>
                    </a:lnTo>
                    <a:lnTo>
                      <a:pt x="533" y="310"/>
                    </a:lnTo>
                    <a:lnTo>
                      <a:pt x="582" y="321"/>
                    </a:lnTo>
                    <a:lnTo>
                      <a:pt x="625" y="295"/>
                    </a:lnTo>
                    <a:lnTo>
                      <a:pt x="636" y="218"/>
                    </a:lnTo>
                    <a:lnTo>
                      <a:pt x="609" y="228"/>
                    </a:lnTo>
                    <a:lnTo>
                      <a:pt x="571" y="175"/>
                    </a:lnTo>
                    <a:lnTo>
                      <a:pt x="578" y="143"/>
                    </a:lnTo>
                    <a:lnTo>
                      <a:pt x="571" y="71"/>
                    </a:lnTo>
                    <a:lnTo>
                      <a:pt x="612" y="50"/>
                    </a:lnTo>
                    <a:lnTo>
                      <a:pt x="642" y="25"/>
                    </a:lnTo>
                    <a:lnTo>
                      <a:pt x="688" y="0"/>
                    </a:lnTo>
                    <a:lnTo>
                      <a:pt x="691" y="29"/>
                    </a:lnTo>
                    <a:lnTo>
                      <a:pt x="713" y="72"/>
                    </a:lnTo>
                    <a:lnTo>
                      <a:pt x="711" y="119"/>
                    </a:lnTo>
                    <a:lnTo>
                      <a:pt x="739" y="150"/>
                    </a:lnTo>
                    <a:lnTo>
                      <a:pt x="780" y="180"/>
                    </a:lnTo>
                    <a:lnTo>
                      <a:pt x="786" y="208"/>
                    </a:lnTo>
                    <a:lnTo>
                      <a:pt x="805" y="235"/>
                    </a:lnTo>
                    <a:lnTo>
                      <a:pt x="820" y="279"/>
                    </a:lnTo>
                    <a:lnTo>
                      <a:pt x="887" y="312"/>
                    </a:lnTo>
                    <a:lnTo>
                      <a:pt x="860" y="333"/>
                    </a:lnTo>
                    <a:lnTo>
                      <a:pt x="900" y="365"/>
                    </a:lnTo>
                    <a:lnTo>
                      <a:pt x="929" y="333"/>
                    </a:lnTo>
                    <a:lnTo>
                      <a:pt x="958" y="327"/>
                    </a:lnTo>
                    <a:lnTo>
                      <a:pt x="998" y="398"/>
                    </a:lnTo>
                    <a:lnTo>
                      <a:pt x="1020" y="370"/>
                    </a:lnTo>
                    <a:lnTo>
                      <a:pt x="1046" y="385"/>
                    </a:lnTo>
                    <a:lnTo>
                      <a:pt x="1059" y="431"/>
                    </a:lnTo>
                    <a:lnTo>
                      <a:pt x="1052" y="466"/>
                    </a:lnTo>
                    <a:lnTo>
                      <a:pt x="1050" y="505"/>
                    </a:lnTo>
                    <a:lnTo>
                      <a:pt x="1078" y="512"/>
                    </a:lnTo>
                    <a:lnTo>
                      <a:pt x="1101" y="540"/>
                    </a:lnTo>
                    <a:lnTo>
                      <a:pt x="1071" y="543"/>
                    </a:lnTo>
                    <a:lnTo>
                      <a:pt x="1080" y="578"/>
                    </a:lnTo>
                    <a:lnTo>
                      <a:pt x="1080" y="614"/>
                    </a:lnTo>
                    <a:lnTo>
                      <a:pt x="1113" y="631"/>
                    </a:lnTo>
                    <a:lnTo>
                      <a:pt x="1119" y="670"/>
                    </a:lnTo>
                    <a:lnTo>
                      <a:pt x="1156" y="694"/>
                    </a:lnTo>
                    <a:lnTo>
                      <a:pt x="1097" y="732"/>
                    </a:lnTo>
                    <a:lnTo>
                      <a:pt x="1063" y="740"/>
                    </a:lnTo>
                    <a:lnTo>
                      <a:pt x="1026" y="842"/>
                    </a:lnTo>
                    <a:lnTo>
                      <a:pt x="1052" y="851"/>
                    </a:lnTo>
                    <a:lnTo>
                      <a:pt x="1084" y="858"/>
                    </a:lnTo>
                    <a:lnTo>
                      <a:pt x="1087" y="886"/>
                    </a:lnTo>
                    <a:lnTo>
                      <a:pt x="1105" y="946"/>
                    </a:lnTo>
                    <a:lnTo>
                      <a:pt x="1082" y="980"/>
                    </a:lnTo>
                    <a:lnTo>
                      <a:pt x="1063" y="1035"/>
                    </a:lnTo>
                    <a:lnTo>
                      <a:pt x="1048" y="1134"/>
                    </a:lnTo>
                    <a:lnTo>
                      <a:pt x="1048" y="1202"/>
                    </a:lnTo>
                    <a:lnTo>
                      <a:pt x="1062" y="1242"/>
                    </a:lnTo>
                    <a:lnTo>
                      <a:pt x="1059" y="1274"/>
                    </a:lnTo>
                    <a:lnTo>
                      <a:pt x="982" y="1329"/>
                    </a:lnTo>
                    <a:lnTo>
                      <a:pt x="962" y="1376"/>
                    </a:lnTo>
                    <a:lnTo>
                      <a:pt x="879" y="1371"/>
                    </a:lnTo>
                    <a:lnTo>
                      <a:pt x="826" y="1344"/>
                    </a:lnTo>
                    <a:lnTo>
                      <a:pt x="779" y="1343"/>
                    </a:lnTo>
                    <a:lnTo>
                      <a:pt x="754" y="1379"/>
                    </a:lnTo>
                    <a:lnTo>
                      <a:pt x="717" y="1386"/>
                    </a:lnTo>
                    <a:lnTo>
                      <a:pt x="682" y="1361"/>
                    </a:lnTo>
                    <a:lnTo>
                      <a:pt x="649" y="1354"/>
                    </a:lnTo>
                    <a:lnTo>
                      <a:pt x="598" y="1365"/>
                    </a:lnTo>
                    <a:lnTo>
                      <a:pt x="544" y="1425"/>
                    </a:lnTo>
                    <a:lnTo>
                      <a:pt x="515" y="1479"/>
                    </a:lnTo>
                    <a:lnTo>
                      <a:pt x="485" y="1504"/>
                    </a:lnTo>
                    <a:lnTo>
                      <a:pt x="449" y="1512"/>
                    </a:lnTo>
                    <a:lnTo>
                      <a:pt x="346" y="1570"/>
                    </a:lnTo>
                    <a:lnTo>
                      <a:pt x="320" y="1595"/>
                    </a:lnTo>
                    <a:lnTo>
                      <a:pt x="276" y="1590"/>
                    </a:lnTo>
                    <a:lnTo>
                      <a:pt x="196" y="1604"/>
                    </a:lnTo>
                    <a:lnTo>
                      <a:pt x="170" y="1593"/>
                    </a:lnTo>
                    <a:lnTo>
                      <a:pt x="110" y="1606"/>
                    </a:lnTo>
                    <a:lnTo>
                      <a:pt x="42" y="1565"/>
                    </a:lnTo>
                    <a:lnTo>
                      <a:pt x="15" y="1522"/>
                    </a:lnTo>
                    <a:lnTo>
                      <a:pt x="0" y="1479"/>
                    </a:lnTo>
                    <a:lnTo>
                      <a:pt x="713" y="1175"/>
                    </a:lnTo>
                    <a:lnTo>
                      <a:pt x="676" y="1148"/>
                    </a:lnTo>
                    <a:lnTo>
                      <a:pt x="616" y="1144"/>
                    </a:lnTo>
                    <a:lnTo>
                      <a:pt x="557" y="1200"/>
                    </a:lnTo>
                    <a:lnTo>
                      <a:pt x="534" y="1221"/>
                    </a:lnTo>
                    <a:lnTo>
                      <a:pt x="528" y="1267"/>
                    </a:lnTo>
                    <a:lnTo>
                      <a:pt x="485" y="1260"/>
                    </a:lnTo>
                    <a:lnTo>
                      <a:pt x="459" y="1291"/>
                    </a:lnTo>
                    <a:lnTo>
                      <a:pt x="439" y="1260"/>
                    </a:lnTo>
                    <a:lnTo>
                      <a:pt x="416" y="1289"/>
                    </a:lnTo>
                    <a:lnTo>
                      <a:pt x="430" y="1323"/>
                    </a:lnTo>
                    <a:lnTo>
                      <a:pt x="450" y="1343"/>
                    </a:lnTo>
                    <a:lnTo>
                      <a:pt x="483" y="1339"/>
                    </a:lnTo>
                    <a:lnTo>
                      <a:pt x="513" y="1360"/>
                    </a:lnTo>
                    <a:lnTo>
                      <a:pt x="546" y="1339"/>
                    </a:lnTo>
                    <a:lnTo>
                      <a:pt x="584" y="1333"/>
                    </a:lnTo>
                    <a:lnTo>
                      <a:pt x="624" y="1323"/>
                    </a:lnTo>
                    <a:lnTo>
                      <a:pt x="664" y="1309"/>
                    </a:lnTo>
                    <a:lnTo>
                      <a:pt x="687" y="1292"/>
                    </a:lnTo>
                    <a:lnTo>
                      <a:pt x="727" y="1263"/>
                    </a:lnTo>
                    <a:lnTo>
                      <a:pt x="716" y="1225"/>
                    </a:lnTo>
                    <a:lnTo>
                      <a:pt x="674" y="1219"/>
                    </a:lnTo>
                    <a:lnTo>
                      <a:pt x="696" y="1200"/>
                    </a:lnTo>
                    <a:lnTo>
                      <a:pt x="713" y="1175"/>
                    </a:lnTo>
                    <a:lnTo>
                      <a:pt x="0" y="1479"/>
                    </a:lnTo>
                    <a:close/>
                  </a:path>
                </a:pathLst>
              </a:custGeom>
              <a:solidFill>
                <a:srgbClr val="fda9bd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555"/>
              <p:cNvSpPr/>
              <p:nvPr/>
            </p:nvSpPr>
            <p:spPr>
              <a:xfrm>
                <a:off x="5751360" y="5243760"/>
                <a:ext cx="865080" cy="1206360"/>
              </a:xfrm>
              <a:custGeom>
                <a:avLst/>
                <a:gdLst>
                  <a:gd name="textAreaLeft" fmla="*/ 0 w 865080"/>
                  <a:gd name="textAreaRight" fmla="*/ 865440 w 865080"/>
                  <a:gd name="textAreaTop" fmla="*/ 0 h 1206360"/>
                  <a:gd name="textAreaBottom" fmla="*/ 1206720 h 1206360"/>
                </a:gdLst>
                <a:ahLst/>
                <a:rect l="textAreaLeft" t="textAreaTop" r="textAreaRight" b="textAreaBottom"/>
                <a:pathLst>
                  <a:path w="1156" h="1606">
                    <a:moveTo>
                      <a:pt x="0" y="1479"/>
                    </a:moveTo>
                    <a:lnTo>
                      <a:pt x="22" y="1444"/>
                    </a:lnTo>
                    <a:lnTo>
                      <a:pt x="74" y="1421"/>
                    </a:lnTo>
                    <a:lnTo>
                      <a:pt x="23" y="1392"/>
                    </a:lnTo>
                    <a:lnTo>
                      <a:pt x="32" y="1354"/>
                    </a:lnTo>
                    <a:lnTo>
                      <a:pt x="48" y="1329"/>
                    </a:lnTo>
                    <a:lnTo>
                      <a:pt x="28" y="1302"/>
                    </a:lnTo>
                    <a:lnTo>
                      <a:pt x="50" y="1281"/>
                    </a:lnTo>
                    <a:lnTo>
                      <a:pt x="85" y="1263"/>
                    </a:lnTo>
                    <a:lnTo>
                      <a:pt x="115" y="1265"/>
                    </a:lnTo>
                    <a:lnTo>
                      <a:pt x="141" y="1254"/>
                    </a:lnTo>
                    <a:lnTo>
                      <a:pt x="163" y="1226"/>
                    </a:lnTo>
                    <a:lnTo>
                      <a:pt x="193" y="1221"/>
                    </a:lnTo>
                    <a:lnTo>
                      <a:pt x="229" y="1227"/>
                    </a:lnTo>
                    <a:lnTo>
                      <a:pt x="252" y="1178"/>
                    </a:lnTo>
                    <a:lnTo>
                      <a:pt x="310" y="1129"/>
                    </a:lnTo>
                    <a:lnTo>
                      <a:pt x="336" y="1084"/>
                    </a:lnTo>
                    <a:lnTo>
                      <a:pt x="369" y="1073"/>
                    </a:lnTo>
                    <a:lnTo>
                      <a:pt x="413" y="1058"/>
                    </a:lnTo>
                    <a:lnTo>
                      <a:pt x="459" y="1030"/>
                    </a:lnTo>
                    <a:lnTo>
                      <a:pt x="485" y="1002"/>
                    </a:lnTo>
                    <a:lnTo>
                      <a:pt x="500" y="945"/>
                    </a:lnTo>
                    <a:lnTo>
                      <a:pt x="480" y="911"/>
                    </a:lnTo>
                    <a:lnTo>
                      <a:pt x="447" y="884"/>
                    </a:lnTo>
                    <a:lnTo>
                      <a:pt x="469" y="847"/>
                    </a:lnTo>
                    <a:lnTo>
                      <a:pt x="507" y="810"/>
                    </a:lnTo>
                    <a:lnTo>
                      <a:pt x="532" y="797"/>
                    </a:lnTo>
                    <a:lnTo>
                      <a:pt x="572" y="716"/>
                    </a:lnTo>
                    <a:lnTo>
                      <a:pt x="641" y="680"/>
                    </a:lnTo>
                    <a:lnTo>
                      <a:pt x="668" y="672"/>
                    </a:lnTo>
                    <a:lnTo>
                      <a:pt x="672" y="625"/>
                    </a:lnTo>
                    <a:lnTo>
                      <a:pt x="650" y="576"/>
                    </a:lnTo>
                    <a:lnTo>
                      <a:pt x="610" y="552"/>
                    </a:lnTo>
                    <a:lnTo>
                      <a:pt x="579" y="558"/>
                    </a:lnTo>
                    <a:lnTo>
                      <a:pt x="553" y="515"/>
                    </a:lnTo>
                    <a:lnTo>
                      <a:pt x="547" y="475"/>
                    </a:lnTo>
                    <a:lnTo>
                      <a:pt x="537" y="441"/>
                    </a:lnTo>
                    <a:lnTo>
                      <a:pt x="505" y="383"/>
                    </a:lnTo>
                    <a:lnTo>
                      <a:pt x="506" y="317"/>
                    </a:lnTo>
                    <a:lnTo>
                      <a:pt x="533" y="310"/>
                    </a:lnTo>
                    <a:lnTo>
                      <a:pt x="582" y="321"/>
                    </a:lnTo>
                    <a:lnTo>
                      <a:pt x="625" y="295"/>
                    </a:lnTo>
                    <a:lnTo>
                      <a:pt x="636" y="218"/>
                    </a:lnTo>
                    <a:lnTo>
                      <a:pt x="609" y="228"/>
                    </a:lnTo>
                    <a:lnTo>
                      <a:pt x="571" y="175"/>
                    </a:lnTo>
                    <a:lnTo>
                      <a:pt x="578" y="143"/>
                    </a:lnTo>
                    <a:lnTo>
                      <a:pt x="571" y="71"/>
                    </a:lnTo>
                    <a:lnTo>
                      <a:pt x="612" y="50"/>
                    </a:lnTo>
                    <a:lnTo>
                      <a:pt x="642" y="25"/>
                    </a:lnTo>
                    <a:lnTo>
                      <a:pt x="688" y="0"/>
                    </a:lnTo>
                    <a:lnTo>
                      <a:pt x="691" y="29"/>
                    </a:lnTo>
                    <a:lnTo>
                      <a:pt x="713" y="72"/>
                    </a:lnTo>
                    <a:lnTo>
                      <a:pt x="711" y="119"/>
                    </a:lnTo>
                    <a:lnTo>
                      <a:pt x="739" y="150"/>
                    </a:lnTo>
                    <a:lnTo>
                      <a:pt x="780" y="180"/>
                    </a:lnTo>
                    <a:lnTo>
                      <a:pt x="786" y="208"/>
                    </a:lnTo>
                    <a:lnTo>
                      <a:pt x="805" y="235"/>
                    </a:lnTo>
                    <a:lnTo>
                      <a:pt x="820" y="279"/>
                    </a:lnTo>
                    <a:lnTo>
                      <a:pt x="887" y="312"/>
                    </a:lnTo>
                    <a:lnTo>
                      <a:pt x="860" y="333"/>
                    </a:lnTo>
                    <a:lnTo>
                      <a:pt x="900" y="365"/>
                    </a:lnTo>
                    <a:lnTo>
                      <a:pt x="929" y="333"/>
                    </a:lnTo>
                    <a:lnTo>
                      <a:pt x="958" y="327"/>
                    </a:lnTo>
                    <a:lnTo>
                      <a:pt x="998" y="398"/>
                    </a:lnTo>
                    <a:lnTo>
                      <a:pt x="1020" y="370"/>
                    </a:lnTo>
                    <a:lnTo>
                      <a:pt x="1046" y="385"/>
                    </a:lnTo>
                    <a:lnTo>
                      <a:pt x="1059" y="431"/>
                    </a:lnTo>
                    <a:lnTo>
                      <a:pt x="1052" y="466"/>
                    </a:lnTo>
                    <a:lnTo>
                      <a:pt x="1050" y="505"/>
                    </a:lnTo>
                    <a:lnTo>
                      <a:pt x="1078" y="512"/>
                    </a:lnTo>
                    <a:lnTo>
                      <a:pt x="1101" y="540"/>
                    </a:lnTo>
                    <a:lnTo>
                      <a:pt x="1071" y="543"/>
                    </a:lnTo>
                    <a:lnTo>
                      <a:pt x="1080" y="578"/>
                    </a:lnTo>
                    <a:lnTo>
                      <a:pt x="1080" y="614"/>
                    </a:lnTo>
                    <a:lnTo>
                      <a:pt x="1113" y="631"/>
                    </a:lnTo>
                    <a:lnTo>
                      <a:pt x="1119" y="670"/>
                    </a:lnTo>
                    <a:lnTo>
                      <a:pt x="1156" y="694"/>
                    </a:lnTo>
                    <a:lnTo>
                      <a:pt x="1097" y="732"/>
                    </a:lnTo>
                    <a:lnTo>
                      <a:pt x="1063" y="740"/>
                    </a:lnTo>
                    <a:lnTo>
                      <a:pt x="1026" y="842"/>
                    </a:lnTo>
                    <a:lnTo>
                      <a:pt x="1052" y="851"/>
                    </a:lnTo>
                    <a:lnTo>
                      <a:pt x="1084" y="858"/>
                    </a:lnTo>
                    <a:lnTo>
                      <a:pt x="1087" y="886"/>
                    </a:lnTo>
                    <a:lnTo>
                      <a:pt x="1105" y="946"/>
                    </a:lnTo>
                    <a:lnTo>
                      <a:pt x="1082" y="980"/>
                    </a:lnTo>
                    <a:lnTo>
                      <a:pt x="1063" y="1035"/>
                    </a:lnTo>
                    <a:lnTo>
                      <a:pt x="1048" y="1134"/>
                    </a:lnTo>
                    <a:lnTo>
                      <a:pt x="1048" y="1202"/>
                    </a:lnTo>
                    <a:lnTo>
                      <a:pt x="1062" y="1242"/>
                    </a:lnTo>
                    <a:lnTo>
                      <a:pt x="1059" y="1274"/>
                    </a:lnTo>
                    <a:lnTo>
                      <a:pt x="982" y="1329"/>
                    </a:lnTo>
                    <a:lnTo>
                      <a:pt x="962" y="1376"/>
                    </a:lnTo>
                    <a:lnTo>
                      <a:pt x="879" y="1371"/>
                    </a:lnTo>
                    <a:lnTo>
                      <a:pt x="826" y="1344"/>
                    </a:lnTo>
                    <a:lnTo>
                      <a:pt x="779" y="1343"/>
                    </a:lnTo>
                    <a:lnTo>
                      <a:pt x="754" y="1379"/>
                    </a:lnTo>
                    <a:lnTo>
                      <a:pt x="717" y="1386"/>
                    </a:lnTo>
                    <a:lnTo>
                      <a:pt x="682" y="1361"/>
                    </a:lnTo>
                    <a:lnTo>
                      <a:pt x="649" y="1354"/>
                    </a:lnTo>
                    <a:lnTo>
                      <a:pt x="598" y="1365"/>
                    </a:lnTo>
                    <a:lnTo>
                      <a:pt x="544" y="1425"/>
                    </a:lnTo>
                    <a:lnTo>
                      <a:pt x="515" y="1479"/>
                    </a:lnTo>
                    <a:lnTo>
                      <a:pt x="485" y="1504"/>
                    </a:lnTo>
                    <a:lnTo>
                      <a:pt x="449" y="1512"/>
                    </a:lnTo>
                    <a:lnTo>
                      <a:pt x="346" y="1570"/>
                    </a:lnTo>
                    <a:lnTo>
                      <a:pt x="320" y="1595"/>
                    </a:lnTo>
                    <a:lnTo>
                      <a:pt x="276" y="1590"/>
                    </a:lnTo>
                    <a:lnTo>
                      <a:pt x="196" y="1604"/>
                    </a:lnTo>
                    <a:lnTo>
                      <a:pt x="170" y="1593"/>
                    </a:lnTo>
                    <a:lnTo>
                      <a:pt x="110" y="1606"/>
                    </a:lnTo>
                    <a:lnTo>
                      <a:pt x="42" y="1565"/>
                    </a:lnTo>
                    <a:lnTo>
                      <a:pt x="15" y="1522"/>
                    </a:lnTo>
                    <a:lnTo>
                      <a:pt x="0" y="1479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557"/>
              <p:cNvSpPr/>
              <p:nvPr/>
            </p:nvSpPr>
            <p:spPr>
              <a:xfrm>
                <a:off x="6353280" y="5275440"/>
                <a:ext cx="1083960" cy="768240"/>
              </a:xfrm>
              <a:custGeom>
                <a:avLst/>
                <a:gdLst>
                  <a:gd name="textAreaLeft" fmla="*/ 0 w 1083960"/>
                  <a:gd name="textAreaRight" fmla="*/ 1084320 w 1083960"/>
                  <a:gd name="textAreaTop" fmla="*/ 0 h 768240"/>
                  <a:gd name="textAreaBottom" fmla="*/ 768600 h 768240"/>
                </a:gdLst>
                <a:ahLst/>
                <a:rect l="textAreaLeft" t="textAreaTop" r="textAreaRight" b="textAreaBottom"/>
                <a:pathLst>
                  <a:path w="1443" h="1025">
                    <a:moveTo>
                      <a:pt x="0" y="201"/>
                    </a:moveTo>
                    <a:lnTo>
                      <a:pt x="29" y="205"/>
                    </a:lnTo>
                    <a:lnTo>
                      <a:pt x="61" y="172"/>
                    </a:lnTo>
                    <a:lnTo>
                      <a:pt x="124" y="162"/>
                    </a:lnTo>
                    <a:lnTo>
                      <a:pt x="158" y="163"/>
                    </a:lnTo>
                    <a:lnTo>
                      <a:pt x="175" y="188"/>
                    </a:lnTo>
                    <a:lnTo>
                      <a:pt x="212" y="178"/>
                    </a:lnTo>
                    <a:lnTo>
                      <a:pt x="253" y="196"/>
                    </a:lnTo>
                    <a:lnTo>
                      <a:pt x="297" y="190"/>
                    </a:lnTo>
                    <a:lnTo>
                      <a:pt x="377" y="184"/>
                    </a:lnTo>
                    <a:lnTo>
                      <a:pt x="450" y="217"/>
                    </a:lnTo>
                    <a:lnTo>
                      <a:pt x="495" y="205"/>
                    </a:lnTo>
                    <a:lnTo>
                      <a:pt x="542" y="202"/>
                    </a:lnTo>
                    <a:lnTo>
                      <a:pt x="586" y="224"/>
                    </a:lnTo>
                    <a:lnTo>
                      <a:pt x="616" y="201"/>
                    </a:lnTo>
                    <a:lnTo>
                      <a:pt x="648" y="177"/>
                    </a:lnTo>
                    <a:lnTo>
                      <a:pt x="696" y="179"/>
                    </a:lnTo>
                    <a:lnTo>
                      <a:pt x="717" y="158"/>
                    </a:lnTo>
                    <a:lnTo>
                      <a:pt x="745" y="135"/>
                    </a:lnTo>
                    <a:lnTo>
                      <a:pt x="791" y="151"/>
                    </a:lnTo>
                    <a:lnTo>
                      <a:pt x="807" y="116"/>
                    </a:lnTo>
                    <a:lnTo>
                      <a:pt x="842" y="86"/>
                    </a:lnTo>
                    <a:lnTo>
                      <a:pt x="883" y="77"/>
                    </a:lnTo>
                    <a:lnTo>
                      <a:pt x="952" y="49"/>
                    </a:lnTo>
                    <a:lnTo>
                      <a:pt x="980" y="38"/>
                    </a:lnTo>
                    <a:lnTo>
                      <a:pt x="1012" y="33"/>
                    </a:lnTo>
                    <a:lnTo>
                      <a:pt x="1051" y="0"/>
                    </a:lnTo>
                    <a:lnTo>
                      <a:pt x="1081" y="18"/>
                    </a:lnTo>
                    <a:lnTo>
                      <a:pt x="1114" y="24"/>
                    </a:lnTo>
                    <a:lnTo>
                      <a:pt x="1098" y="51"/>
                    </a:lnTo>
                    <a:lnTo>
                      <a:pt x="1088" y="86"/>
                    </a:lnTo>
                    <a:lnTo>
                      <a:pt x="1079" y="113"/>
                    </a:lnTo>
                    <a:lnTo>
                      <a:pt x="1061" y="151"/>
                    </a:lnTo>
                    <a:lnTo>
                      <a:pt x="1032" y="184"/>
                    </a:lnTo>
                    <a:lnTo>
                      <a:pt x="1044" y="234"/>
                    </a:lnTo>
                    <a:lnTo>
                      <a:pt x="1012" y="257"/>
                    </a:lnTo>
                    <a:lnTo>
                      <a:pt x="1013" y="303"/>
                    </a:lnTo>
                    <a:lnTo>
                      <a:pt x="1043" y="315"/>
                    </a:lnTo>
                    <a:lnTo>
                      <a:pt x="1098" y="300"/>
                    </a:lnTo>
                    <a:lnTo>
                      <a:pt x="1120" y="329"/>
                    </a:lnTo>
                    <a:lnTo>
                      <a:pt x="1133" y="358"/>
                    </a:lnTo>
                    <a:lnTo>
                      <a:pt x="1169" y="356"/>
                    </a:lnTo>
                    <a:lnTo>
                      <a:pt x="1216" y="341"/>
                    </a:lnTo>
                    <a:lnTo>
                      <a:pt x="1251" y="322"/>
                    </a:lnTo>
                    <a:lnTo>
                      <a:pt x="1272" y="303"/>
                    </a:lnTo>
                    <a:lnTo>
                      <a:pt x="1266" y="275"/>
                    </a:lnTo>
                    <a:lnTo>
                      <a:pt x="1288" y="251"/>
                    </a:lnTo>
                    <a:lnTo>
                      <a:pt x="1329" y="246"/>
                    </a:lnTo>
                    <a:lnTo>
                      <a:pt x="1351" y="202"/>
                    </a:lnTo>
                    <a:lnTo>
                      <a:pt x="1401" y="216"/>
                    </a:lnTo>
                    <a:lnTo>
                      <a:pt x="1409" y="251"/>
                    </a:lnTo>
                    <a:lnTo>
                      <a:pt x="1413" y="311"/>
                    </a:lnTo>
                    <a:lnTo>
                      <a:pt x="1441" y="324"/>
                    </a:lnTo>
                    <a:lnTo>
                      <a:pt x="1443" y="354"/>
                    </a:lnTo>
                    <a:lnTo>
                      <a:pt x="1405" y="370"/>
                    </a:lnTo>
                    <a:lnTo>
                      <a:pt x="1331" y="379"/>
                    </a:lnTo>
                    <a:lnTo>
                      <a:pt x="1326" y="413"/>
                    </a:lnTo>
                    <a:lnTo>
                      <a:pt x="1356" y="433"/>
                    </a:lnTo>
                    <a:lnTo>
                      <a:pt x="1306" y="475"/>
                    </a:lnTo>
                    <a:lnTo>
                      <a:pt x="1307" y="511"/>
                    </a:lnTo>
                    <a:lnTo>
                      <a:pt x="1304" y="547"/>
                    </a:lnTo>
                    <a:lnTo>
                      <a:pt x="1259" y="590"/>
                    </a:lnTo>
                    <a:lnTo>
                      <a:pt x="1260" y="641"/>
                    </a:lnTo>
                    <a:lnTo>
                      <a:pt x="1242" y="668"/>
                    </a:lnTo>
                    <a:lnTo>
                      <a:pt x="1227" y="709"/>
                    </a:lnTo>
                    <a:lnTo>
                      <a:pt x="1231" y="775"/>
                    </a:lnTo>
                    <a:lnTo>
                      <a:pt x="1261" y="759"/>
                    </a:lnTo>
                    <a:lnTo>
                      <a:pt x="1260" y="790"/>
                    </a:lnTo>
                    <a:lnTo>
                      <a:pt x="1290" y="795"/>
                    </a:lnTo>
                    <a:lnTo>
                      <a:pt x="1332" y="803"/>
                    </a:lnTo>
                    <a:lnTo>
                      <a:pt x="1340" y="835"/>
                    </a:lnTo>
                    <a:lnTo>
                      <a:pt x="1362" y="871"/>
                    </a:lnTo>
                    <a:lnTo>
                      <a:pt x="1371" y="899"/>
                    </a:lnTo>
                    <a:lnTo>
                      <a:pt x="1384" y="930"/>
                    </a:lnTo>
                    <a:lnTo>
                      <a:pt x="1378" y="939"/>
                    </a:lnTo>
                    <a:lnTo>
                      <a:pt x="1368" y="936"/>
                    </a:lnTo>
                    <a:lnTo>
                      <a:pt x="1319" y="976"/>
                    </a:lnTo>
                    <a:lnTo>
                      <a:pt x="1322" y="993"/>
                    </a:lnTo>
                    <a:lnTo>
                      <a:pt x="1305" y="1000"/>
                    </a:lnTo>
                    <a:lnTo>
                      <a:pt x="1299" y="1025"/>
                    </a:lnTo>
                    <a:lnTo>
                      <a:pt x="1266" y="1025"/>
                    </a:lnTo>
                    <a:lnTo>
                      <a:pt x="1232" y="998"/>
                    </a:lnTo>
                    <a:lnTo>
                      <a:pt x="1188" y="984"/>
                    </a:lnTo>
                    <a:lnTo>
                      <a:pt x="1166" y="1008"/>
                    </a:lnTo>
                    <a:lnTo>
                      <a:pt x="1134" y="1002"/>
                    </a:lnTo>
                    <a:lnTo>
                      <a:pt x="1053" y="1024"/>
                    </a:lnTo>
                    <a:lnTo>
                      <a:pt x="1007" y="1000"/>
                    </a:lnTo>
                    <a:lnTo>
                      <a:pt x="983" y="941"/>
                    </a:lnTo>
                    <a:lnTo>
                      <a:pt x="947" y="892"/>
                    </a:lnTo>
                    <a:lnTo>
                      <a:pt x="926" y="867"/>
                    </a:lnTo>
                    <a:lnTo>
                      <a:pt x="892" y="849"/>
                    </a:lnTo>
                    <a:lnTo>
                      <a:pt x="866" y="822"/>
                    </a:lnTo>
                    <a:lnTo>
                      <a:pt x="838" y="778"/>
                    </a:lnTo>
                    <a:lnTo>
                      <a:pt x="801" y="738"/>
                    </a:lnTo>
                    <a:lnTo>
                      <a:pt x="775" y="701"/>
                    </a:lnTo>
                    <a:lnTo>
                      <a:pt x="725" y="651"/>
                    </a:lnTo>
                    <a:lnTo>
                      <a:pt x="683" y="625"/>
                    </a:lnTo>
                    <a:lnTo>
                      <a:pt x="661" y="600"/>
                    </a:lnTo>
                    <a:lnTo>
                      <a:pt x="622" y="601"/>
                    </a:lnTo>
                    <a:lnTo>
                      <a:pt x="603" y="621"/>
                    </a:lnTo>
                    <a:lnTo>
                      <a:pt x="561" y="613"/>
                    </a:lnTo>
                    <a:lnTo>
                      <a:pt x="532" y="607"/>
                    </a:lnTo>
                    <a:lnTo>
                      <a:pt x="485" y="594"/>
                    </a:lnTo>
                    <a:lnTo>
                      <a:pt x="377" y="639"/>
                    </a:lnTo>
                    <a:lnTo>
                      <a:pt x="351" y="660"/>
                    </a:lnTo>
                    <a:lnTo>
                      <a:pt x="314" y="636"/>
                    </a:lnTo>
                    <a:lnTo>
                      <a:pt x="308" y="597"/>
                    </a:lnTo>
                    <a:lnTo>
                      <a:pt x="275" y="580"/>
                    </a:lnTo>
                    <a:lnTo>
                      <a:pt x="275" y="544"/>
                    </a:lnTo>
                    <a:lnTo>
                      <a:pt x="266" y="509"/>
                    </a:lnTo>
                    <a:lnTo>
                      <a:pt x="296" y="506"/>
                    </a:lnTo>
                    <a:lnTo>
                      <a:pt x="273" y="478"/>
                    </a:lnTo>
                    <a:lnTo>
                      <a:pt x="245" y="471"/>
                    </a:lnTo>
                    <a:lnTo>
                      <a:pt x="247" y="432"/>
                    </a:lnTo>
                    <a:lnTo>
                      <a:pt x="254" y="397"/>
                    </a:lnTo>
                    <a:lnTo>
                      <a:pt x="241" y="351"/>
                    </a:lnTo>
                    <a:lnTo>
                      <a:pt x="215" y="336"/>
                    </a:lnTo>
                    <a:lnTo>
                      <a:pt x="193" y="364"/>
                    </a:lnTo>
                    <a:lnTo>
                      <a:pt x="153" y="293"/>
                    </a:lnTo>
                    <a:lnTo>
                      <a:pt x="124" y="299"/>
                    </a:lnTo>
                    <a:lnTo>
                      <a:pt x="95" y="331"/>
                    </a:lnTo>
                    <a:lnTo>
                      <a:pt x="55" y="299"/>
                    </a:lnTo>
                    <a:lnTo>
                      <a:pt x="82" y="278"/>
                    </a:lnTo>
                    <a:lnTo>
                      <a:pt x="15" y="245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558"/>
              <p:cNvSpPr/>
              <p:nvPr/>
            </p:nvSpPr>
            <p:spPr>
              <a:xfrm>
                <a:off x="4900680" y="4713480"/>
                <a:ext cx="1369800" cy="1569960"/>
              </a:xfrm>
              <a:custGeom>
                <a:avLst/>
                <a:gdLst>
                  <a:gd name="textAreaLeft" fmla="*/ 0 w 1369800"/>
                  <a:gd name="textAreaRight" fmla="*/ 1370160 w 1369800"/>
                  <a:gd name="textAreaTop" fmla="*/ 0 h 1569960"/>
                  <a:gd name="textAreaBottom" fmla="*/ 1570320 h 1569960"/>
                </a:gdLst>
                <a:ahLst/>
                <a:rect l="textAreaLeft" t="textAreaTop" r="textAreaRight" b="textAreaBottom"/>
                <a:pathLst>
                  <a:path w="1818" h="2091">
                    <a:moveTo>
                      <a:pt x="0" y="1670"/>
                    </a:moveTo>
                    <a:lnTo>
                      <a:pt x="31" y="1625"/>
                    </a:lnTo>
                    <a:lnTo>
                      <a:pt x="72" y="1630"/>
                    </a:lnTo>
                    <a:lnTo>
                      <a:pt x="88" y="1568"/>
                    </a:lnTo>
                    <a:lnTo>
                      <a:pt x="78" y="1515"/>
                    </a:lnTo>
                    <a:lnTo>
                      <a:pt x="96" y="1476"/>
                    </a:lnTo>
                    <a:lnTo>
                      <a:pt x="88" y="1424"/>
                    </a:lnTo>
                    <a:lnTo>
                      <a:pt x="106" y="1394"/>
                    </a:lnTo>
                    <a:lnTo>
                      <a:pt x="150" y="1376"/>
                    </a:lnTo>
                    <a:lnTo>
                      <a:pt x="155" y="1340"/>
                    </a:lnTo>
                    <a:lnTo>
                      <a:pt x="175" y="1308"/>
                    </a:lnTo>
                    <a:lnTo>
                      <a:pt x="161" y="1265"/>
                    </a:lnTo>
                    <a:lnTo>
                      <a:pt x="139" y="1235"/>
                    </a:lnTo>
                    <a:lnTo>
                      <a:pt x="187" y="1116"/>
                    </a:lnTo>
                    <a:lnTo>
                      <a:pt x="259" y="1128"/>
                    </a:lnTo>
                    <a:lnTo>
                      <a:pt x="299" y="1107"/>
                    </a:lnTo>
                    <a:lnTo>
                      <a:pt x="313" y="1063"/>
                    </a:lnTo>
                    <a:lnTo>
                      <a:pt x="346" y="1086"/>
                    </a:lnTo>
                    <a:lnTo>
                      <a:pt x="398" y="1162"/>
                    </a:lnTo>
                    <a:lnTo>
                      <a:pt x="426" y="1137"/>
                    </a:lnTo>
                    <a:lnTo>
                      <a:pt x="426" y="1083"/>
                    </a:lnTo>
                    <a:lnTo>
                      <a:pt x="431" y="1053"/>
                    </a:lnTo>
                    <a:lnTo>
                      <a:pt x="468" y="1030"/>
                    </a:lnTo>
                    <a:lnTo>
                      <a:pt x="487" y="993"/>
                    </a:lnTo>
                    <a:lnTo>
                      <a:pt x="516" y="959"/>
                    </a:lnTo>
                    <a:lnTo>
                      <a:pt x="540" y="935"/>
                    </a:lnTo>
                    <a:lnTo>
                      <a:pt x="520" y="888"/>
                    </a:lnTo>
                    <a:lnTo>
                      <a:pt x="557" y="863"/>
                    </a:lnTo>
                    <a:lnTo>
                      <a:pt x="563" y="848"/>
                    </a:lnTo>
                    <a:lnTo>
                      <a:pt x="591" y="847"/>
                    </a:lnTo>
                    <a:lnTo>
                      <a:pt x="595" y="853"/>
                    </a:lnTo>
                    <a:lnTo>
                      <a:pt x="588" y="862"/>
                    </a:lnTo>
                    <a:lnTo>
                      <a:pt x="605" y="894"/>
                    </a:lnTo>
                    <a:lnTo>
                      <a:pt x="624" y="907"/>
                    </a:lnTo>
                    <a:lnTo>
                      <a:pt x="639" y="901"/>
                    </a:lnTo>
                    <a:lnTo>
                      <a:pt x="657" y="921"/>
                    </a:lnTo>
                    <a:lnTo>
                      <a:pt x="658" y="932"/>
                    </a:lnTo>
                    <a:lnTo>
                      <a:pt x="684" y="928"/>
                    </a:lnTo>
                    <a:lnTo>
                      <a:pt x="698" y="940"/>
                    </a:lnTo>
                    <a:lnTo>
                      <a:pt x="729" y="924"/>
                    </a:lnTo>
                    <a:lnTo>
                      <a:pt x="717" y="903"/>
                    </a:lnTo>
                    <a:lnTo>
                      <a:pt x="761" y="851"/>
                    </a:lnTo>
                    <a:lnTo>
                      <a:pt x="737" y="798"/>
                    </a:lnTo>
                    <a:lnTo>
                      <a:pt x="724" y="805"/>
                    </a:lnTo>
                    <a:lnTo>
                      <a:pt x="707" y="767"/>
                    </a:lnTo>
                    <a:lnTo>
                      <a:pt x="726" y="737"/>
                    </a:lnTo>
                    <a:lnTo>
                      <a:pt x="750" y="745"/>
                    </a:lnTo>
                    <a:lnTo>
                      <a:pt x="762" y="740"/>
                    </a:lnTo>
                    <a:lnTo>
                      <a:pt x="749" y="681"/>
                    </a:lnTo>
                    <a:lnTo>
                      <a:pt x="689" y="668"/>
                    </a:lnTo>
                    <a:lnTo>
                      <a:pt x="660" y="616"/>
                    </a:lnTo>
                    <a:lnTo>
                      <a:pt x="666" y="601"/>
                    </a:lnTo>
                    <a:lnTo>
                      <a:pt x="652" y="598"/>
                    </a:lnTo>
                    <a:lnTo>
                      <a:pt x="658" y="558"/>
                    </a:lnTo>
                    <a:lnTo>
                      <a:pt x="686" y="531"/>
                    </a:lnTo>
                    <a:lnTo>
                      <a:pt x="677" y="505"/>
                    </a:lnTo>
                    <a:lnTo>
                      <a:pt x="707" y="493"/>
                    </a:lnTo>
                    <a:lnTo>
                      <a:pt x="707" y="478"/>
                    </a:lnTo>
                    <a:lnTo>
                      <a:pt x="751" y="435"/>
                    </a:lnTo>
                    <a:lnTo>
                      <a:pt x="751" y="409"/>
                    </a:lnTo>
                    <a:lnTo>
                      <a:pt x="778" y="386"/>
                    </a:lnTo>
                    <a:lnTo>
                      <a:pt x="769" y="339"/>
                    </a:lnTo>
                    <a:lnTo>
                      <a:pt x="790" y="316"/>
                    </a:lnTo>
                    <a:lnTo>
                      <a:pt x="789" y="287"/>
                    </a:lnTo>
                    <a:lnTo>
                      <a:pt x="741" y="233"/>
                    </a:lnTo>
                    <a:lnTo>
                      <a:pt x="739" y="218"/>
                    </a:lnTo>
                    <a:lnTo>
                      <a:pt x="757" y="202"/>
                    </a:lnTo>
                    <a:lnTo>
                      <a:pt x="749" y="184"/>
                    </a:lnTo>
                    <a:lnTo>
                      <a:pt x="756" y="172"/>
                    </a:lnTo>
                    <a:lnTo>
                      <a:pt x="770" y="171"/>
                    </a:lnTo>
                    <a:lnTo>
                      <a:pt x="758" y="138"/>
                    </a:lnTo>
                    <a:lnTo>
                      <a:pt x="767" y="78"/>
                    </a:lnTo>
                    <a:lnTo>
                      <a:pt x="748" y="58"/>
                    </a:lnTo>
                    <a:lnTo>
                      <a:pt x="772" y="54"/>
                    </a:lnTo>
                    <a:lnTo>
                      <a:pt x="808" y="69"/>
                    </a:lnTo>
                    <a:lnTo>
                      <a:pt x="830" y="44"/>
                    </a:lnTo>
                    <a:lnTo>
                      <a:pt x="869" y="35"/>
                    </a:lnTo>
                    <a:lnTo>
                      <a:pt x="855" y="0"/>
                    </a:lnTo>
                    <a:lnTo>
                      <a:pt x="907" y="61"/>
                    </a:lnTo>
                    <a:lnTo>
                      <a:pt x="879" y="69"/>
                    </a:lnTo>
                    <a:lnTo>
                      <a:pt x="887" y="107"/>
                    </a:lnTo>
                    <a:lnTo>
                      <a:pt x="934" y="101"/>
                    </a:lnTo>
                    <a:lnTo>
                      <a:pt x="964" y="134"/>
                    </a:lnTo>
                    <a:lnTo>
                      <a:pt x="994" y="210"/>
                    </a:lnTo>
                    <a:lnTo>
                      <a:pt x="973" y="283"/>
                    </a:lnTo>
                    <a:lnTo>
                      <a:pt x="1016" y="278"/>
                    </a:lnTo>
                    <a:lnTo>
                      <a:pt x="1031" y="322"/>
                    </a:lnTo>
                    <a:lnTo>
                      <a:pt x="1011" y="366"/>
                    </a:lnTo>
                    <a:lnTo>
                      <a:pt x="1032" y="402"/>
                    </a:lnTo>
                    <a:lnTo>
                      <a:pt x="1070" y="456"/>
                    </a:lnTo>
                    <a:lnTo>
                      <a:pt x="1106" y="473"/>
                    </a:lnTo>
                    <a:lnTo>
                      <a:pt x="1089" y="513"/>
                    </a:lnTo>
                    <a:lnTo>
                      <a:pt x="1076" y="550"/>
                    </a:lnTo>
                    <a:lnTo>
                      <a:pt x="1068" y="620"/>
                    </a:lnTo>
                    <a:lnTo>
                      <a:pt x="1069" y="689"/>
                    </a:lnTo>
                    <a:lnTo>
                      <a:pt x="1050" y="750"/>
                    </a:lnTo>
                    <a:lnTo>
                      <a:pt x="1068" y="778"/>
                    </a:lnTo>
                    <a:lnTo>
                      <a:pt x="1108" y="821"/>
                    </a:lnTo>
                    <a:lnTo>
                      <a:pt x="1166" y="798"/>
                    </a:lnTo>
                    <a:lnTo>
                      <a:pt x="1162" y="769"/>
                    </a:lnTo>
                    <a:lnTo>
                      <a:pt x="1234" y="764"/>
                    </a:lnTo>
                    <a:lnTo>
                      <a:pt x="1279" y="712"/>
                    </a:lnTo>
                    <a:lnTo>
                      <a:pt x="1311" y="733"/>
                    </a:lnTo>
                    <a:lnTo>
                      <a:pt x="1300" y="762"/>
                    </a:lnTo>
                    <a:lnTo>
                      <a:pt x="1319" y="805"/>
                    </a:lnTo>
                    <a:lnTo>
                      <a:pt x="1328" y="759"/>
                    </a:lnTo>
                    <a:lnTo>
                      <a:pt x="1355" y="748"/>
                    </a:lnTo>
                    <a:lnTo>
                      <a:pt x="1375" y="672"/>
                    </a:lnTo>
                    <a:lnTo>
                      <a:pt x="1409" y="639"/>
                    </a:lnTo>
                    <a:lnTo>
                      <a:pt x="1433" y="588"/>
                    </a:lnTo>
                    <a:lnTo>
                      <a:pt x="1456" y="548"/>
                    </a:lnTo>
                    <a:lnTo>
                      <a:pt x="1462" y="496"/>
                    </a:lnTo>
                    <a:lnTo>
                      <a:pt x="1491" y="485"/>
                    </a:lnTo>
                    <a:lnTo>
                      <a:pt x="1567" y="500"/>
                    </a:lnTo>
                    <a:lnTo>
                      <a:pt x="1595" y="516"/>
                    </a:lnTo>
                    <a:lnTo>
                      <a:pt x="1613" y="542"/>
                    </a:lnTo>
                    <a:lnTo>
                      <a:pt x="1641" y="528"/>
                    </a:lnTo>
                    <a:lnTo>
                      <a:pt x="1634" y="572"/>
                    </a:lnTo>
                    <a:lnTo>
                      <a:pt x="1641" y="613"/>
                    </a:lnTo>
                    <a:lnTo>
                      <a:pt x="1675" y="602"/>
                    </a:lnTo>
                    <a:lnTo>
                      <a:pt x="1702" y="583"/>
                    </a:lnTo>
                    <a:lnTo>
                      <a:pt x="1730" y="594"/>
                    </a:lnTo>
                    <a:lnTo>
                      <a:pt x="1765" y="592"/>
                    </a:lnTo>
                    <a:lnTo>
                      <a:pt x="1761" y="631"/>
                    </a:lnTo>
                    <a:lnTo>
                      <a:pt x="1785" y="678"/>
                    </a:lnTo>
                    <a:lnTo>
                      <a:pt x="1818" y="715"/>
                    </a:lnTo>
                    <a:lnTo>
                      <a:pt x="1772" y="740"/>
                    </a:lnTo>
                    <a:lnTo>
                      <a:pt x="1742" y="765"/>
                    </a:lnTo>
                    <a:lnTo>
                      <a:pt x="1701" y="786"/>
                    </a:lnTo>
                    <a:lnTo>
                      <a:pt x="1708" y="858"/>
                    </a:lnTo>
                    <a:lnTo>
                      <a:pt x="1701" y="890"/>
                    </a:lnTo>
                    <a:lnTo>
                      <a:pt x="1739" y="943"/>
                    </a:lnTo>
                    <a:lnTo>
                      <a:pt x="1766" y="933"/>
                    </a:lnTo>
                    <a:lnTo>
                      <a:pt x="1755" y="1010"/>
                    </a:lnTo>
                    <a:lnTo>
                      <a:pt x="1712" y="1036"/>
                    </a:lnTo>
                    <a:lnTo>
                      <a:pt x="1663" y="1025"/>
                    </a:lnTo>
                    <a:lnTo>
                      <a:pt x="1636" y="1032"/>
                    </a:lnTo>
                    <a:lnTo>
                      <a:pt x="1651" y="983"/>
                    </a:lnTo>
                    <a:lnTo>
                      <a:pt x="1631" y="1008"/>
                    </a:lnTo>
                    <a:lnTo>
                      <a:pt x="1584" y="1047"/>
                    </a:lnTo>
                    <a:lnTo>
                      <a:pt x="1553" y="1101"/>
                    </a:lnTo>
                    <a:lnTo>
                      <a:pt x="1523" y="1108"/>
                    </a:lnTo>
                    <a:lnTo>
                      <a:pt x="1499" y="1144"/>
                    </a:lnTo>
                    <a:lnTo>
                      <a:pt x="1472" y="1123"/>
                    </a:lnTo>
                    <a:lnTo>
                      <a:pt x="1421" y="1134"/>
                    </a:lnTo>
                    <a:lnTo>
                      <a:pt x="1385" y="1096"/>
                    </a:lnTo>
                    <a:lnTo>
                      <a:pt x="1355" y="1122"/>
                    </a:lnTo>
                    <a:lnTo>
                      <a:pt x="1324" y="1116"/>
                    </a:lnTo>
                    <a:lnTo>
                      <a:pt x="1290" y="1095"/>
                    </a:lnTo>
                    <a:lnTo>
                      <a:pt x="1273" y="1141"/>
                    </a:lnTo>
                    <a:lnTo>
                      <a:pt x="1235" y="1139"/>
                    </a:lnTo>
                    <a:lnTo>
                      <a:pt x="1205" y="1133"/>
                    </a:lnTo>
                    <a:lnTo>
                      <a:pt x="1172" y="1155"/>
                    </a:lnTo>
                    <a:lnTo>
                      <a:pt x="1141" y="1181"/>
                    </a:lnTo>
                    <a:lnTo>
                      <a:pt x="1114" y="1195"/>
                    </a:lnTo>
                    <a:lnTo>
                      <a:pt x="1088" y="1236"/>
                    </a:lnTo>
                    <a:lnTo>
                      <a:pt x="1082" y="1264"/>
                    </a:lnTo>
                    <a:lnTo>
                      <a:pt x="1110" y="1281"/>
                    </a:lnTo>
                    <a:lnTo>
                      <a:pt x="1141" y="1308"/>
                    </a:lnTo>
                    <a:lnTo>
                      <a:pt x="1111" y="1327"/>
                    </a:lnTo>
                    <a:lnTo>
                      <a:pt x="1116" y="1362"/>
                    </a:lnTo>
                    <a:lnTo>
                      <a:pt x="1107" y="1390"/>
                    </a:lnTo>
                    <a:lnTo>
                      <a:pt x="1124" y="1425"/>
                    </a:lnTo>
                    <a:lnTo>
                      <a:pt x="1126" y="1463"/>
                    </a:lnTo>
                    <a:lnTo>
                      <a:pt x="1122" y="1498"/>
                    </a:lnTo>
                    <a:lnTo>
                      <a:pt x="1111" y="1534"/>
                    </a:lnTo>
                    <a:lnTo>
                      <a:pt x="1126" y="1578"/>
                    </a:lnTo>
                    <a:lnTo>
                      <a:pt x="1117" y="1633"/>
                    </a:lnTo>
                    <a:lnTo>
                      <a:pt x="1122" y="1724"/>
                    </a:lnTo>
                    <a:lnTo>
                      <a:pt x="979" y="1869"/>
                    </a:lnTo>
                    <a:lnTo>
                      <a:pt x="841" y="2029"/>
                    </a:lnTo>
                    <a:lnTo>
                      <a:pt x="821" y="2060"/>
                    </a:lnTo>
                    <a:lnTo>
                      <a:pt x="778" y="2076"/>
                    </a:lnTo>
                    <a:lnTo>
                      <a:pt x="752" y="2091"/>
                    </a:lnTo>
                    <a:lnTo>
                      <a:pt x="748" y="2049"/>
                    </a:lnTo>
                    <a:lnTo>
                      <a:pt x="711" y="2051"/>
                    </a:lnTo>
                    <a:lnTo>
                      <a:pt x="686" y="2032"/>
                    </a:lnTo>
                    <a:lnTo>
                      <a:pt x="685" y="1998"/>
                    </a:lnTo>
                    <a:lnTo>
                      <a:pt x="658" y="1982"/>
                    </a:lnTo>
                    <a:lnTo>
                      <a:pt x="599" y="1939"/>
                    </a:lnTo>
                    <a:lnTo>
                      <a:pt x="566" y="1941"/>
                    </a:lnTo>
                    <a:lnTo>
                      <a:pt x="541" y="1921"/>
                    </a:lnTo>
                    <a:lnTo>
                      <a:pt x="505" y="1881"/>
                    </a:lnTo>
                    <a:lnTo>
                      <a:pt x="461" y="1845"/>
                    </a:lnTo>
                    <a:lnTo>
                      <a:pt x="439" y="1826"/>
                    </a:lnTo>
                    <a:lnTo>
                      <a:pt x="422" y="1800"/>
                    </a:lnTo>
                    <a:lnTo>
                      <a:pt x="387" y="1788"/>
                    </a:lnTo>
                    <a:lnTo>
                      <a:pt x="358" y="1814"/>
                    </a:lnTo>
                    <a:lnTo>
                      <a:pt x="328" y="1826"/>
                    </a:lnTo>
                    <a:lnTo>
                      <a:pt x="319" y="1860"/>
                    </a:lnTo>
                    <a:lnTo>
                      <a:pt x="285" y="1826"/>
                    </a:lnTo>
                    <a:lnTo>
                      <a:pt x="233" y="1841"/>
                    </a:lnTo>
                    <a:lnTo>
                      <a:pt x="210" y="1817"/>
                    </a:lnTo>
                    <a:lnTo>
                      <a:pt x="176" y="1802"/>
                    </a:lnTo>
                    <a:lnTo>
                      <a:pt x="153" y="1769"/>
                    </a:lnTo>
                    <a:lnTo>
                      <a:pt x="92" y="1763"/>
                    </a:lnTo>
                    <a:lnTo>
                      <a:pt x="60" y="1730"/>
                    </a:lnTo>
                    <a:lnTo>
                      <a:pt x="37" y="1698"/>
                    </a:lnTo>
                    <a:lnTo>
                      <a:pt x="0" y="1670"/>
                    </a:lnTo>
                    <a:lnTo>
                      <a:pt x="683" y="1737"/>
                    </a:lnTo>
                    <a:lnTo>
                      <a:pt x="661" y="1690"/>
                    </a:lnTo>
                    <a:lnTo>
                      <a:pt x="602" y="1666"/>
                    </a:lnTo>
                    <a:lnTo>
                      <a:pt x="576" y="1690"/>
                    </a:lnTo>
                    <a:lnTo>
                      <a:pt x="621" y="1722"/>
                    </a:lnTo>
                    <a:lnTo>
                      <a:pt x="613" y="1757"/>
                    </a:lnTo>
                    <a:lnTo>
                      <a:pt x="570" y="1780"/>
                    </a:lnTo>
                    <a:lnTo>
                      <a:pt x="599" y="1800"/>
                    </a:lnTo>
                    <a:lnTo>
                      <a:pt x="635" y="1801"/>
                    </a:lnTo>
                    <a:lnTo>
                      <a:pt x="644" y="1766"/>
                    </a:lnTo>
                    <a:lnTo>
                      <a:pt x="679" y="1779"/>
                    </a:lnTo>
                    <a:lnTo>
                      <a:pt x="691" y="1826"/>
                    </a:lnTo>
                    <a:lnTo>
                      <a:pt x="742" y="1848"/>
                    </a:lnTo>
                    <a:lnTo>
                      <a:pt x="743" y="1793"/>
                    </a:lnTo>
                    <a:lnTo>
                      <a:pt x="783" y="1794"/>
                    </a:lnTo>
                    <a:lnTo>
                      <a:pt x="788" y="1828"/>
                    </a:lnTo>
                    <a:lnTo>
                      <a:pt x="802" y="1859"/>
                    </a:lnTo>
                    <a:lnTo>
                      <a:pt x="840" y="1886"/>
                    </a:lnTo>
                    <a:lnTo>
                      <a:pt x="881" y="1834"/>
                    </a:lnTo>
                    <a:lnTo>
                      <a:pt x="904" y="1789"/>
                    </a:lnTo>
                    <a:lnTo>
                      <a:pt x="919" y="1744"/>
                    </a:lnTo>
                    <a:lnTo>
                      <a:pt x="880" y="1726"/>
                    </a:lnTo>
                    <a:lnTo>
                      <a:pt x="879" y="1692"/>
                    </a:lnTo>
                    <a:lnTo>
                      <a:pt x="863" y="1728"/>
                    </a:lnTo>
                    <a:lnTo>
                      <a:pt x="821" y="1733"/>
                    </a:lnTo>
                    <a:lnTo>
                      <a:pt x="776" y="1714"/>
                    </a:lnTo>
                    <a:lnTo>
                      <a:pt x="757" y="1676"/>
                    </a:lnTo>
                    <a:lnTo>
                      <a:pt x="756" y="1642"/>
                    </a:lnTo>
                    <a:lnTo>
                      <a:pt x="723" y="1657"/>
                    </a:lnTo>
                    <a:lnTo>
                      <a:pt x="677" y="1687"/>
                    </a:lnTo>
                    <a:lnTo>
                      <a:pt x="683" y="1737"/>
                    </a:lnTo>
                    <a:lnTo>
                      <a:pt x="0" y="1670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62"/>
              <p:cNvSpPr/>
              <p:nvPr/>
            </p:nvSpPr>
            <p:spPr>
              <a:xfrm>
                <a:off x="4336920" y="5791320"/>
                <a:ext cx="282240" cy="490320"/>
              </a:xfrm>
              <a:custGeom>
                <a:avLst/>
                <a:gdLst>
                  <a:gd name="textAreaLeft" fmla="*/ 0 w 282240"/>
                  <a:gd name="textAreaRight" fmla="*/ 282240 w 28224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379" h="652">
                    <a:moveTo>
                      <a:pt x="0" y="570"/>
                    </a:moveTo>
                    <a:lnTo>
                      <a:pt x="15" y="555"/>
                    </a:lnTo>
                    <a:lnTo>
                      <a:pt x="26" y="530"/>
                    </a:lnTo>
                    <a:lnTo>
                      <a:pt x="36" y="533"/>
                    </a:lnTo>
                    <a:lnTo>
                      <a:pt x="49" y="527"/>
                    </a:lnTo>
                    <a:lnTo>
                      <a:pt x="84" y="503"/>
                    </a:lnTo>
                    <a:lnTo>
                      <a:pt x="88" y="485"/>
                    </a:lnTo>
                    <a:lnTo>
                      <a:pt x="130" y="454"/>
                    </a:lnTo>
                    <a:lnTo>
                      <a:pt x="121" y="440"/>
                    </a:lnTo>
                    <a:lnTo>
                      <a:pt x="131" y="435"/>
                    </a:lnTo>
                    <a:lnTo>
                      <a:pt x="140" y="420"/>
                    </a:lnTo>
                    <a:lnTo>
                      <a:pt x="107" y="392"/>
                    </a:lnTo>
                    <a:lnTo>
                      <a:pt x="127" y="352"/>
                    </a:lnTo>
                    <a:lnTo>
                      <a:pt x="112" y="328"/>
                    </a:lnTo>
                    <a:lnTo>
                      <a:pt x="103" y="341"/>
                    </a:lnTo>
                    <a:lnTo>
                      <a:pt x="114" y="287"/>
                    </a:lnTo>
                    <a:lnTo>
                      <a:pt x="147" y="270"/>
                    </a:lnTo>
                    <a:lnTo>
                      <a:pt x="138" y="249"/>
                    </a:lnTo>
                    <a:lnTo>
                      <a:pt x="132" y="250"/>
                    </a:lnTo>
                    <a:lnTo>
                      <a:pt x="132" y="222"/>
                    </a:lnTo>
                    <a:lnTo>
                      <a:pt x="149" y="217"/>
                    </a:lnTo>
                    <a:lnTo>
                      <a:pt x="155" y="206"/>
                    </a:lnTo>
                    <a:lnTo>
                      <a:pt x="143" y="189"/>
                    </a:lnTo>
                    <a:lnTo>
                      <a:pt x="137" y="194"/>
                    </a:lnTo>
                    <a:lnTo>
                      <a:pt x="121" y="174"/>
                    </a:lnTo>
                    <a:lnTo>
                      <a:pt x="106" y="192"/>
                    </a:lnTo>
                    <a:lnTo>
                      <a:pt x="77" y="167"/>
                    </a:lnTo>
                    <a:lnTo>
                      <a:pt x="98" y="169"/>
                    </a:lnTo>
                    <a:lnTo>
                      <a:pt x="107" y="122"/>
                    </a:lnTo>
                    <a:lnTo>
                      <a:pt x="117" y="121"/>
                    </a:lnTo>
                    <a:lnTo>
                      <a:pt x="123" y="110"/>
                    </a:lnTo>
                    <a:lnTo>
                      <a:pt x="111" y="93"/>
                    </a:lnTo>
                    <a:lnTo>
                      <a:pt x="118" y="62"/>
                    </a:lnTo>
                    <a:lnTo>
                      <a:pt x="100" y="41"/>
                    </a:lnTo>
                    <a:lnTo>
                      <a:pt x="101" y="27"/>
                    </a:lnTo>
                    <a:lnTo>
                      <a:pt x="123" y="0"/>
                    </a:lnTo>
                    <a:lnTo>
                      <a:pt x="137" y="14"/>
                    </a:lnTo>
                    <a:lnTo>
                      <a:pt x="160" y="48"/>
                    </a:lnTo>
                    <a:lnTo>
                      <a:pt x="189" y="70"/>
                    </a:lnTo>
                    <a:lnTo>
                      <a:pt x="240" y="70"/>
                    </a:lnTo>
                    <a:lnTo>
                      <a:pt x="274" y="77"/>
                    </a:lnTo>
                    <a:lnTo>
                      <a:pt x="300" y="99"/>
                    </a:lnTo>
                    <a:lnTo>
                      <a:pt x="301" y="140"/>
                    </a:lnTo>
                    <a:lnTo>
                      <a:pt x="325" y="171"/>
                    </a:lnTo>
                    <a:lnTo>
                      <a:pt x="349" y="236"/>
                    </a:lnTo>
                    <a:lnTo>
                      <a:pt x="340" y="276"/>
                    </a:lnTo>
                    <a:lnTo>
                      <a:pt x="354" y="317"/>
                    </a:lnTo>
                    <a:lnTo>
                      <a:pt x="379" y="341"/>
                    </a:lnTo>
                    <a:lnTo>
                      <a:pt x="362" y="373"/>
                    </a:lnTo>
                    <a:lnTo>
                      <a:pt x="334" y="387"/>
                    </a:lnTo>
                    <a:lnTo>
                      <a:pt x="328" y="429"/>
                    </a:lnTo>
                    <a:lnTo>
                      <a:pt x="287" y="468"/>
                    </a:lnTo>
                    <a:lnTo>
                      <a:pt x="255" y="527"/>
                    </a:lnTo>
                    <a:lnTo>
                      <a:pt x="220" y="532"/>
                    </a:lnTo>
                    <a:lnTo>
                      <a:pt x="198" y="558"/>
                    </a:lnTo>
                    <a:lnTo>
                      <a:pt x="202" y="590"/>
                    </a:lnTo>
                    <a:lnTo>
                      <a:pt x="164" y="624"/>
                    </a:lnTo>
                    <a:lnTo>
                      <a:pt x="143" y="608"/>
                    </a:lnTo>
                    <a:lnTo>
                      <a:pt x="130" y="613"/>
                    </a:lnTo>
                    <a:lnTo>
                      <a:pt x="123" y="600"/>
                    </a:lnTo>
                    <a:lnTo>
                      <a:pt x="77" y="614"/>
                    </a:lnTo>
                    <a:lnTo>
                      <a:pt x="71" y="623"/>
                    </a:lnTo>
                    <a:lnTo>
                      <a:pt x="74" y="629"/>
                    </a:lnTo>
                    <a:lnTo>
                      <a:pt x="53" y="652"/>
                    </a:lnTo>
                    <a:lnTo>
                      <a:pt x="35" y="636"/>
                    </a:lnTo>
                    <a:lnTo>
                      <a:pt x="26" y="634"/>
                    </a:lnTo>
                    <a:lnTo>
                      <a:pt x="25" y="624"/>
                    </a:lnTo>
                    <a:lnTo>
                      <a:pt x="3" y="612"/>
                    </a:lnTo>
                    <a:lnTo>
                      <a:pt x="23" y="582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64"/>
              <p:cNvSpPr/>
              <p:nvPr/>
            </p:nvSpPr>
            <p:spPr>
              <a:xfrm>
                <a:off x="6480000" y="2981160"/>
                <a:ext cx="41040" cy="45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6" h="58">
                    <a:moveTo>
                      <a:pt x="0" y="5"/>
                    </a:moveTo>
                    <a:lnTo>
                      <a:pt x="31" y="0"/>
                    </a:lnTo>
                    <a:lnTo>
                      <a:pt x="46" y="30"/>
                    </a:lnTo>
                    <a:lnTo>
                      <a:pt x="31" y="5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65"/>
              <p:cNvSpPr/>
              <p:nvPr/>
            </p:nvSpPr>
            <p:spPr>
              <a:xfrm>
                <a:off x="6568920" y="2671560"/>
                <a:ext cx="177480" cy="90360"/>
              </a:xfrm>
              <a:custGeom>
                <a:avLst/>
                <a:gdLst>
                  <a:gd name="textAreaLeft" fmla="*/ 0 w 177480"/>
                  <a:gd name="textAreaRight" fmla="*/ 177480 w 1774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37" h="121">
                    <a:moveTo>
                      <a:pt x="0" y="40"/>
                    </a:moveTo>
                    <a:lnTo>
                      <a:pt x="23" y="65"/>
                    </a:lnTo>
                    <a:lnTo>
                      <a:pt x="61" y="62"/>
                    </a:lnTo>
                    <a:lnTo>
                      <a:pt x="95" y="18"/>
                    </a:lnTo>
                    <a:lnTo>
                      <a:pt x="123" y="43"/>
                    </a:lnTo>
                    <a:lnTo>
                      <a:pt x="145" y="15"/>
                    </a:lnTo>
                    <a:lnTo>
                      <a:pt x="186" y="0"/>
                    </a:lnTo>
                    <a:lnTo>
                      <a:pt x="216" y="8"/>
                    </a:lnTo>
                    <a:lnTo>
                      <a:pt x="237" y="26"/>
                    </a:lnTo>
                    <a:lnTo>
                      <a:pt x="211" y="91"/>
                    </a:lnTo>
                    <a:lnTo>
                      <a:pt x="153" y="121"/>
                    </a:lnTo>
                    <a:lnTo>
                      <a:pt x="18" y="11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66"/>
              <p:cNvSpPr/>
              <p:nvPr/>
            </p:nvSpPr>
            <p:spPr>
              <a:xfrm>
                <a:off x="6539040" y="2495520"/>
                <a:ext cx="23760" cy="205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0" y="28"/>
                    </a:moveTo>
                    <a:lnTo>
                      <a:pt x="20" y="0"/>
                    </a:lnTo>
                    <a:lnTo>
                      <a:pt x="29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67"/>
              <p:cNvSpPr/>
              <p:nvPr/>
            </p:nvSpPr>
            <p:spPr>
              <a:xfrm>
                <a:off x="6521400" y="2998800"/>
                <a:ext cx="133200" cy="1126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79" h="151">
                    <a:moveTo>
                      <a:pt x="21" y="27"/>
                    </a:moveTo>
                    <a:lnTo>
                      <a:pt x="52" y="0"/>
                    </a:lnTo>
                    <a:lnTo>
                      <a:pt x="85" y="3"/>
                    </a:lnTo>
                    <a:lnTo>
                      <a:pt x="143" y="22"/>
                    </a:lnTo>
                    <a:lnTo>
                      <a:pt x="179" y="70"/>
                    </a:lnTo>
                    <a:lnTo>
                      <a:pt x="132" y="99"/>
                    </a:lnTo>
                    <a:lnTo>
                      <a:pt x="40" y="113"/>
                    </a:lnTo>
                    <a:lnTo>
                      <a:pt x="0" y="151"/>
                    </a:lnTo>
                    <a:lnTo>
                      <a:pt x="12" y="124"/>
                    </a:lnTo>
                    <a:lnTo>
                      <a:pt x="21" y="94"/>
                    </a:lnTo>
                    <a:lnTo>
                      <a:pt x="10" y="60"/>
                    </a:lnTo>
                    <a:lnTo>
                      <a:pt x="21" y="2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568"/>
              <p:cNvSpPr/>
              <p:nvPr/>
            </p:nvSpPr>
            <p:spPr>
              <a:xfrm>
                <a:off x="6756480" y="2554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2"/>
                    </a:moveTo>
                    <a:lnTo>
                      <a:pt x="3" y="0"/>
                    </a:lnTo>
                    <a:lnTo>
                      <a:pt x="2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69"/>
              <p:cNvSpPr/>
              <p:nvPr/>
            </p:nvSpPr>
            <p:spPr>
              <a:xfrm>
                <a:off x="6316560" y="3082680"/>
                <a:ext cx="45720" cy="20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4" h="27">
                    <a:moveTo>
                      <a:pt x="0" y="0"/>
                    </a:moveTo>
                    <a:lnTo>
                      <a:pt x="31" y="9"/>
                    </a:lnTo>
                    <a:lnTo>
                      <a:pt x="64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70"/>
              <p:cNvSpPr/>
              <p:nvPr/>
            </p:nvSpPr>
            <p:spPr>
              <a:xfrm>
                <a:off x="6221520" y="2863800"/>
                <a:ext cx="42840" cy="60120"/>
              </a:xfrm>
              <a:custGeom>
                <a:avLst/>
                <a:gdLst>
                  <a:gd name="textAreaLeft" fmla="*/ 0 w 42840"/>
                  <a:gd name="textAreaRight" fmla="*/ 42840 w 42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5" h="81">
                    <a:moveTo>
                      <a:pt x="0" y="0"/>
                    </a:moveTo>
                    <a:lnTo>
                      <a:pt x="45" y="35"/>
                    </a:lnTo>
                    <a:lnTo>
                      <a:pt x="55" y="70"/>
                    </a:lnTo>
                    <a:lnTo>
                      <a:pt x="29" y="81"/>
                    </a:lnTo>
                    <a:lnTo>
                      <a:pt x="13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71"/>
              <p:cNvSpPr/>
              <p:nvPr/>
            </p:nvSpPr>
            <p:spPr>
              <a:xfrm>
                <a:off x="5468760" y="3335400"/>
                <a:ext cx="64800" cy="6012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89" h="77">
                    <a:moveTo>
                      <a:pt x="23" y="23"/>
                    </a:moveTo>
                    <a:lnTo>
                      <a:pt x="65" y="0"/>
                    </a:lnTo>
                    <a:lnTo>
                      <a:pt x="89" y="39"/>
                    </a:lnTo>
                    <a:lnTo>
                      <a:pt x="71" y="76"/>
                    </a:lnTo>
                    <a:lnTo>
                      <a:pt x="40" y="77"/>
                    </a:lnTo>
                    <a:lnTo>
                      <a:pt x="0" y="5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572"/>
              <p:cNvSpPr/>
              <p:nvPr/>
            </p:nvSpPr>
            <p:spPr>
              <a:xfrm>
                <a:off x="6275520" y="2722320"/>
                <a:ext cx="272880" cy="247320"/>
              </a:xfrm>
              <a:custGeom>
                <a:avLst/>
                <a:gdLst>
                  <a:gd name="textAreaLeft" fmla="*/ 0 w 272880"/>
                  <a:gd name="textAreaRight" fmla="*/ 272880 w 272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365" h="324">
                    <a:moveTo>
                      <a:pt x="60" y="71"/>
                    </a:moveTo>
                    <a:lnTo>
                      <a:pt x="93" y="75"/>
                    </a:lnTo>
                    <a:lnTo>
                      <a:pt x="121" y="101"/>
                    </a:lnTo>
                    <a:lnTo>
                      <a:pt x="171" y="112"/>
                    </a:lnTo>
                    <a:lnTo>
                      <a:pt x="150" y="74"/>
                    </a:lnTo>
                    <a:lnTo>
                      <a:pt x="129" y="42"/>
                    </a:lnTo>
                    <a:lnTo>
                      <a:pt x="159" y="27"/>
                    </a:lnTo>
                    <a:lnTo>
                      <a:pt x="131" y="4"/>
                    </a:lnTo>
                    <a:lnTo>
                      <a:pt x="172" y="10"/>
                    </a:lnTo>
                    <a:lnTo>
                      <a:pt x="208" y="28"/>
                    </a:lnTo>
                    <a:lnTo>
                      <a:pt x="243" y="23"/>
                    </a:lnTo>
                    <a:lnTo>
                      <a:pt x="262" y="0"/>
                    </a:lnTo>
                    <a:lnTo>
                      <a:pt x="290" y="9"/>
                    </a:lnTo>
                    <a:lnTo>
                      <a:pt x="354" y="17"/>
                    </a:lnTo>
                    <a:lnTo>
                      <a:pt x="344" y="56"/>
                    </a:lnTo>
                    <a:lnTo>
                      <a:pt x="365" y="99"/>
                    </a:lnTo>
                    <a:lnTo>
                      <a:pt x="351" y="137"/>
                    </a:lnTo>
                    <a:lnTo>
                      <a:pt x="296" y="140"/>
                    </a:lnTo>
                    <a:lnTo>
                      <a:pt x="264" y="119"/>
                    </a:lnTo>
                    <a:lnTo>
                      <a:pt x="247" y="91"/>
                    </a:lnTo>
                    <a:lnTo>
                      <a:pt x="249" y="52"/>
                    </a:lnTo>
                    <a:lnTo>
                      <a:pt x="215" y="60"/>
                    </a:lnTo>
                    <a:lnTo>
                      <a:pt x="240" y="120"/>
                    </a:lnTo>
                    <a:lnTo>
                      <a:pt x="289" y="155"/>
                    </a:lnTo>
                    <a:lnTo>
                      <a:pt x="339" y="151"/>
                    </a:lnTo>
                    <a:lnTo>
                      <a:pt x="322" y="185"/>
                    </a:lnTo>
                    <a:lnTo>
                      <a:pt x="294" y="209"/>
                    </a:lnTo>
                    <a:lnTo>
                      <a:pt x="266" y="191"/>
                    </a:lnTo>
                    <a:lnTo>
                      <a:pt x="203" y="269"/>
                    </a:lnTo>
                    <a:lnTo>
                      <a:pt x="182" y="250"/>
                    </a:lnTo>
                    <a:lnTo>
                      <a:pt x="189" y="292"/>
                    </a:lnTo>
                    <a:lnTo>
                      <a:pt x="127" y="324"/>
                    </a:lnTo>
                    <a:lnTo>
                      <a:pt x="93" y="298"/>
                    </a:lnTo>
                    <a:lnTo>
                      <a:pt x="33" y="270"/>
                    </a:lnTo>
                    <a:lnTo>
                      <a:pt x="49" y="247"/>
                    </a:lnTo>
                    <a:lnTo>
                      <a:pt x="22" y="199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19" y="112"/>
                    </a:lnTo>
                    <a:lnTo>
                      <a:pt x="15" y="75"/>
                    </a:lnTo>
                    <a:lnTo>
                      <a:pt x="34" y="54"/>
                    </a:lnTo>
                    <a:lnTo>
                      <a:pt x="60" y="7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574"/>
              <p:cNvSpPr/>
              <p:nvPr/>
            </p:nvSpPr>
            <p:spPr>
              <a:xfrm>
                <a:off x="4224240" y="4186440"/>
                <a:ext cx="1081080" cy="2055960"/>
              </a:xfrm>
              <a:custGeom>
                <a:avLst/>
                <a:gdLst>
                  <a:gd name="textAreaLeft" fmla="*/ 0 w 1081080"/>
                  <a:gd name="textAreaRight" fmla="*/ 1081440 w 1081080"/>
                  <a:gd name="textAreaTop" fmla="*/ 0 h 2055960"/>
                  <a:gd name="textAreaBottom" fmla="*/ 2056320 h 2055960"/>
                </a:gdLst>
                <a:ahLst/>
                <a:rect l="textAreaLeft" t="textAreaTop" r="textAreaRight" b="textAreaBottom"/>
                <a:pathLst>
                  <a:path w="1441" h="2730">
                    <a:moveTo>
                      <a:pt x="0" y="78"/>
                    </a:moveTo>
                    <a:lnTo>
                      <a:pt x="9" y="70"/>
                    </a:lnTo>
                    <a:lnTo>
                      <a:pt x="26" y="83"/>
                    </a:lnTo>
                    <a:lnTo>
                      <a:pt x="42" y="66"/>
                    </a:lnTo>
                    <a:lnTo>
                      <a:pt x="45" y="49"/>
                    </a:lnTo>
                    <a:lnTo>
                      <a:pt x="55" y="44"/>
                    </a:lnTo>
                    <a:lnTo>
                      <a:pt x="67" y="7"/>
                    </a:lnTo>
                    <a:lnTo>
                      <a:pt x="66" y="0"/>
                    </a:lnTo>
                    <a:lnTo>
                      <a:pt x="99" y="46"/>
                    </a:lnTo>
                    <a:lnTo>
                      <a:pt x="101" y="87"/>
                    </a:lnTo>
                    <a:lnTo>
                      <a:pt x="121" y="146"/>
                    </a:lnTo>
                    <a:lnTo>
                      <a:pt x="172" y="195"/>
                    </a:lnTo>
                    <a:lnTo>
                      <a:pt x="202" y="170"/>
                    </a:lnTo>
                    <a:lnTo>
                      <a:pt x="225" y="98"/>
                    </a:lnTo>
                    <a:lnTo>
                      <a:pt x="284" y="95"/>
                    </a:lnTo>
                    <a:lnTo>
                      <a:pt x="298" y="160"/>
                    </a:lnTo>
                    <a:lnTo>
                      <a:pt x="363" y="217"/>
                    </a:lnTo>
                    <a:lnTo>
                      <a:pt x="408" y="223"/>
                    </a:lnTo>
                    <a:lnTo>
                      <a:pt x="440" y="240"/>
                    </a:lnTo>
                    <a:lnTo>
                      <a:pt x="448" y="208"/>
                    </a:lnTo>
                    <a:lnTo>
                      <a:pt x="498" y="219"/>
                    </a:lnTo>
                    <a:lnTo>
                      <a:pt x="521" y="236"/>
                    </a:lnTo>
                    <a:lnTo>
                      <a:pt x="560" y="217"/>
                    </a:lnTo>
                    <a:lnTo>
                      <a:pt x="589" y="219"/>
                    </a:lnTo>
                    <a:lnTo>
                      <a:pt x="558" y="234"/>
                    </a:lnTo>
                    <a:lnTo>
                      <a:pt x="536" y="287"/>
                    </a:lnTo>
                    <a:lnTo>
                      <a:pt x="474" y="347"/>
                    </a:lnTo>
                    <a:lnTo>
                      <a:pt x="471" y="390"/>
                    </a:lnTo>
                    <a:lnTo>
                      <a:pt x="427" y="387"/>
                    </a:lnTo>
                    <a:lnTo>
                      <a:pt x="414" y="460"/>
                    </a:lnTo>
                    <a:lnTo>
                      <a:pt x="384" y="527"/>
                    </a:lnTo>
                    <a:lnTo>
                      <a:pt x="420" y="538"/>
                    </a:lnTo>
                    <a:lnTo>
                      <a:pt x="445" y="571"/>
                    </a:lnTo>
                    <a:lnTo>
                      <a:pt x="441" y="606"/>
                    </a:lnTo>
                    <a:lnTo>
                      <a:pt x="413" y="657"/>
                    </a:lnTo>
                    <a:lnTo>
                      <a:pt x="454" y="669"/>
                    </a:lnTo>
                    <a:lnTo>
                      <a:pt x="483" y="662"/>
                    </a:lnTo>
                    <a:lnTo>
                      <a:pt x="506" y="687"/>
                    </a:lnTo>
                    <a:lnTo>
                      <a:pt x="516" y="720"/>
                    </a:lnTo>
                    <a:lnTo>
                      <a:pt x="547" y="732"/>
                    </a:lnTo>
                    <a:lnTo>
                      <a:pt x="584" y="752"/>
                    </a:lnTo>
                    <a:lnTo>
                      <a:pt x="615" y="771"/>
                    </a:lnTo>
                    <a:lnTo>
                      <a:pt x="614" y="809"/>
                    </a:lnTo>
                    <a:lnTo>
                      <a:pt x="596" y="852"/>
                    </a:lnTo>
                    <a:lnTo>
                      <a:pt x="581" y="964"/>
                    </a:lnTo>
                    <a:lnTo>
                      <a:pt x="521" y="1010"/>
                    </a:lnTo>
                    <a:lnTo>
                      <a:pt x="484" y="1042"/>
                    </a:lnTo>
                    <a:lnTo>
                      <a:pt x="451" y="1072"/>
                    </a:lnTo>
                    <a:lnTo>
                      <a:pt x="461" y="1112"/>
                    </a:lnTo>
                    <a:lnTo>
                      <a:pt x="510" y="1137"/>
                    </a:lnTo>
                    <a:lnTo>
                      <a:pt x="512" y="1166"/>
                    </a:lnTo>
                    <a:lnTo>
                      <a:pt x="489" y="1187"/>
                    </a:lnTo>
                    <a:lnTo>
                      <a:pt x="478" y="1221"/>
                    </a:lnTo>
                    <a:lnTo>
                      <a:pt x="509" y="1258"/>
                    </a:lnTo>
                    <a:lnTo>
                      <a:pt x="532" y="1329"/>
                    </a:lnTo>
                    <a:lnTo>
                      <a:pt x="573" y="1329"/>
                    </a:lnTo>
                    <a:lnTo>
                      <a:pt x="612" y="1292"/>
                    </a:lnTo>
                    <a:lnTo>
                      <a:pt x="616" y="1262"/>
                    </a:lnTo>
                    <a:lnTo>
                      <a:pt x="645" y="1267"/>
                    </a:lnTo>
                    <a:lnTo>
                      <a:pt x="632" y="1237"/>
                    </a:lnTo>
                    <a:lnTo>
                      <a:pt x="673" y="1231"/>
                    </a:lnTo>
                    <a:lnTo>
                      <a:pt x="675" y="1261"/>
                    </a:lnTo>
                    <a:lnTo>
                      <a:pt x="734" y="1289"/>
                    </a:lnTo>
                    <a:lnTo>
                      <a:pt x="778" y="1256"/>
                    </a:lnTo>
                    <a:lnTo>
                      <a:pt x="803" y="1269"/>
                    </a:lnTo>
                    <a:lnTo>
                      <a:pt x="830" y="1300"/>
                    </a:lnTo>
                    <a:lnTo>
                      <a:pt x="826" y="1348"/>
                    </a:lnTo>
                    <a:lnTo>
                      <a:pt x="808" y="1382"/>
                    </a:lnTo>
                    <a:lnTo>
                      <a:pt x="799" y="1415"/>
                    </a:lnTo>
                    <a:lnTo>
                      <a:pt x="815" y="1443"/>
                    </a:lnTo>
                    <a:lnTo>
                      <a:pt x="811" y="1472"/>
                    </a:lnTo>
                    <a:lnTo>
                      <a:pt x="815" y="1522"/>
                    </a:lnTo>
                    <a:lnTo>
                      <a:pt x="841" y="1537"/>
                    </a:lnTo>
                    <a:lnTo>
                      <a:pt x="896" y="1529"/>
                    </a:lnTo>
                    <a:lnTo>
                      <a:pt x="923" y="1543"/>
                    </a:lnTo>
                    <a:lnTo>
                      <a:pt x="973" y="1550"/>
                    </a:lnTo>
                    <a:lnTo>
                      <a:pt x="1005" y="1523"/>
                    </a:lnTo>
                    <a:lnTo>
                      <a:pt x="1034" y="1516"/>
                    </a:lnTo>
                    <a:lnTo>
                      <a:pt x="1112" y="1496"/>
                    </a:lnTo>
                    <a:lnTo>
                      <a:pt x="1151" y="1500"/>
                    </a:lnTo>
                    <a:lnTo>
                      <a:pt x="1183" y="1440"/>
                    </a:lnTo>
                    <a:lnTo>
                      <a:pt x="1220" y="1478"/>
                    </a:lnTo>
                    <a:lnTo>
                      <a:pt x="1284" y="1490"/>
                    </a:lnTo>
                    <a:lnTo>
                      <a:pt x="1340" y="1490"/>
                    </a:lnTo>
                    <a:lnTo>
                      <a:pt x="1390" y="1513"/>
                    </a:lnTo>
                    <a:lnTo>
                      <a:pt x="1416" y="1501"/>
                    </a:lnTo>
                    <a:lnTo>
                      <a:pt x="1421" y="1541"/>
                    </a:lnTo>
                    <a:lnTo>
                      <a:pt x="1421" y="1591"/>
                    </a:lnTo>
                    <a:lnTo>
                      <a:pt x="1441" y="1638"/>
                    </a:lnTo>
                    <a:lnTo>
                      <a:pt x="1417" y="1662"/>
                    </a:lnTo>
                    <a:lnTo>
                      <a:pt x="1388" y="1696"/>
                    </a:lnTo>
                    <a:lnTo>
                      <a:pt x="1369" y="1733"/>
                    </a:lnTo>
                    <a:lnTo>
                      <a:pt x="1332" y="1756"/>
                    </a:lnTo>
                    <a:lnTo>
                      <a:pt x="1327" y="1786"/>
                    </a:lnTo>
                    <a:lnTo>
                      <a:pt x="1327" y="1840"/>
                    </a:lnTo>
                    <a:lnTo>
                      <a:pt x="1299" y="1865"/>
                    </a:lnTo>
                    <a:lnTo>
                      <a:pt x="1247" y="1789"/>
                    </a:lnTo>
                    <a:lnTo>
                      <a:pt x="1214" y="1766"/>
                    </a:lnTo>
                    <a:lnTo>
                      <a:pt x="1200" y="1810"/>
                    </a:lnTo>
                    <a:lnTo>
                      <a:pt x="1160" y="1831"/>
                    </a:lnTo>
                    <a:lnTo>
                      <a:pt x="1088" y="1819"/>
                    </a:lnTo>
                    <a:lnTo>
                      <a:pt x="1040" y="1938"/>
                    </a:lnTo>
                    <a:lnTo>
                      <a:pt x="1062" y="1968"/>
                    </a:lnTo>
                    <a:lnTo>
                      <a:pt x="1076" y="2011"/>
                    </a:lnTo>
                    <a:lnTo>
                      <a:pt x="1056" y="2043"/>
                    </a:lnTo>
                    <a:lnTo>
                      <a:pt x="1051" y="2079"/>
                    </a:lnTo>
                    <a:lnTo>
                      <a:pt x="1007" y="2097"/>
                    </a:lnTo>
                    <a:lnTo>
                      <a:pt x="989" y="2127"/>
                    </a:lnTo>
                    <a:lnTo>
                      <a:pt x="997" y="2179"/>
                    </a:lnTo>
                    <a:lnTo>
                      <a:pt x="979" y="2218"/>
                    </a:lnTo>
                    <a:lnTo>
                      <a:pt x="989" y="2271"/>
                    </a:lnTo>
                    <a:lnTo>
                      <a:pt x="973" y="2333"/>
                    </a:lnTo>
                    <a:lnTo>
                      <a:pt x="932" y="2328"/>
                    </a:lnTo>
                    <a:lnTo>
                      <a:pt x="901" y="2373"/>
                    </a:lnTo>
                    <a:lnTo>
                      <a:pt x="938" y="2401"/>
                    </a:lnTo>
                    <a:lnTo>
                      <a:pt x="961" y="2433"/>
                    </a:lnTo>
                    <a:lnTo>
                      <a:pt x="943" y="2460"/>
                    </a:lnTo>
                    <a:lnTo>
                      <a:pt x="914" y="2469"/>
                    </a:lnTo>
                    <a:lnTo>
                      <a:pt x="860" y="2469"/>
                    </a:lnTo>
                    <a:lnTo>
                      <a:pt x="831" y="2492"/>
                    </a:lnTo>
                    <a:lnTo>
                      <a:pt x="762" y="2501"/>
                    </a:lnTo>
                    <a:lnTo>
                      <a:pt x="749" y="2564"/>
                    </a:lnTo>
                    <a:lnTo>
                      <a:pt x="687" y="2633"/>
                    </a:lnTo>
                    <a:lnTo>
                      <a:pt x="595" y="2727"/>
                    </a:lnTo>
                    <a:lnTo>
                      <a:pt x="541" y="2730"/>
                    </a:lnTo>
                    <a:lnTo>
                      <a:pt x="459" y="2703"/>
                    </a:lnTo>
                    <a:lnTo>
                      <a:pt x="427" y="2685"/>
                    </a:lnTo>
                    <a:lnTo>
                      <a:pt x="406" y="2666"/>
                    </a:lnTo>
                    <a:lnTo>
                      <a:pt x="438" y="2607"/>
                    </a:lnTo>
                    <a:lnTo>
                      <a:pt x="479" y="2568"/>
                    </a:lnTo>
                    <a:lnTo>
                      <a:pt x="485" y="2526"/>
                    </a:lnTo>
                    <a:lnTo>
                      <a:pt x="513" y="2512"/>
                    </a:lnTo>
                    <a:lnTo>
                      <a:pt x="530" y="2480"/>
                    </a:lnTo>
                    <a:lnTo>
                      <a:pt x="505" y="2456"/>
                    </a:lnTo>
                    <a:lnTo>
                      <a:pt x="491" y="2415"/>
                    </a:lnTo>
                    <a:lnTo>
                      <a:pt x="500" y="2375"/>
                    </a:lnTo>
                    <a:lnTo>
                      <a:pt x="476" y="2310"/>
                    </a:lnTo>
                    <a:lnTo>
                      <a:pt x="452" y="2279"/>
                    </a:lnTo>
                    <a:lnTo>
                      <a:pt x="451" y="2238"/>
                    </a:lnTo>
                    <a:lnTo>
                      <a:pt x="425" y="2216"/>
                    </a:lnTo>
                    <a:lnTo>
                      <a:pt x="391" y="2209"/>
                    </a:lnTo>
                    <a:lnTo>
                      <a:pt x="340" y="2209"/>
                    </a:lnTo>
                    <a:lnTo>
                      <a:pt x="311" y="2187"/>
                    </a:lnTo>
                    <a:lnTo>
                      <a:pt x="288" y="2153"/>
                    </a:lnTo>
                    <a:lnTo>
                      <a:pt x="274" y="2139"/>
                    </a:lnTo>
                    <a:lnTo>
                      <a:pt x="336" y="2093"/>
                    </a:lnTo>
                    <a:lnTo>
                      <a:pt x="311" y="2026"/>
                    </a:lnTo>
                    <a:lnTo>
                      <a:pt x="283" y="2011"/>
                    </a:lnTo>
                    <a:lnTo>
                      <a:pt x="272" y="1970"/>
                    </a:lnTo>
                    <a:lnTo>
                      <a:pt x="283" y="1940"/>
                    </a:lnTo>
                    <a:lnTo>
                      <a:pt x="276" y="1893"/>
                    </a:lnTo>
                    <a:lnTo>
                      <a:pt x="328" y="1842"/>
                    </a:lnTo>
                    <a:lnTo>
                      <a:pt x="354" y="1798"/>
                    </a:lnTo>
                    <a:lnTo>
                      <a:pt x="350" y="1762"/>
                    </a:lnTo>
                    <a:lnTo>
                      <a:pt x="321" y="1763"/>
                    </a:lnTo>
                    <a:lnTo>
                      <a:pt x="252" y="1727"/>
                    </a:lnTo>
                    <a:lnTo>
                      <a:pt x="243" y="1667"/>
                    </a:lnTo>
                    <a:lnTo>
                      <a:pt x="320" y="1591"/>
                    </a:lnTo>
                    <a:lnTo>
                      <a:pt x="306" y="1544"/>
                    </a:lnTo>
                    <a:lnTo>
                      <a:pt x="254" y="1546"/>
                    </a:lnTo>
                    <a:lnTo>
                      <a:pt x="204" y="1474"/>
                    </a:lnTo>
                    <a:lnTo>
                      <a:pt x="193" y="1440"/>
                    </a:lnTo>
                    <a:lnTo>
                      <a:pt x="122" y="1421"/>
                    </a:lnTo>
                    <a:lnTo>
                      <a:pt x="15" y="1411"/>
                    </a:lnTo>
                    <a:lnTo>
                      <a:pt x="34" y="1346"/>
                    </a:lnTo>
                    <a:lnTo>
                      <a:pt x="4" y="1265"/>
                    </a:lnTo>
                    <a:lnTo>
                      <a:pt x="119" y="1209"/>
                    </a:lnTo>
                    <a:lnTo>
                      <a:pt x="138" y="1183"/>
                    </a:lnTo>
                    <a:lnTo>
                      <a:pt x="112" y="1176"/>
                    </a:lnTo>
                    <a:lnTo>
                      <a:pt x="75" y="1139"/>
                    </a:lnTo>
                    <a:lnTo>
                      <a:pt x="50" y="1134"/>
                    </a:lnTo>
                    <a:lnTo>
                      <a:pt x="41" y="1110"/>
                    </a:lnTo>
                    <a:lnTo>
                      <a:pt x="41" y="1077"/>
                    </a:lnTo>
                    <a:lnTo>
                      <a:pt x="48" y="1046"/>
                    </a:lnTo>
                    <a:lnTo>
                      <a:pt x="60" y="1021"/>
                    </a:lnTo>
                    <a:lnTo>
                      <a:pt x="74" y="1013"/>
                    </a:lnTo>
                    <a:lnTo>
                      <a:pt x="146" y="912"/>
                    </a:lnTo>
                    <a:lnTo>
                      <a:pt x="144" y="887"/>
                    </a:lnTo>
                    <a:lnTo>
                      <a:pt x="157" y="867"/>
                    </a:lnTo>
                    <a:lnTo>
                      <a:pt x="138" y="864"/>
                    </a:lnTo>
                    <a:lnTo>
                      <a:pt x="137" y="845"/>
                    </a:lnTo>
                    <a:lnTo>
                      <a:pt x="113" y="823"/>
                    </a:lnTo>
                    <a:lnTo>
                      <a:pt x="125" y="825"/>
                    </a:lnTo>
                    <a:lnTo>
                      <a:pt x="127" y="783"/>
                    </a:lnTo>
                    <a:lnTo>
                      <a:pt x="182" y="744"/>
                    </a:lnTo>
                    <a:lnTo>
                      <a:pt x="177" y="626"/>
                    </a:lnTo>
                    <a:lnTo>
                      <a:pt x="153" y="635"/>
                    </a:lnTo>
                    <a:lnTo>
                      <a:pt x="137" y="604"/>
                    </a:lnTo>
                    <a:lnTo>
                      <a:pt x="96" y="601"/>
                    </a:lnTo>
                    <a:lnTo>
                      <a:pt x="102" y="559"/>
                    </a:lnTo>
                    <a:lnTo>
                      <a:pt x="117" y="554"/>
                    </a:lnTo>
                    <a:lnTo>
                      <a:pt x="115" y="504"/>
                    </a:lnTo>
                    <a:lnTo>
                      <a:pt x="99" y="490"/>
                    </a:lnTo>
                    <a:lnTo>
                      <a:pt x="108" y="478"/>
                    </a:lnTo>
                    <a:lnTo>
                      <a:pt x="80" y="455"/>
                    </a:lnTo>
                    <a:lnTo>
                      <a:pt x="62" y="457"/>
                    </a:lnTo>
                    <a:lnTo>
                      <a:pt x="61" y="441"/>
                    </a:lnTo>
                    <a:lnTo>
                      <a:pt x="50" y="412"/>
                    </a:lnTo>
                    <a:lnTo>
                      <a:pt x="66" y="391"/>
                    </a:lnTo>
                    <a:lnTo>
                      <a:pt x="63" y="360"/>
                    </a:lnTo>
                    <a:lnTo>
                      <a:pt x="47" y="343"/>
                    </a:lnTo>
                    <a:lnTo>
                      <a:pt x="48" y="320"/>
                    </a:lnTo>
                    <a:lnTo>
                      <a:pt x="65" y="310"/>
                    </a:lnTo>
                    <a:lnTo>
                      <a:pt x="52" y="256"/>
                    </a:lnTo>
                    <a:lnTo>
                      <a:pt x="36" y="246"/>
                    </a:lnTo>
                    <a:lnTo>
                      <a:pt x="1" y="201"/>
                    </a:lnTo>
                    <a:lnTo>
                      <a:pt x="15" y="191"/>
                    </a:lnTo>
                    <a:lnTo>
                      <a:pt x="26" y="147"/>
                    </a:lnTo>
                    <a:lnTo>
                      <a:pt x="14" y="144"/>
                    </a:lnTo>
                    <a:lnTo>
                      <a:pt x="3" y="11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  <a:effectLst>
                <a:outerShdw dist="153753" dir="2700000" blurRad="0" rotWithShape="0">
                  <a:srgbClr val="d9d9d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575"/>
              <p:cNvSpPr/>
              <p:nvPr/>
            </p:nvSpPr>
            <p:spPr>
              <a:xfrm>
                <a:off x="4789440" y="2523960"/>
                <a:ext cx="209520" cy="2286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80" h="304">
                    <a:moveTo>
                      <a:pt x="222" y="26"/>
                    </a:moveTo>
                    <a:lnTo>
                      <a:pt x="274" y="82"/>
                    </a:lnTo>
                    <a:lnTo>
                      <a:pt x="267" y="125"/>
                    </a:lnTo>
                    <a:lnTo>
                      <a:pt x="269" y="175"/>
                    </a:lnTo>
                    <a:lnTo>
                      <a:pt x="245" y="192"/>
                    </a:lnTo>
                    <a:lnTo>
                      <a:pt x="262" y="215"/>
                    </a:lnTo>
                    <a:lnTo>
                      <a:pt x="280" y="269"/>
                    </a:lnTo>
                    <a:lnTo>
                      <a:pt x="265" y="300"/>
                    </a:lnTo>
                    <a:lnTo>
                      <a:pt x="229" y="297"/>
                    </a:lnTo>
                    <a:lnTo>
                      <a:pt x="184" y="304"/>
                    </a:lnTo>
                    <a:lnTo>
                      <a:pt x="156" y="271"/>
                    </a:lnTo>
                    <a:lnTo>
                      <a:pt x="111" y="267"/>
                    </a:lnTo>
                    <a:lnTo>
                      <a:pt x="70" y="242"/>
                    </a:lnTo>
                    <a:lnTo>
                      <a:pt x="58" y="215"/>
                    </a:lnTo>
                    <a:lnTo>
                      <a:pt x="58" y="167"/>
                    </a:lnTo>
                    <a:lnTo>
                      <a:pt x="34" y="129"/>
                    </a:lnTo>
                    <a:lnTo>
                      <a:pt x="19" y="156"/>
                    </a:lnTo>
                    <a:lnTo>
                      <a:pt x="0" y="135"/>
                    </a:lnTo>
                    <a:lnTo>
                      <a:pt x="63" y="77"/>
                    </a:lnTo>
                    <a:lnTo>
                      <a:pt x="80" y="22"/>
                    </a:lnTo>
                    <a:lnTo>
                      <a:pt x="124" y="21"/>
                    </a:lnTo>
                    <a:lnTo>
                      <a:pt x="180" y="0"/>
                    </a:lnTo>
                    <a:lnTo>
                      <a:pt x="194" y="27"/>
                    </a:lnTo>
                    <a:lnTo>
                      <a:pt x="169" y="108"/>
                    </a:lnTo>
                    <a:lnTo>
                      <a:pt x="199" y="59"/>
                    </a:lnTo>
                    <a:lnTo>
                      <a:pt x="222" y="2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76"/>
              <p:cNvSpPr/>
              <p:nvPr/>
            </p:nvSpPr>
            <p:spPr>
              <a:xfrm>
                <a:off x="4761000" y="2347920"/>
                <a:ext cx="161640" cy="2062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216" h="271">
                    <a:moveTo>
                      <a:pt x="215" y="125"/>
                    </a:moveTo>
                    <a:lnTo>
                      <a:pt x="193" y="158"/>
                    </a:lnTo>
                    <a:lnTo>
                      <a:pt x="206" y="202"/>
                    </a:lnTo>
                    <a:lnTo>
                      <a:pt x="148" y="229"/>
                    </a:lnTo>
                    <a:lnTo>
                      <a:pt x="99" y="245"/>
                    </a:lnTo>
                    <a:lnTo>
                      <a:pt x="66" y="271"/>
                    </a:lnTo>
                    <a:lnTo>
                      <a:pt x="17" y="231"/>
                    </a:lnTo>
                    <a:lnTo>
                      <a:pt x="35" y="205"/>
                    </a:lnTo>
                    <a:lnTo>
                      <a:pt x="0" y="210"/>
                    </a:lnTo>
                    <a:lnTo>
                      <a:pt x="30" y="195"/>
                    </a:lnTo>
                    <a:lnTo>
                      <a:pt x="39" y="157"/>
                    </a:lnTo>
                    <a:lnTo>
                      <a:pt x="61" y="99"/>
                    </a:lnTo>
                    <a:lnTo>
                      <a:pt x="58" y="52"/>
                    </a:lnTo>
                    <a:lnTo>
                      <a:pt x="109" y="30"/>
                    </a:lnTo>
                    <a:lnTo>
                      <a:pt x="144" y="0"/>
                    </a:lnTo>
                    <a:lnTo>
                      <a:pt x="167" y="26"/>
                    </a:lnTo>
                    <a:lnTo>
                      <a:pt x="177" y="63"/>
                    </a:lnTo>
                    <a:lnTo>
                      <a:pt x="216" y="90"/>
                    </a:lnTo>
                    <a:lnTo>
                      <a:pt x="215" y="125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77"/>
              <p:cNvSpPr/>
              <p:nvPr/>
            </p:nvSpPr>
            <p:spPr>
              <a:xfrm>
                <a:off x="5472000" y="30542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2"/>
                    </a:moveTo>
                    <a:lnTo>
                      <a:pt x="2" y="0"/>
                    </a:lnTo>
                    <a:lnTo>
                      <a:pt x="12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578"/>
              <p:cNvSpPr/>
              <p:nvPr/>
            </p:nvSpPr>
            <p:spPr>
              <a:xfrm>
                <a:off x="4203720" y="3533760"/>
                <a:ext cx="29880" cy="52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4" h="72">
                    <a:moveTo>
                      <a:pt x="0" y="65"/>
                    </a:moveTo>
                    <a:lnTo>
                      <a:pt x="3" y="29"/>
                    </a:lnTo>
                    <a:lnTo>
                      <a:pt x="27" y="0"/>
                    </a:lnTo>
                    <a:lnTo>
                      <a:pt x="44" y="30"/>
                    </a:lnTo>
                    <a:lnTo>
                      <a:pt x="35" y="7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79"/>
              <p:cNvSpPr/>
              <p:nvPr/>
            </p:nvSpPr>
            <p:spPr>
              <a:xfrm>
                <a:off x="4991040" y="2638440"/>
                <a:ext cx="180720" cy="24912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38" h="333">
                    <a:moveTo>
                      <a:pt x="95" y="0"/>
                    </a:moveTo>
                    <a:lnTo>
                      <a:pt x="132" y="27"/>
                    </a:lnTo>
                    <a:lnTo>
                      <a:pt x="115" y="103"/>
                    </a:lnTo>
                    <a:lnTo>
                      <a:pt x="113" y="134"/>
                    </a:lnTo>
                    <a:lnTo>
                      <a:pt x="146" y="59"/>
                    </a:lnTo>
                    <a:lnTo>
                      <a:pt x="170" y="86"/>
                    </a:lnTo>
                    <a:lnTo>
                      <a:pt x="192" y="114"/>
                    </a:lnTo>
                    <a:lnTo>
                      <a:pt x="205" y="140"/>
                    </a:lnTo>
                    <a:lnTo>
                      <a:pt x="238" y="188"/>
                    </a:lnTo>
                    <a:lnTo>
                      <a:pt x="219" y="230"/>
                    </a:lnTo>
                    <a:lnTo>
                      <a:pt x="140" y="261"/>
                    </a:lnTo>
                    <a:lnTo>
                      <a:pt x="93" y="273"/>
                    </a:lnTo>
                    <a:lnTo>
                      <a:pt x="14" y="333"/>
                    </a:lnTo>
                    <a:lnTo>
                      <a:pt x="0" y="292"/>
                    </a:lnTo>
                    <a:lnTo>
                      <a:pt x="34" y="154"/>
                    </a:lnTo>
                    <a:lnTo>
                      <a:pt x="43" y="122"/>
                    </a:lnTo>
                    <a:lnTo>
                      <a:pt x="67" y="106"/>
                    </a:lnTo>
                    <a:lnTo>
                      <a:pt x="50" y="82"/>
                    </a:lnTo>
                    <a:lnTo>
                      <a:pt x="68" y="51"/>
                    </a:lnTo>
                    <a:lnTo>
                      <a:pt x="95" y="4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80"/>
              <p:cNvSpPr/>
              <p:nvPr/>
            </p:nvSpPr>
            <p:spPr>
              <a:xfrm>
                <a:off x="4513320" y="3452760"/>
                <a:ext cx="14040" cy="126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1" h="18">
                    <a:moveTo>
                      <a:pt x="0" y="8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81"/>
              <p:cNvSpPr/>
              <p:nvPr/>
            </p:nvSpPr>
            <p:spPr>
              <a:xfrm>
                <a:off x="4527360" y="3308400"/>
                <a:ext cx="26640" cy="219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8" h="30">
                    <a:moveTo>
                      <a:pt x="0" y="12"/>
                    </a:moveTo>
                    <a:lnTo>
                      <a:pt x="38" y="0"/>
                    </a:lnTo>
                    <a:lnTo>
                      <a:pt x="33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82"/>
              <p:cNvSpPr/>
              <p:nvPr/>
            </p:nvSpPr>
            <p:spPr>
              <a:xfrm>
                <a:off x="4721040" y="2339640"/>
                <a:ext cx="42840" cy="378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" h="48">
                    <a:moveTo>
                      <a:pt x="0" y="27"/>
                    </a:moveTo>
                    <a:lnTo>
                      <a:pt x="31" y="0"/>
                    </a:lnTo>
                    <a:lnTo>
                      <a:pt x="57" y="18"/>
                    </a:lnTo>
                    <a:lnTo>
                      <a:pt x="49" y="4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3"/>
              <p:cNvSpPr/>
              <p:nvPr/>
            </p:nvSpPr>
            <p:spPr>
              <a:xfrm>
                <a:off x="5211720" y="2817720"/>
                <a:ext cx="31680" cy="219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3" h="31">
                    <a:moveTo>
                      <a:pt x="6" y="25"/>
                    </a:moveTo>
                    <a:lnTo>
                      <a:pt x="0" y="18"/>
                    </a:lnTo>
                    <a:lnTo>
                      <a:pt x="41" y="0"/>
                    </a:lnTo>
                    <a:lnTo>
                      <a:pt x="43" y="31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84"/>
              <p:cNvSpPr/>
              <p:nvPr/>
            </p:nvSpPr>
            <p:spPr>
              <a:xfrm>
                <a:off x="4736880" y="2550960"/>
                <a:ext cx="77760" cy="586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07" h="79">
                    <a:moveTo>
                      <a:pt x="107" y="34"/>
                    </a:moveTo>
                    <a:lnTo>
                      <a:pt x="81" y="72"/>
                    </a:lnTo>
                    <a:lnTo>
                      <a:pt x="46" y="79"/>
                    </a:lnTo>
                    <a:lnTo>
                      <a:pt x="41" y="48"/>
                    </a:lnTo>
                    <a:lnTo>
                      <a:pt x="12" y="37"/>
                    </a:lnTo>
                    <a:lnTo>
                      <a:pt x="0" y="5"/>
                    </a:lnTo>
                    <a:lnTo>
                      <a:pt x="82" y="0"/>
                    </a:lnTo>
                    <a:lnTo>
                      <a:pt x="107" y="34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585"/>
              <p:cNvSpPr/>
              <p:nvPr/>
            </p:nvSpPr>
            <p:spPr>
              <a:xfrm>
                <a:off x="4994280" y="2597040"/>
                <a:ext cx="6120" cy="29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" h="34">
                    <a:moveTo>
                      <a:pt x="0" y="34"/>
                    </a:moveTo>
                    <a:lnTo>
                      <a:pt x="0" y="0"/>
                    </a:lnTo>
                    <a:lnTo>
                      <a:pt x="7" y="11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586"/>
              <p:cNvSpPr/>
              <p:nvPr/>
            </p:nvSpPr>
            <p:spPr>
              <a:xfrm>
                <a:off x="4390920" y="3416400"/>
                <a:ext cx="23760" cy="36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6" y="9"/>
                    </a:moveTo>
                    <a:lnTo>
                      <a:pt x="0" y="0"/>
                    </a:lnTo>
                    <a:lnTo>
                      <a:pt x="33" y="4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587"/>
              <p:cNvSpPr/>
              <p:nvPr/>
            </p:nvSpPr>
            <p:spPr>
              <a:xfrm>
                <a:off x="4375080" y="3209760"/>
                <a:ext cx="20520" cy="41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9" h="53">
                    <a:moveTo>
                      <a:pt x="0" y="6"/>
                    </a:moveTo>
                    <a:lnTo>
                      <a:pt x="29" y="0"/>
                    </a:lnTo>
                    <a:lnTo>
                      <a:pt x="29" y="33"/>
                    </a:lnTo>
                    <a:lnTo>
                      <a:pt x="1" y="5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588"/>
              <p:cNvSpPr/>
              <p:nvPr/>
            </p:nvSpPr>
            <p:spPr>
              <a:xfrm>
                <a:off x="4440240" y="2342880"/>
                <a:ext cx="28440" cy="20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5" h="29">
                    <a:moveTo>
                      <a:pt x="20" y="0"/>
                    </a:moveTo>
                    <a:lnTo>
                      <a:pt x="45" y="2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589"/>
              <p:cNvSpPr/>
              <p:nvPr/>
            </p:nvSpPr>
            <p:spPr>
              <a:xfrm>
                <a:off x="4863960" y="3139920"/>
                <a:ext cx="42840" cy="284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4" h="37">
                    <a:moveTo>
                      <a:pt x="24" y="0"/>
                    </a:moveTo>
                    <a:lnTo>
                      <a:pt x="54" y="2"/>
                    </a:lnTo>
                    <a:lnTo>
                      <a:pt x="43" y="37"/>
                    </a:lnTo>
                    <a:lnTo>
                      <a:pt x="0" y="1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590"/>
              <p:cNvSpPr/>
              <p:nvPr/>
            </p:nvSpPr>
            <p:spPr>
              <a:xfrm>
                <a:off x="4870440" y="3008160"/>
                <a:ext cx="26640" cy="2844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4" h="39">
                    <a:moveTo>
                      <a:pt x="0" y="24"/>
                    </a:moveTo>
                    <a:lnTo>
                      <a:pt x="34" y="0"/>
                    </a:lnTo>
                    <a:lnTo>
                      <a:pt x="31" y="3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Freeform 591" descr=""/>
              <p:cNvPicPr/>
              <p:nvPr/>
            </p:nvPicPr>
            <p:blipFill>
              <a:blip r:embed="rId2"/>
              <a:stretch/>
            </p:blipFill>
            <p:spPr>
              <a:xfrm>
                <a:off x="4443840" y="4005000"/>
                <a:ext cx="1188720" cy="1542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1" name="Freeform 592"/>
              <p:cNvGrpSpPr/>
              <p:nvPr/>
            </p:nvGrpSpPr>
            <p:grpSpPr>
              <a:xfrm>
                <a:off x="4108680" y="2871000"/>
                <a:ext cx="1505520" cy="1511640"/>
                <a:chOff x="4108680" y="2871000"/>
                <a:chExt cx="1505520" cy="1511640"/>
              </a:xfrm>
            </p:grpSpPr>
            <p:pic>
              <p:nvPicPr>
                <p:cNvPr id="172" name="Freeform 59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08680" y="2871000"/>
                  <a:ext cx="1505520" cy="151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4132440" y="2894760"/>
                  <a:ext cx="1460160" cy="146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Freeform 593"/>
              <p:cNvSpPr/>
              <p:nvPr/>
            </p:nvSpPr>
            <p:spPr>
              <a:xfrm>
                <a:off x="1090440" y="5918400"/>
                <a:ext cx="236520" cy="4586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458640"/>
                  <a:gd name="textAreaBottom" fmla="*/ 458640 h 458640"/>
                </a:gdLst>
                <a:ahLst/>
                <a:rect l="textAreaLeft" t="textAreaTop" r="textAreaRight" b="textAreaBottom"/>
                <a:pathLst>
                  <a:path w="325" h="614">
                    <a:moveTo>
                      <a:pt x="32" y="335"/>
                    </a:moveTo>
                    <a:lnTo>
                      <a:pt x="77" y="305"/>
                    </a:lnTo>
                    <a:lnTo>
                      <a:pt x="115" y="313"/>
                    </a:lnTo>
                    <a:lnTo>
                      <a:pt x="133" y="274"/>
                    </a:lnTo>
                    <a:lnTo>
                      <a:pt x="153" y="238"/>
                    </a:lnTo>
                    <a:lnTo>
                      <a:pt x="214" y="197"/>
                    </a:lnTo>
                    <a:lnTo>
                      <a:pt x="194" y="174"/>
                    </a:lnTo>
                    <a:lnTo>
                      <a:pt x="155" y="178"/>
                    </a:lnTo>
                    <a:lnTo>
                      <a:pt x="134" y="142"/>
                    </a:lnTo>
                    <a:lnTo>
                      <a:pt x="118" y="115"/>
                    </a:lnTo>
                    <a:lnTo>
                      <a:pt x="103" y="64"/>
                    </a:lnTo>
                    <a:lnTo>
                      <a:pt x="136" y="76"/>
                    </a:lnTo>
                    <a:lnTo>
                      <a:pt x="133" y="45"/>
                    </a:lnTo>
                    <a:lnTo>
                      <a:pt x="161" y="38"/>
                    </a:lnTo>
                    <a:lnTo>
                      <a:pt x="192" y="29"/>
                    </a:lnTo>
                    <a:lnTo>
                      <a:pt x="212" y="0"/>
                    </a:lnTo>
                    <a:lnTo>
                      <a:pt x="242" y="15"/>
                    </a:lnTo>
                    <a:lnTo>
                      <a:pt x="290" y="58"/>
                    </a:lnTo>
                    <a:lnTo>
                      <a:pt x="300" y="90"/>
                    </a:lnTo>
                    <a:lnTo>
                      <a:pt x="325" y="107"/>
                    </a:lnTo>
                    <a:lnTo>
                      <a:pt x="292" y="120"/>
                    </a:lnTo>
                    <a:lnTo>
                      <a:pt x="296" y="166"/>
                    </a:lnTo>
                    <a:lnTo>
                      <a:pt x="292" y="247"/>
                    </a:lnTo>
                    <a:lnTo>
                      <a:pt x="264" y="292"/>
                    </a:lnTo>
                    <a:lnTo>
                      <a:pt x="310" y="250"/>
                    </a:lnTo>
                    <a:lnTo>
                      <a:pt x="278" y="292"/>
                    </a:lnTo>
                    <a:lnTo>
                      <a:pt x="254" y="318"/>
                    </a:lnTo>
                    <a:lnTo>
                      <a:pt x="232" y="359"/>
                    </a:lnTo>
                    <a:lnTo>
                      <a:pt x="233" y="393"/>
                    </a:lnTo>
                    <a:lnTo>
                      <a:pt x="234" y="433"/>
                    </a:lnTo>
                    <a:lnTo>
                      <a:pt x="232" y="465"/>
                    </a:lnTo>
                    <a:lnTo>
                      <a:pt x="237" y="500"/>
                    </a:lnTo>
                    <a:lnTo>
                      <a:pt x="234" y="553"/>
                    </a:lnTo>
                    <a:lnTo>
                      <a:pt x="218" y="590"/>
                    </a:lnTo>
                    <a:lnTo>
                      <a:pt x="189" y="594"/>
                    </a:lnTo>
                    <a:lnTo>
                      <a:pt x="123" y="614"/>
                    </a:lnTo>
                    <a:lnTo>
                      <a:pt x="101" y="597"/>
                    </a:lnTo>
                    <a:lnTo>
                      <a:pt x="75" y="472"/>
                    </a:lnTo>
                    <a:lnTo>
                      <a:pt x="0" y="362"/>
                    </a:lnTo>
                    <a:lnTo>
                      <a:pt x="32" y="335"/>
                    </a:lnTo>
                    <a:close/>
                  </a:path>
                </a:pathLst>
              </a:custGeom>
              <a:solidFill>
                <a:srgbClr val="7c993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594"/>
              <p:cNvSpPr/>
              <p:nvPr/>
            </p:nvSpPr>
            <p:spPr>
              <a:xfrm>
                <a:off x="2768400" y="5303880"/>
                <a:ext cx="422280" cy="2919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562" h="391">
                    <a:moveTo>
                      <a:pt x="78" y="39"/>
                    </a:moveTo>
                    <a:lnTo>
                      <a:pt x="103" y="20"/>
                    </a:lnTo>
                    <a:lnTo>
                      <a:pt x="138" y="2"/>
                    </a:lnTo>
                    <a:lnTo>
                      <a:pt x="169" y="0"/>
                    </a:lnTo>
                    <a:lnTo>
                      <a:pt x="196" y="16"/>
                    </a:lnTo>
                    <a:lnTo>
                      <a:pt x="223" y="37"/>
                    </a:lnTo>
                    <a:lnTo>
                      <a:pt x="279" y="37"/>
                    </a:lnTo>
                    <a:lnTo>
                      <a:pt x="304" y="18"/>
                    </a:lnTo>
                    <a:lnTo>
                      <a:pt x="338" y="37"/>
                    </a:lnTo>
                    <a:lnTo>
                      <a:pt x="324" y="70"/>
                    </a:lnTo>
                    <a:lnTo>
                      <a:pt x="332" y="99"/>
                    </a:lnTo>
                    <a:lnTo>
                      <a:pt x="365" y="132"/>
                    </a:lnTo>
                    <a:lnTo>
                      <a:pt x="377" y="185"/>
                    </a:lnTo>
                    <a:lnTo>
                      <a:pt x="408" y="183"/>
                    </a:lnTo>
                    <a:lnTo>
                      <a:pt x="438" y="195"/>
                    </a:lnTo>
                    <a:lnTo>
                      <a:pt x="481" y="224"/>
                    </a:lnTo>
                    <a:lnTo>
                      <a:pt x="476" y="264"/>
                    </a:lnTo>
                    <a:lnTo>
                      <a:pt x="509" y="276"/>
                    </a:lnTo>
                    <a:lnTo>
                      <a:pt x="538" y="282"/>
                    </a:lnTo>
                    <a:lnTo>
                      <a:pt x="542" y="327"/>
                    </a:lnTo>
                    <a:lnTo>
                      <a:pt x="562" y="365"/>
                    </a:lnTo>
                    <a:lnTo>
                      <a:pt x="529" y="369"/>
                    </a:lnTo>
                    <a:lnTo>
                      <a:pt x="505" y="391"/>
                    </a:lnTo>
                    <a:lnTo>
                      <a:pt x="438" y="391"/>
                    </a:lnTo>
                    <a:lnTo>
                      <a:pt x="326" y="379"/>
                    </a:lnTo>
                    <a:lnTo>
                      <a:pt x="288" y="361"/>
                    </a:lnTo>
                    <a:lnTo>
                      <a:pt x="252" y="388"/>
                    </a:lnTo>
                    <a:lnTo>
                      <a:pt x="225" y="379"/>
                    </a:lnTo>
                    <a:lnTo>
                      <a:pt x="186" y="381"/>
                    </a:lnTo>
                    <a:lnTo>
                      <a:pt x="148" y="376"/>
                    </a:lnTo>
                    <a:lnTo>
                      <a:pt x="116" y="373"/>
                    </a:lnTo>
                    <a:lnTo>
                      <a:pt x="76" y="359"/>
                    </a:lnTo>
                    <a:lnTo>
                      <a:pt x="71" y="345"/>
                    </a:lnTo>
                    <a:lnTo>
                      <a:pt x="72" y="315"/>
                    </a:lnTo>
                    <a:lnTo>
                      <a:pt x="83" y="278"/>
                    </a:lnTo>
                    <a:lnTo>
                      <a:pt x="34" y="259"/>
                    </a:lnTo>
                    <a:lnTo>
                      <a:pt x="0" y="255"/>
                    </a:lnTo>
                    <a:lnTo>
                      <a:pt x="0" y="222"/>
                    </a:lnTo>
                    <a:lnTo>
                      <a:pt x="29" y="202"/>
                    </a:lnTo>
                    <a:lnTo>
                      <a:pt x="29" y="167"/>
                    </a:lnTo>
                    <a:lnTo>
                      <a:pt x="57" y="154"/>
                    </a:lnTo>
                    <a:lnTo>
                      <a:pt x="86" y="145"/>
                    </a:lnTo>
                    <a:lnTo>
                      <a:pt x="94" y="104"/>
                    </a:lnTo>
                    <a:lnTo>
                      <a:pt x="78" y="75"/>
                    </a:lnTo>
                    <a:lnTo>
                      <a:pt x="78" y="39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595"/>
              <p:cNvSpPr/>
              <p:nvPr/>
            </p:nvSpPr>
            <p:spPr>
              <a:xfrm>
                <a:off x="3582720" y="5475600"/>
                <a:ext cx="607680" cy="50616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506160"/>
                  <a:gd name="textAreaBottom" fmla="*/ 506520 h 506160"/>
                </a:gdLst>
                <a:ahLst/>
                <a:rect l="textAreaLeft" t="textAreaTop" r="textAreaRight" b="textAreaBottom"/>
                <a:pathLst>
                  <a:path w="815" h="673">
                    <a:moveTo>
                      <a:pt x="142" y="0"/>
                    </a:moveTo>
                    <a:lnTo>
                      <a:pt x="230" y="32"/>
                    </a:lnTo>
                    <a:lnTo>
                      <a:pt x="325" y="50"/>
                    </a:lnTo>
                    <a:lnTo>
                      <a:pt x="411" y="104"/>
                    </a:lnTo>
                    <a:lnTo>
                      <a:pt x="454" y="191"/>
                    </a:lnTo>
                    <a:lnTo>
                      <a:pt x="536" y="185"/>
                    </a:lnTo>
                    <a:lnTo>
                      <a:pt x="558" y="236"/>
                    </a:lnTo>
                    <a:lnTo>
                      <a:pt x="665" y="223"/>
                    </a:lnTo>
                    <a:lnTo>
                      <a:pt x="697" y="216"/>
                    </a:lnTo>
                    <a:lnTo>
                      <a:pt x="681" y="256"/>
                    </a:lnTo>
                    <a:lnTo>
                      <a:pt x="699" y="323"/>
                    </a:lnTo>
                    <a:lnTo>
                      <a:pt x="713" y="348"/>
                    </a:lnTo>
                    <a:lnTo>
                      <a:pt x="740" y="304"/>
                    </a:lnTo>
                    <a:lnTo>
                      <a:pt x="784" y="299"/>
                    </a:lnTo>
                    <a:lnTo>
                      <a:pt x="805" y="401"/>
                    </a:lnTo>
                    <a:lnTo>
                      <a:pt x="801" y="469"/>
                    </a:lnTo>
                    <a:lnTo>
                      <a:pt x="811" y="499"/>
                    </a:lnTo>
                    <a:lnTo>
                      <a:pt x="797" y="525"/>
                    </a:lnTo>
                    <a:lnTo>
                      <a:pt x="815" y="557"/>
                    </a:lnTo>
                    <a:lnTo>
                      <a:pt x="752" y="599"/>
                    </a:lnTo>
                    <a:lnTo>
                      <a:pt x="712" y="600"/>
                    </a:lnTo>
                    <a:lnTo>
                      <a:pt x="658" y="617"/>
                    </a:lnTo>
                    <a:lnTo>
                      <a:pt x="595" y="653"/>
                    </a:lnTo>
                    <a:lnTo>
                      <a:pt x="567" y="673"/>
                    </a:lnTo>
                    <a:lnTo>
                      <a:pt x="553" y="644"/>
                    </a:lnTo>
                    <a:lnTo>
                      <a:pt x="518" y="627"/>
                    </a:lnTo>
                    <a:lnTo>
                      <a:pt x="532" y="600"/>
                    </a:lnTo>
                    <a:lnTo>
                      <a:pt x="472" y="554"/>
                    </a:lnTo>
                    <a:lnTo>
                      <a:pt x="461" y="514"/>
                    </a:lnTo>
                    <a:lnTo>
                      <a:pt x="414" y="548"/>
                    </a:lnTo>
                    <a:lnTo>
                      <a:pt x="360" y="579"/>
                    </a:lnTo>
                    <a:lnTo>
                      <a:pt x="324" y="599"/>
                    </a:lnTo>
                    <a:lnTo>
                      <a:pt x="246" y="591"/>
                    </a:lnTo>
                    <a:lnTo>
                      <a:pt x="209" y="602"/>
                    </a:lnTo>
                    <a:lnTo>
                      <a:pt x="184" y="606"/>
                    </a:lnTo>
                    <a:lnTo>
                      <a:pt x="106" y="508"/>
                    </a:lnTo>
                    <a:lnTo>
                      <a:pt x="135" y="464"/>
                    </a:lnTo>
                    <a:lnTo>
                      <a:pt x="82" y="442"/>
                    </a:lnTo>
                    <a:lnTo>
                      <a:pt x="9" y="469"/>
                    </a:lnTo>
                    <a:lnTo>
                      <a:pt x="2" y="456"/>
                    </a:lnTo>
                    <a:lnTo>
                      <a:pt x="18" y="401"/>
                    </a:lnTo>
                    <a:lnTo>
                      <a:pt x="0" y="340"/>
                    </a:lnTo>
                    <a:lnTo>
                      <a:pt x="2" y="272"/>
                    </a:lnTo>
                    <a:lnTo>
                      <a:pt x="15" y="245"/>
                    </a:lnTo>
                    <a:lnTo>
                      <a:pt x="6" y="207"/>
                    </a:lnTo>
                    <a:lnTo>
                      <a:pt x="45" y="171"/>
                    </a:lnTo>
                    <a:lnTo>
                      <a:pt x="100" y="160"/>
                    </a:lnTo>
                    <a:lnTo>
                      <a:pt x="96" y="115"/>
                    </a:lnTo>
                    <a:lnTo>
                      <a:pt x="123" y="9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596"/>
              <p:cNvSpPr/>
              <p:nvPr/>
            </p:nvSpPr>
            <p:spPr>
              <a:xfrm>
                <a:off x="3294000" y="5249880"/>
                <a:ext cx="395280" cy="617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523" h="822">
                    <a:moveTo>
                      <a:pt x="0" y="488"/>
                    </a:moveTo>
                    <a:lnTo>
                      <a:pt x="7" y="457"/>
                    </a:lnTo>
                    <a:lnTo>
                      <a:pt x="36" y="441"/>
                    </a:lnTo>
                    <a:lnTo>
                      <a:pt x="42" y="412"/>
                    </a:lnTo>
                    <a:lnTo>
                      <a:pt x="71" y="371"/>
                    </a:lnTo>
                    <a:lnTo>
                      <a:pt x="75" y="335"/>
                    </a:lnTo>
                    <a:lnTo>
                      <a:pt x="96" y="310"/>
                    </a:lnTo>
                    <a:lnTo>
                      <a:pt x="127" y="290"/>
                    </a:lnTo>
                    <a:lnTo>
                      <a:pt x="161" y="282"/>
                    </a:lnTo>
                    <a:lnTo>
                      <a:pt x="159" y="250"/>
                    </a:lnTo>
                    <a:lnTo>
                      <a:pt x="142" y="227"/>
                    </a:lnTo>
                    <a:lnTo>
                      <a:pt x="131" y="197"/>
                    </a:lnTo>
                    <a:lnTo>
                      <a:pt x="112" y="168"/>
                    </a:lnTo>
                    <a:lnTo>
                      <a:pt x="100" y="203"/>
                    </a:lnTo>
                    <a:lnTo>
                      <a:pt x="83" y="178"/>
                    </a:lnTo>
                    <a:lnTo>
                      <a:pt x="96" y="152"/>
                    </a:lnTo>
                    <a:lnTo>
                      <a:pt x="109" y="121"/>
                    </a:lnTo>
                    <a:lnTo>
                      <a:pt x="100" y="89"/>
                    </a:lnTo>
                    <a:lnTo>
                      <a:pt x="123" y="54"/>
                    </a:lnTo>
                    <a:lnTo>
                      <a:pt x="164" y="0"/>
                    </a:lnTo>
                    <a:lnTo>
                      <a:pt x="192" y="46"/>
                    </a:lnTo>
                    <a:lnTo>
                      <a:pt x="183" y="75"/>
                    </a:lnTo>
                    <a:lnTo>
                      <a:pt x="223" y="80"/>
                    </a:lnTo>
                    <a:lnTo>
                      <a:pt x="300" y="120"/>
                    </a:lnTo>
                    <a:lnTo>
                      <a:pt x="340" y="103"/>
                    </a:lnTo>
                    <a:lnTo>
                      <a:pt x="406" y="129"/>
                    </a:lnTo>
                    <a:lnTo>
                      <a:pt x="462" y="99"/>
                    </a:lnTo>
                    <a:lnTo>
                      <a:pt x="497" y="76"/>
                    </a:lnTo>
                    <a:lnTo>
                      <a:pt x="484" y="110"/>
                    </a:lnTo>
                    <a:lnTo>
                      <a:pt x="475" y="145"/>
                    </a:lnTo>
                    <a:lnTo>
                      <a:pt x="504" y="184"/>
                    </a:lnTo>
                    <a:lnTo>
                      <a:pt x="500" y="224"/>
                    </a:lnTo>
                    <a:lnTo>
                      <a:pt x="523" y="299"/>
                    </a:lnTo>
                    <a:lnTo>
                      <a:pt x="504" y="389"/>
                    </a:lnTo>
                    <a:lnTo>
                      <a:pt x="477" y="414"/>
                    </a:lnTo>
                    <a:lnTo>
                      <a:pt x="481" y="459"/>
                    </a:lnTo>
                    <a:lnTo>
                      <a:pt x="426" y="470"/>
                    </a:lnTo>
                    <a:lnTo>
                      <a:pt x="387" y="506"/>
                    </a:lnTo>
                    <a:lnTo>
                      <a:pt x="396" y="544"/>
                    </a:lnTo>
                    <a:lnTo>
                      <a:pt x="383" y="571"/>
                    </a:lnTo>
                    <a:lnTo>
                      <a:pt x="381" y="639"/>
                    </a:lnTo>
                    <a:lnTo>
                      <a:pt x="399" y="700"/>
                    </a:lnTo>
                    <a:lnTo>
                      <a:pt x="383" y="755"/>
                    </a:lnTo>
                    <a:lnTo>
                      <a:pt x="390" y="768"/>
                    </a:lnTo>
                    <a:lnTo>
                      <a:pt x="358" y="792"/>
                    </a:lnTo>
                    <a:lnTo>
                      <a:pt x="315" y="795"/>
                    </a:lnTo>
                    <a:lnTo>
                      <a:pt x="285" y="815"/>
                    </a:lnTo>
                    <a:lnTo>
                      <a:pt x="248" y="818"/>
                    </a:lnTo>
                    <a:lnTo>
                      <a:pt x="214" y="803"/>
                    </a:lnTo>
                    <a:lnTo>
                      <a:pt x="189" y="822"/>
                    </a:lnTo>
                    <a:lnTo>
                      <a:pt x="183" y="788"/>
                    </a:lnTo>
                    <a:lnTo>
                      <a:pt x="203" y="761"/>
                    </a:lnTo>
                    <a:lnTo>
                      <a:pt x="240" y="738"/>
                    </a:lnTo>
                    <a:lnTo>
                      <a:pt x="200" y="742"/>
                    </a:lnTo>
                    <a:lnTo>
                      <a:pt x="172" y="714"/>
                    </a:lnTo>
                    <a:lnTo>
                      <a:pt x="143" y="711"/>
                    </a:lnTo>
                    <a:lnTo>
                      <a:pt x="129" y="684"/>
                    </a:lnTo>
                    <a:lnTo>
                      <a:pt x="119" y="654"/>
                    </a:lnTo>
                    <a:lnTo>
                      <a:pt x="104" y="681"/>
                    </a:lnTo>
                    <a:lnTo>
                      <a:pt x="78" y="666"/>
                    </a:lnTo>
                    <a:lnTo>
                      <a:pt x="45" y="665"/>
                    </a:lnTo>
                    <a:lnTo>
                      <a:pt x="24" y="642"/>
                    </a:lnTo>
                    <a:lnTo>
                      <a:pt x="44" y="607"/>
                    </a:lnTo>
                    <a:lnTo>
                      <a:pt x="45" y="563"/>
                    </a:lnTo>
                    <a:lnTo>
                      <a:pt x="48" y="519"/>
                    </a:lnTo>
                    <a:lnTo>
                      <a:pt x="42" y="489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97"/>
              <p:cNvSpPr/>
              <p:nvPr/>
            </p:nvSpPr>
            <p:spPr>
              <a:xfrm>
                <a:off x="3652560" y="5069160"/>
                <a:ext cx="838080" cy="666720"/>
              </a:xfrm>
              <a:custGeom>
                <a:avLst/>
                <a:gdLst>
                  <a:gd name="textAreaLeft" fmla="*/ 0 w 838080"/>
                  <a:gd name="textAreaRight" fmla="*/ 838440 w 838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116" h="889">
                    <a:moveTo>
                      <a:pt x="22" y="318"/>
                    </a:moveTo>
                    <a:lnTo>
                      <a:pt x="30" y="307"/>
                    </a:lnTo>
                    <a:lnTo>
                      <a:pt x="78" y="266"/>
                    </a:lnTo>
                    <a:lnTo>
                      <a:pt x="77" y="226"/>
                    </a:lnTo>
                    <a:lnTo>
                      <a:pt x="100" y="220"/>
                    </a:lnTo>
                    <a:lnTo>
                      <a:pt x="105" y="200"/>
                    </a:lnTo>
                    <a:lnTo>
                      <a:pt x="184" y="176"/>
                    </a:lnTo>
                    <a:lnTo>
                      <a:pt x="195" y="101"/>
                    </a:lnTo>
                    <a:lnTo>
                      <a:pt x="204" y="92"/>
                    </a:lnTo>
                    <a:lnTo>
                      <a:pt x="208" y="53"/>
                    </a:lnTo>
                    <a:lnTo>
                      <a:pt x="234" y="42"/>
                    </a:lnTo>
                    <a:lnTo>
                      <a:pt x="231" y="6"/>
                    </a:lnTo>
                    <a:lnTo>
                      <a:pt x="255" y="0"/>
                    </a:lnTo>
                    <a:lnTo>
                      <a:pt x="322" y="23"/>
                    </a:lnTo>
                    <a:lnTo>
                      <a:pt x="341" y="36"/>
                    </a:lnTo>
                    <a:lnTo>
                      <a:pt x="361" y="26"/>
                    </a:lnTo>
                    <a:lnTo>
                      <a:pt x="406" y="42"/>
                    </a:lnTo>
                    <a:lnTo>
                      <a:pt x="405" y="64"/>
                    </a:lnTo>
                    <a:lnTo>
                      <a:pt x="445" y="70"/>
                    </a:lnTo>
                    <a:lnTo>
                      <a:pt x="490" y="60"/>
                    </a:lnTo>
                    <a:lnTo>
                      <a:pt x="532" y="66"/>
                    </a:lnTo>
                    <a:lnTo>
                      <a:pt x="535" y="88"/>
                    </a:lnTo>
                    <a:lnTo>
                      <a:pt x="555" y="101"/>
                    </a:lnTo>
                    <a:lnTo>
                      <a:pt x="586" y="93"/>
                    </a:lnTo>
                    <a:lnTo>
                      <a:pt x="609" y="119"/>
                    </a:lnTo>
                    <a:lnTo>
                      <a:pt x="631" y="113"/>
                    </a:lnTo>
                    <a:lnTo>
                      <a:pt x="632" y="95"/>
                    </a:lnTo>
                    <a:lnTo>
                      <a:pt x="691" y="50"/>
                    </a:lnTo>
                    <a:lnTo>
                      <a:pt x="723" y="50"/>
                    </a:lnTo>
                    <a:lnTo>
                      <a:pt x="747" y="88"/>
                    </a:lnTo>
                    <a:lnTo>
                      <a:pt x="766" y="88"/>
                    </a:lnTo>
                    <a:lnTo>
                      <a:pt x="796" y="169"/>
                    </a:lnTo>
                    <a:lnTo>
                      <a:pt x="777" y="234"/>
                    </a:lnTo>
                    <a:lnTo>
                      <a:pt x="884" y="244"/>
                    </a:lnTo>
                    <a:lnTo>
                      <a:pt x="955" y="263"/>
                    </a:lnTo>
                    <a:lnTo>
                      <a:pt x="966" y="297"/>
                    </a:lnTo>
                    <a:lnTo>
                      <a:pt x="1016" y="369"/>
                    </a:lnTo>
                    <a:lnTo>
                      <a:pt x="1068" y="367"/>
                    </a:lnTo>
                    <a:lnTo>
                      <a:pt x="1082" y="414"/>
                    </a:lnTo>
                    <a:lnTo>
                      <a:pt x="1005" y="490"/>
                    </a:lnTo>
                    <a:lnTo>
                      <a:pt x="1014" y="550"/>
                    </a:lnTo>
                    <a:lnTo>
                      <a:pt x="1083" y="586"/>
                    </a:lnTo>
                    <a:lnTo>
                      <a:pt x="1112" y="585"/>
                    </a:lnTo>
                    <a:lnTo>
                      <a:pt x="1116" y="621"/>
                    </a:lnTo>
                    <a:lnTo>
                      <a:pt x="1090" y="665"/>
                    </a:lnTo>
                    <a:lnTo>
                      <a:pt x="1038" y="716"/>
                    </a:lnTo>
                    <a:lnTo>
                      <a:pt x="1045" y="763"/>
                    </a:lnTo>
                    <a:lnTo>
                      <a:pt x="1024" y="753"/>
                    </a:lnTo>
                    <a:lnTo>
                      <a:pt x="966" y="790"/>
                    </a:lnTo>
                    <a:lnTo>
                      <a:pt x="933" y="773"/>
                    </a:lnTo>
                    <a:lnTo>
                      <a:pt x="889" y="773"/>
                    </a:lnTo>
                    <a:lnTo>
                      <a:pt x="847" y="763"/>
                    </a:lnTo>
                    <a:lnTo>
                      <a:pt x="768" y="829"/>
                    </a:lnTo>
                    <a:lnTo>
                      <a:pt x="738" y="815"/>
                    </a:lnTo>
                    <a:lnTo>
                      <a:pt x="690" y="840"/>
                    </a:lnTo>
                    <a:lnTo>
                      <a:pt x="646" y="845"/>
                    </a:lnTo>
                    <a:lnTo>
                      <a:pt x="619" y="889"/>
                    </a:lnTo>
                    <a:lnTo>
                      <a:pt x="605" y="864"/>
                    </a:lnTo>
                    <a:lnTo>
                      <a:pt x="587" y="797"/>
                    </a:lnTo>
                    <a:lnTo>
                      <a:pt x="603" y="757"/>
                    </a:lnTo>
                    <a:lnTo>
                      <a:pt x="571" y="764"/>
                    </a:lnTo>
                    <a:lnTo>
                      <a:pt x="464" y="777"/>
                    </a:lnTo>
                    <a:lnTo>
                      <a:pt x="442" y="726"/>
                    </a:lnTo>
                    <a:lnTo>
                      <a:pt x="360" y="732"/>
                    </a:lnTo>
                    <a:lnTo>
                      <a:pt x="317" y="645"/>
                    </a:lnTo>
                    <a:lnTo>
                      <a:pt x="231" y="591"/>
                    </a:lnTo>
                    <a:lnTo>
                      <a:pt x="136" y="573"/>
                    </a:lnTo>
                    <a:lnTo>
                      <a:pt x="48" y="541"/>
                    </a:lnTo>
                    <a:lnTo>
                      <a:pt x="25" y="466"/>
                    </a:lnTo>
                    <a:lnTo>
                      <a:pt x="29" y="426"/>
                    </a:lnTo>
                    <a:lnTo>
                      <a:pt x="0" y="387"/>
                    </a:lnTo>
                    <a:lnTo>
                      <a:pt x="9" y="352"/>
                    </a:lnTo>
                    <a:lnTo>
                      <a:pt x="22" y="31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598"/>
              <p:cNvSpPr/>
              <p:nvPr/>
            </p:nvSpPr>
            <p:spPr>
              <a:xfrm>
                <a:off x="4395600" y="6013800"/>
                <a:ext cx="742680" cy="46656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992" h="622">
                    <a:moveTo>
                      <a:pt x="0" y="320"/>
                    </a:moveTo>
                    <a:lnTo>
                      <a:pt x="46" y="306"/>
                    </a:lnTo>
                    <a:lnTo>
                      <a:pt x="53" y="319"/>
                    </a:lnTo>
                    <a:lnTo>
                      <a:pt x="66" y="314"/>
                    </a:lnTo>
                    <a:lnTo>
                      <a:pt x="87" y="330"/>
                    </a:lnTo>
                    <a:lnTo>
                      <a:pt x="125" y="296"/>
                    </a:lnTo>
                    <a:lnTo>
                      <a:pt x="121" y="264"/>
                    </a:lnTo>
                    <a:lnTo>
                      <a:pt x="143" y="238"/>
                    </a:lnTo>
                    <a:lnTo>
                      <a:pt x="178" y="233"/>
                    </a:lnTo>
                    <a:lnTo>
                      <a:pt x="199" y="252"/>
                    </a:lnTo>
                    <a:lnTo>
                      <a:pt x="231" y="270"/>
                    </a:lnTo>
                    <a:lnTo>
                      <a:pt x="313" y="297"/>
                    </a:lnTo>
                    <a:lnTo>
                      <a:pt x="367" y="294"/>
                    </a:lnTo>
                    <a:lnTo>
                      <a:pt x="459" y="200"/>
                    </a:lnTo>
                    <a:lnTo>
                      <a:pt x="521" y="131"/>
                    </a:lnTo>
                    <a:lnTo>
                      <a:pt x="534" y="68"/>
                    </a:lnTo>
                    <a:lnTo>
                      <a:pt x="603" y="59"/>
                    </a:lnTo>
                    <a:lnTo>
                      <a:pt x="632" y="36"/>
                    </a:lnTo>
                    <a:lnTo>
                      <a:pt x="686" y="36"/>
                    </a:lnTo>
                    <a:lnTo>
                      <a:pt x="715" y="27"/>
                    </a:lnTo>
                    <a:lnTo>
                      <a:pt x="733" y="0"/>
                    </a:lnTo>
                    <a:lnTo>
                      <a:pt x="765" y="33"/>
                    </a:lnTo>
                    <a:lnTo>
                      <a:pt x="826" y="39"/>
                    </a:lnTo>
                    <a:lnTo>
                      <a:pt x="849" y="72"/>
                    </a:lnTo>
                    <a:lnTo>
                      <a:pt x="883" y="87"/>
                    </a:lnTo>
                    <a:lnTo>
                      <a:pt x="906" y="111"/>
                    </a:lnTo>
                    <a:lnTo>
                      <a:pt x="958" y="96"/>
                    </a:lnTo>
                    <a:lnTo>
                      <a:pt x="992" y="130"/>
                    </a:lnTo>
                    <a:lnTo>
                      <a:pt x="968" y="147"/>
                    </a:lnTo>
                    <a:lnTo>
                      <a:pt x="958" y="198"/>
                    </a:lnTo>
                    <a:lnTo>
                      <a:pt x="953" y="228"/>
                    </a:lnTo>
                    <a:lnTo>
                      <a:pt x="967" y="265"/>
                    </a:lnTo>
                    <a:lnTo>
                      <a:pt x="915" y="336"/>
                    </a:lnTo>
                    <a:lnTo>
                      <a:pt x="908" y="366"/>
                    </a:lnTo>
                    <a:lnTo>
                      <a:pt x="888" y="407"/>
                    </a:lnTo>
                    <a:lnTo>
                      <a:pt x="897" y="450"/>
                    </a:lnTo>
                    <a:lnTo>
                      <a:pt x="928" y="521"/>
                    </a:lnTo>
                    <a:lnTo>
                      <a:pt x="889" y="597"/>
                    </a:lnTo>
                    <a:lnTo>
                      <a:pt x="855" y="613"/>
                    </a:lnTo>
                    <a:lnTo>
                      <a:pt x="824" y="622"/>
                    </a:lnTo>
                    <a:lnTo>
                      <a:pt x="804" y="601"/>
                    </a:lnTo>
                    <a:lnTo>
                      <a:pt x="769" y="600"/>
                    </a:lnTo>
                    <a:lnTo>
                      <a:pt x="737" y="596"/>
                    </a:lnTo>
                    <a:lnTo>
                      <a:pt x="693" y="574"/>
                    </a:lnTo>
                    <a:lnTo>
                      <a:pt x="630" y="580"/>
                    </a:lnTo>
                    <a:lnTo>
                      <a:pt x="564" y="578"/>
                    </a:lnTo>
                    <a:lnTo>
                      <a:pt x="524" y="563"/>
                    </a:lnTo>
                    <a:lnTo>
                      <a:pt x="508" y="537"/>
                    </a:lnTo>
                    <a:lnTo>
                      <a:pt x="502" y="497"/>
                    </a:lnTo>
                    <a:lnTo>
                      <a:pt x="460" y="483"/>
                    </a:lnTo>
                    <a:lnTo>
                      <a:pt x="381" y="475"/>
                    </a:lnTo>
                    <a:lnTo>
                      <a:pt x="361" y="449"/>
                    </a:lnTo>
                    <a:lnTo>
                      <a:pt x="322" y="438"/>
                    </a:lnTo>
                    <a:lnTo>
                      <a:pt x="270" y="459"/>
                    </a:lnTo>
                    <a:lnTo>
                      <a:pt x="215" y="505"/>
                    </a:lnTo>
                    <a:lnTo>
                      <a:pt x="178" y="510"/>
                    </a:lnTo>
                    <a:lnTo>
                      <a:pt x="152" y="528"/>
                    </a:lnTo>
                    <a:lnTo>
                      <a:pt x="101" y="550"/>
                    </a:lnTo>
                    <a:lnTo>
                      <a:pt x="68" y="569"/>
                    </a:lnTo>
                    <a:lnTo>
                      <a:pt x="57" y="525"/>
                    </a:lnTo>
                    <a:lnTo>
                      <a:pt x="48" y="529"/>
                    </a:lnTo>
                    <a:lnTo>
                      <a:pt x="44" y="523"/>
                    </a:lnTo>
                    <a:lnTo>
                      <a:pt x="59" y="508"/>
                    </a:lnTo>
                    <a:lnTo>
                      <a:pt x="63" y="483"/>
                    </a:lnTo>
                    <a:lnTo>
                      <a:pt x="75" y="499"/>
                    </a:lnTo>
                    <a:lnTo>
                      <a:pt x="94" y="491"/>
                    </a:lnTo>
                    <a:lnTo>
                      <a:pt x="14" y="363"/>
                    </a:lnTo>
                    <a:lnTo>
                      <a:pt x="15" y="345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599"/>
              <p:cNvSpPr/>
              <p:nvPr/>
            </p:nvSpPr>
            <p:spPr>
              <a:xfrm>
                <a:off x="2496960" y="3484440"/>
                <a:ext cx="1022040" cy="608040"/>
              </a:xfrm>
              <a:custGeom>
                <a:avLst/>
                <a:gdLst>
                  <a:gd name="textAreaLeft" fmla="*/ 0 w 1022040"/>
                  <a:gd name="textAreaRight" fmla="*/ 1022400 w 102204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1365" h="810">
                    <a:moveTo>
                      <a:pt x="0" y="363"/>
                    </a:moveTo>
                    <a:lnTo>
                      <a:pt x="46" y="339"/>
                    </a:lnTo>
                    <a:lnTo>
                      <a:pt x="58" y="309"/>
                    </a:lnTo>
                    <a:lnTo>
                      <a:pt x="68" y="253"/>
                    </a:lnTo>
                    <a:lnTo>
                      <a:pt x="56" y="221"/>
                    </a:lnTo>
                    <a:lnTo>
                      <a:pt x="118" y="168"/>
                    </a:lnTo>
                    <a:lnTo>
                      <a:pt x="143" y="135"/>
                    </a:lnTo>
                    <a:lnTo>
                      <a:pt x="172" y="95"/>
                    </a:lnTo>
                    <a:lnTo>
                      <a:pt x="165" y="0"/>
                    </a:lnTo>
                    <a:lnTo>
                      <a:pt x="203" y="59"/>
                    </a:lnTo>
                    <a:lnTo>
                      <a:pt x="244" y="81"/>
                    </a:lnTo>
                    <a:lnTo>
                      <a:pt x="273" y="114"/>
                    </a:lnTo>
                    <a:lnTo>
                      <a:pt x="274" y="173"/>
                    </a:lnTo>
                    <a:lnTo>
                      <a:pt x="258" y="244"/>
                    </a:lnTo>
                    <a:lnTo>
                      <a:pt x="210" y="220"/>
                    </a:lnTo>
                    <a:lnTo>
                      <a:pt x="176" y="216"/>
                    </a:lnTo>
                    <a:lnTo>
                      <a:pt x="134" y="243"/>
                    </a:lnTo>
                    <a:lnTo>
                      <a:pt x="138" y="314"/>
                    </a:lnTo>
                    <a:lnTo>
                      <a:pt x="143" y="366"/>
                    </a:lnTo>
                    <a:lnTo>
                      <a:pt x="173" y="378"/>
                    </a:lnTo>
                    <a:lnTo>
                      <a:pt x="225" y="405"/>
                    </a:lnTo>
                    <a:lnTo>
                      <a:pt x="255" y="395"/>
                    </a:lnTo>
                    <a:lnTo>
                      <a:pt x="301" y="325"/>
                    </a:lnTo>
                    <a:lnTo>
                      <a:pt x="339" y="318"/>
                    </a:lnTo>
                    <a:lnTo>
                      <a:pt x="372" y="357"/>
                    </a:lnTo>
                    <a:lnTo>
                      <a:pt x="366" y="326"/>
                    </a:lnTo>
                    <a:lnTo>
                      <a:pt x="373" y="295"/>
                    </a:lnTo>
                    <a:lnTo>
                      <a:pt x="390" y="317"/>
                    </a:lnTo>
                    <a:lnTo>
                      <a:pt x="419" y="324"/>
                    </a:lnTo>
                    <a:lnTo>
                      <a:pt x="457" y="315"/>
                    </a:lnTo>
                    <a:lnTo>
                      <a:pt x="505" y="301"/>
                    </a:lnTo>
                    <a:lnTo>
                      <a:pt x="571" y="310"/>
                    </a:lnTo>
                    <a:lnTo>
                      <a:pt x="619" y="304"/>
                    </a:lnTo>
                    <a:lnTo>
                      <a:pt x="600" y="340"/>
                    </a:lnTo>
                    <a:lnTo>
                      <a:pt x="636" y="342"/>
                    </a:lnTo>
                    <a:lnTo>
                      <a:pt x="639" y="313"/>
                    </a:lnTo>
                    <a:lnTo>
                      <a:pt x="743" y="293"/>
                    </a:lnTo>
                    <a:lnTo>
                      <a:pt x="779" y="310"/>
                    </a:lnTo>
                    <a:lnTo>
                      <a:pt x="718" y="303"/>
                    </a:lnTo>
                    <a:lnTo>
                      <a:pt x="703" y="350"/>
                    </a:lnTo>
                    <a:lnTo>
                      <a:pt x="696" y="383"/>
                    </a:lnTo>
                    <a:lnTo>
                      <a:pt x="658" y="382"/>
                    </a:lnTo>
                    <a:lnTo>
                      <a:pt x="687" y="415"/>
                    </a:lnTo>
                    <a:lnTo>
                      <a:pt x="723" y="418"/>
                    </a:lnTo>
                    <a:lnTo>
                      <a:pt x="732" y="452"/>
                    </a:lnTo>
                    <a:lnTo>
                      <a:pt x="759" y="407"/>
                    </a:lnTo>
                    <a:lnTo>
                      <a:pt x="792" y="400"/>
                    </a:lnTo>
                    <a:lnTo>
                      <a:pt x="836" y="406"/>
                    </a:lnTo>
                    <a:lnTo>
                      <a:pt x="867" y="429"/>
                    </a:lnTo>
                    <a:lnTo>
                      <a:pt x="895" y="460"/>
                    </a:lnTo>
                    <a:lnTo>
                      <a:pt x="931" y="437"/>
                    </a:lnTo>
                    <a:lnTo>
                      <a:pt x="965" y="429"/>
                    </a:lnTo>
                    <a:lnTo>
                      <a:pt x="998" y="423"/>
                    </a:lnTo>
                    <a:lnTo>
                      <a:pt x="1029" y="426"/>
                    </a:lnTo>
                    <a:lnTo>
                      <a:pt x="1024" y="460"/>
                    </a:lnTo>
                    <a:lnTo>
                      <a:pt x="1025" y="488"/>
                    </a:lnTo>
                    <a:lnTo>
                      <a:pt x="993" y="497"/>
                    </a:lnTo>
                    <a:lnTo>
                      <a:pt x="1016" y="551"/>
                    </a:lnTo>
                    <a:lnTo>
                      <a:pt x="1040" y="505"/>
                    </a:lnTo>
                    <a:lnTo>
                      <a:pt x="1085" y="513"/>
                    </a:lnTo>
                    <a:lnTo>
                      <a:pt x="1121" y="491"/>
                    </a:lnTo>
                    <a:lnTo>
                      <a:pt x="1135" y="454"/>
                    </a:lnTo>
                    <a:lnTo>
                      <a:pt x="1125" y="423"/>
                    </a:lnTo>
                    <a:lnTo>
                      <a:pt x="1124" y="362"/>
                    </a:lnTo>
                    <a:lnTo>
                      <a:pt x="1154" y="360"/>
                    </a:lnTo>
                    <a:lnTo>
                      <a:pt x="1177" y="333"/>
                    </a:lnTo>
                    <a:lnTo>
                      <a:pt x="1213" y="369"/>
                    </a:lnTo>
                    <a:lnTo>
                      <a:pt x="1278" y="400"/>
                    </a:lnTo>
                    <a:lnTo>
                      <a:pt x="1309" y="422"/>
                    </a:lnTo>
                    <a:lnTo>
                      <a:pt x="1357" y="488"/>
                    </a:lnTo>
                    <a:lnTo>
                      <a:pt x="1355" y="539"/>
                    </a:lnTo>
                    <a:lnTo>
                      <a:pt x="1323" y="555"/>
                    </a:lnTo>
                    <a:lnTo>
                      <a:pt x="1330" y="566"/>
                    </a:lnTo>
                    <a:lnTo>
                      <a:pt x="1320" y="572"/>
                    </a:lnTo>
                    <a:lnTo>
                      <a:pt x="1327" y="584"/>
                    </a:lnTo>
                    <a:lnTo>
                      <a:pt x="1364" y="612"/>
                    </a:lnTo>
                    <a:lnTo>
                      <a:pt x="1361" y="621"/>
                    </a:lnTo>
                    <a:lnTo>
                      <a:pt x="1365" y="658"/>
                    </a:lnTo>
                    <a:lnTo>
                      <a:pt x="1340" y="677"/>
                    </a:lnTo>
                    <a:lnTo>
                      <a:pt x="1332" y="670"/>
                    </a:lnTo>
                    <a:lnTo>
                      <a:pt x="1318" y="681"/>
                    </a:lnTo>
                    <a:lnTo>
                      <a:pt x="1292" y="665"/>
                    </a:lnTo>
                    <a:lnTo>
                      <a:pt x="1277" y="687"/>
                    </a:lnTo>
                    <a:lnTo>
                      <a:pt x="1254" y="696"/>
                    </a:lnTo>
                    <a:lnTo>
                      <a:pt x="1234" y="725"/>
                    </a:lnTo>
                    <a:lnTo>
                      <a:pt x="1226" y="742"/>
                    </a:lnTo>
                    <a:lnTo>
                      <a:pt x="1214" y="736"/>
                    </a:lnTo>
                    <a:lnTo>
                      <a:pt x="1205" y="750"/>
                    </a:lnTo>
                    <a:lnTo>
                      <a:pt x="1187" y="734"/>
                    </a:lnTo>
                    <a:lnTo>
                      <a:pt x="1147" y="762"/>
                    </a:lnTo>
                    <a:lnTo>
                      <a:pt x="1143" y="786"/>
                    </a:lnTo>
                    <a:lnTo>
                      <a:pt x="1043" y="810"/>
                    </a:lnTo>
                    <a:lnTo>
                      <a:pt x="876" y="740"/>
                    </a:lnTo>
                    <a:lnTo>
                      <a:pt x="620" y="628"/>
                    </a:lnTo>
                    <a:lnTo>
                      <a:pt x="577" y="606"/>
                    </a:lnTo>
                    <a:lnTo>
                      <a:pt x="491" y="539"/>
                    </a:lnTo>
                    <a:lnTo>
                      <a:pt x="464" y="541"/>
                    </a:lnTo>
                    <a:lnTo>
                      <a:pt x="462" y="536"/>
                    </a:lnTo>
                    <a:lnTo>
                      <a:pt x="445" y="541"/>
                    </a:lnTo>
                    <a:lnTo>
                      <a:pt x="429" y="566"/>
                    </a:lnTo>
                    <a:lnTo>
                      <a:pt x="236" y="580"/>
                    </a:lnTo>
                    <a:lnTo>
                      <a:pt x="190" y="545"/>
                    </a:lnTo>
                    <a:lnTo>
                      <a:pt x="145" y="563"/>
                    </a:lnTo>
                    <a:lnTo>
                      <a:pt x="97" y="548"/>
                    </a:lnTo>
                    <a:lnTo>
                      <a:pt x="84" y="492"/>
                    </a:lnTo>
                    <a:lnTo>
                      <a:pt x="62" y="466"/>
                    </a:lnTo>
                    <a:lnTo>
                      <a:pt x="38" y="440"/>
                    </a:lnTo>
                    <a:lnTo>
                      <a:pt x="9" y="401"/>
                    </a:lnTo>
                    <a:lnTo>
                      <a:pt x="0" y="363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600"/>
              <p:cNvSpPr/>
              <p:nvPr/>
            </p:nvSpPr>
            <p:spPr>
              <a:xfrm>
                <a:off x="1579320" y="4000680"/>
                <a:ext cx="691920" cy="558720"/>
              </a:xfrm>
              <a:custGeom>
                <a:avLst/>
                <a:gdLst>
                  <a:gd name="textAreaLeft" fmla="*/ 0 w 691920"/>
                  <a:gd name="textAreaRight" fmla="*/ 692280 w 69192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916" h="740">
                    <a:moveTo>
                      <a:pt x="0" y="237"/>
                    </a:moveTo>
                    <a:lnTo>
                      <a:pt x="24" y="215"/>
                    </a:lnTo>
                    <a:lnTo>
                      <a:pt x="63" y="226"/>
                    </a:lnTo>
                    <a:lnTo>
                      <a:pt x="90" y="206"/>
                    </a:lnTo>
                    <a:lnTo>
                      <a:pt x="121" y="185"/>
                    </a:lnTo>
                    <a:lnTo>
                      <a:pt x="134" y="152"/>
                    </a:lnTo>
                    <a:lnTo>
                      <a:pt x="114" y="120"/>
                    </a:lnTo>
                    <a:lnTo>
                      <a:pt x="169" y="81"/>
                    </a:lnTo>
                    <a:lnTo>
                      <a:pt x="189" y="33"/>
                    </a:lnTo>
                    <a:lnTo>
                      <a:pt x="226" y="34"/>
                    </a:lnTo>
                    <a:lnTo>
                      <a:pt x="330" y="9"/>
                    </a:lnTo>
                    <a:lnTo>
                      <a:pt x="359" y="0"/>
                    </a:lnTo>
                    <a:lnTo>
                      <a:pt x="389" y="33"/>
                    </a:lnTo>
                    <a:lnTo>
                      <a:pt x="414" y="61"/>
                    </a:lnTo>
                    <a:lnTo>
                      <a:pt x="395" y="105"/>
                    </a:lnTo>
                    <a:lnTo>
                      <a:pt x="399" y="158"/>
                    </a:lnTo>
                    <a:lnTo>
                      <a:pt x="396" y="207"/>
                    </a:lnTo>
                    <a:lnTo>
                      <a:pt x="438" y="256"/>
                    </a:lnTo>
                    <a:lnTo>
                      <a:pt x="472" y="288"/>
                    </a:lnTo>
                    <a:lnTo>
                      <a:pt x="501" y="287"/>
                    </a:lnTo>
                    <a:lnTo>
                      <a:pt x="535" y="339"/>
                    </a:lnTo>
                    <a:lnTo>
                      <a:pt x="571" y="321"/>
                    </a:lnTo>
                    <a:lnTo>
                      <a:pt x="600" y="336"/>
                    </a:lnTo>
                    <a:lnTo>
                      <a:pt x="616" y="365"/>
                    </a:lnTo>
                    <a:lnTo>
                      <a:pt x="651" y="379"/>
                    </a:lnTo>
                    <a:lnTo>
                      <a:pt x="669" y="407"/>
                    </a:lnTo>
                    <a:lnTo>
                      <a:pt x="695" y="423"/>
                    </a:lnTo>
                    <a:lnTo>
                      <a:pt x="728" y="411"/>
                    </a:lnTo>
                    <a:lnTo>
                      <a:pt x="748" y="435"/>
                    </a:lnTo>
                    <a:lnTo>
                      <a:pt x="816" y="475"/>
                    </a:lnTo>
                    <a:lnTo>
                      <a:pt x="846" y="449"/>
                    </a:lnTo>
                    <a:lnTo>
                      <a:pt x="855" y="491"/>
                    </a:lnTo>
                    <a:lnTo>
                      <a:pt x="887" y="516"/>
                    </a:lnTo>
                    <a:lnTo>
                      <a:pt x="916" y="543"/>
                    </a:lnTo>
                    <a:lnTo>
                      <a:pt x="914" y="574"/>
                    </a:lnTo>
                    <a:lnTo>
                      <a:pt x="892" y="592"/>
                    </a:lnTo>
                    <a:lnTo>
                      <a:pt x="854" y="632"/>
                    </a:lnTo>
                    <a:lnTo>
                      <a:pt x="825" y="613"/>
                    </a:lnTo>
                    <a:lnTo>
                      <a:pt x="841" y="657"/>
                    </a:lnTo>
                    <a:lnTo>
                      <a:pt x="819" y="697"/>
                    </a:lnTo>
                    <a:lnTo>
                      <a:pt x="838" y="718"/>
                    </a:lnTo>
                    <a:lnTo>
                      <a:pt x="818" y="738"/>
                    </a:lnTo>
                    <a:lnTo>
                      <a:pt x="772" y="704"/>
                    </a:lnTo>
                    <a:lnTo>
                      <a:pt x="743" y="733"/>
                    </a:lnTo>
                    <a:lnTo>
                      <a:pt x="704" y="740"/>
                    </a:lnTo>
                    <a:lnTo>
                      <a:pt x="672" y="706"/>
                    </a:lnTo>
                    <a:lnTo>
                      <a:pt x="644" y="706"/>
                    </a:lnTo>
                    <a:lnTo>
                      <a:pt x="594" y="652"/>
                    </a:lnTo>
                    <a:lnTo>
                      <a:pt x="553" y="629"/>
                    </a:lnTo>
                    <a:lnTo>
                      <a:pt x="529" y="602"/>
                    </a:lnTo>
                    <a:lnTo>
                      <a:pt x="500" y="602"/>
                    </a:lnTo>
                    <a:lnTo>
                      <a:pt x="480" y="563"/>
                    </a:lnTo>
                    <a:lnTo>
                      <a:pt x="472" y="532"/>
                    </a:lnTo>
                    <a:lnTo>
                      <a:pt x="440" y="574"/>
                    </a:lnTo>
                    <a:lnTo>
                      <a:pt x="408" y="561"/>
                    </a:lnTo>
                    <a:lnTo>
                      <a:pt x="371" y="574"/>
                    </a:lnTo>
                    <a:lnTo>
                      <a:pt x="343" y="589"/>
                    </a:lnTo>
                    <a:lnTo>
                      <a:pt x="327" y="597"/>
                    </a:lnTo>
                    <a:lnTo>
                      <a:pt x="300" y="575"/>
                    </a:lnTo>
                    <a:lnTo>
                      <a:pt x="285" y="542"/>
                    </a:lnTo>
                    <a:lnTo>
                      <a:pt x="264" y="473"/>
                    </a:lnTo>
                    <a:lnTo>
                      <a:pt x="239" y="450"/>
                    </a:lnTo>
                    <a:lnTo>
                      <a:pt x="216" y="472"/>
                    </a:lnTo>
                    <a:lnTo>
                      <a:pt x="195" y="453"/>
                    </a:lnTo>
                    <a:lnTo>
                      <a:pt x="118" y="442"/>
                    </a:lnTo>
                    <a:lnTo>
                      <a:pt x="85" y="365"/>
                    </a:lnTo>
                    <a:lnTo>
                      <a:pt x="37" y="372"/>
                    </a:lnTo>
                    <a:lnTo>
                      <a:pt x="50" y="339"/>
                    </a:lnTo>
                    <a:lnTo>
                      <a:pt x="42" y="307"/>
                    </a:lnTo>
                    <a:lnTo>
                      <a:pt x="7" y="287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601"/>
              <p:cNvSpPr/>
              <p:nvPr/>
            </p:nvSpPr>
            <p:spPr>
              <a:xfrm>
                <a:off x="1571400" y="4330800"/>
                <a:ext cx="252360" cy="24912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335" h="326">
                    <a:moveTo>
                      <a:pt x="0" y="263"/>
                    </a:moveTo>
                    <a:lnTo>
                      <a:pt x="3" y="247"/>
                    </a:lnTo>
                    <a:lnTo>
                      <a:pt x="18" y="210"/>
                    </a:lnTo>
                    <a:lnTo>
                      <a:pt x="58" y="184"/>
                    </a:lnTo>
                    <a:lnTo>
                      <a:pt x="39" y="155"/>
                    </a:lnTo>
                    <a:lnTo>
                      <a:pt x="50" y="116"/>
                    </a:lnTo>
                    <a:lnTo>
                      <a:pt x="48" y="83"/>
                    </a:lnTo>
                    <a:lnTo>
                      <a:pt x="57" y="47"/>
                    </a:lnTo>
                    <a:lnTo>
                      <a:pt x="86" y="50"/>
                    </a:lnTo>
                    <a:lnTo>
                      <a:pt x="78" y="19"/>
                    </a:lnTo>
                    <a:lnTo>
                      <a:pt x="126" y="0"/>
                    </a:lnTo>
                    <a:lnTo>
                      <a:pt x="203" y="11"/>
                    </a:lnTo>
                    <a:lnTo>
                      <a:pt x="224" y="30"/>
                    </a:lnTo>
                    <a:lnTo>
                      <a:pt x="247" y="8"/>
                    </a:lnTo>
                    <a:lnTo>
                      <a:pt x="272" y="31"/>
                    </a:lnTo>
                    <a:lnTo>
                      <a:pt x="293" y="100"/>
                    </a:lnTo>
                    <a:lnTo>
                      <a:pt x="308" y="133"/>
                    </a:lnTo>
                    <a:lnTo>
                      <a:pt x="335" y="155"/>
                    </a:lnTo>
                    <a:lnTo>
                      <a:pt x="319" y="188"/>
                    </a:lnTo>
                    <a:lnTo>
                      <a:pt x="243" y="239"/>
                    </a:lnTo>
                    <a:lnTo>
                      <a:pt x="214" y="255"/>
                    </a:lnTo>
                    <a:lnTo>
                      <a:pt x="190" y="287"/>
                    </a:lnTo>
                    <a:lnTo>
                      <a:pt x="142" y="274"/>
                    </a:lnTo>
                    <a:lnTo>
                      <a:pt x="112" y="272"/>
                    </a:lnTo>
                    <a:lnTo>
                      <a:pt x="89" y="294"/>
                    </a:lnTo>
                    <a:lnTo>
                      <a:pt x="52" y="326"/>
                    </a:lnTo>
                    <a:lnTo>
                      <a:pt x="29" y="306"/>
                    </a:lnTo>
                    <a:lnTo>
                      <a:pt x="6" y="28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02"/>
              <p:cNvSpPr/>
              <p:nvPr/>
            </p:nvSpPr>
            <p:spPr>
              <a:xfrm>
                <a:off x="3011400" y="5051520"/>
                <a:ext cx="669600" cy="563400"/>
              </a:xfrm>
              <a:custGeom>
                <a:avLst/>
                <a:gdLst>
                  <a:gd name="textAreaLeft" fmla="*/ 0 w 669600"/>
                  <a:gd name="textAreaRight" fmla="*/ 669960 w 66960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883" h="752">
                    <a:moveTo>
                      <a:pt x="14" y="371"/>
                    </a:moveTo>
                    <a:lnTo>
                      <a:pt x="34" y="320"/>
                    </a:lnTo>
                    <a:lnTo>
                      <a:pt x="26" y="275"/>
                    </a:lnTo>
                    <a:lnTo>
                      <a:pt x="45" y="238"/>
                    </a:lnTo>
                    <a:lnTo>
                      <a:pt x="100" y="236"/>
                    </a:lnTo>
                    <a:lnTo>
                      <a:pt x="126" y="225"/>
                    </a:lnTo>
                    <a:lnTo>
                      <a:pt x="165" y="217"/>
                    </a:lnTo>
                    <a:lnTo>
                      <a:pt x="164" y="175"/>
                    </a:lnTo>
                    <a:lnTo>
                      <a:pt x="176" y="118"/>
                    </a:lnTo>
                    <a:lnTo>
                      <a:pt x="195" y="129"/>
                    </a:lnTo>
                    <a:lnTo>
                      <a:pt x="220" y="146"/>
                    </a:lnTo>
                    <a:lnTo>
                      <a:pt x="254" y="123"/>
                    </a:lnTo>
                    <a:lnTo>
                      <a:pt x="256" y="92"/>
                    </a:lnTo>
                    <a:lnTo>
                      <a:pt x="309" y="98"/>
                    </a:lnTo>
                    <a:lnTo>
                      <a:pt x="355" y="79"/>
                    </a:lnTo>
                    <a:lnTo>
                      <a:pt x="383" y="90"/>
                    </a:lnTo>
                    <a:lnTo>
                      <a:pt x="444" y="53"/>
                    </a:lnTo>
                    <a:lnTo>
                      <a:pt x="485" y="29"/>
                    </a:lnTo>
                    <a:lnTo>
                      <a:pt x="496" y="0"/>
                    </a:lnTo>
                    <a:lnTo>
                      <a:pt x="514" y="24"/>
                    </a:lnTo>
                    <a:lnTo>
                      <a:pt x="557" y="35"/>
                    </a:lnTo>
                    <a:lnTo>
                      <a:pt x="605" y="46"/>
                    </a:lnTo>
                    <a:lnTo>
                      <a:pt x="631" y="74"/>
                    </a:lnTo>
                    <a:lnTo>
                      <a:pt x="655" y="103"/>
                    </a:lnTo>
                    <a:lnTo>
                      <a:pt x="678" y="136"/>
                    </a:lnTo>
                    <a:lnTo>
                      <a:pt x="692" y="186"/>
                    </a:lnTo>
                    <a:lnTo>
                      <a:pt x="722" y="195"/>
                    </a:lnTo>
                    <a:lnTo>
                      <a:pt x="726" y="224"/>
                    </a:lnTo>
                    <a:lnTo>
                      <a:pt x="716" y="251"/>
                    </a:lnTo>
                    <a:lnTo>
                      <a:pt x="742" y="262"/>
                    </a:lnTo>
                    <a:lnTo>
                      <a:pt x="774" y="257"/>
                    </a:lnTo>
                    <a:lnTo>
                      <a:pt x="801" y="281"/>
                    </a:lnTo>
                    <a:lnTo>
                      <a:pt x="824" y="300"/>
                    </a:lnTo>
                    <a:lnTo>
                      <a:pt x="861" y="309"/>
                    </a:lnTo>
                    <a:lnTo>
                      <a:pt x="883" y="328"/>
                    </a:lnTo>
                    <a:lnTo>
                      <a:pt x="875" y="339"/>
                    </a:lnTo>
                    <a:lnTo>
                      <a:pt x="840" y="362"/>
                    </a:lnTo>
                    <a:lnTo>
                      <a:pt x="784" y="392"/>
                    </a:lnTo>
                    <a:lnTo>
                      <a:pt x="718" y="366"/>
                    </a:lnTo>
                    <a:lnTo>
                      <a:pt x="678" y="383"/>
                    </a:lnTo>
                    <a:lnTo>
                      <a:pt x="601" y="343"/>
                    </a:lnTo>
                    <a:lnTo>
                      <a:pt x="561" y="338"/>
                    </a:lnTo>
                    <a:lnTo>
                      <a:pt x="570" y="309"/>
                    </a:lnTo>
                    <a:lnTo>
                      <a:pt x="542" y="263"/>
                    </a:lnTo>
                    <a:lnTo>
                      <a:pt x="501" y="317"/>
                    </a:lnTo>
                    <a:lnTo>
                      <a:pt x="478" y="352"/>
                    </a:lnTo>
                    <a:lnTo>
                      <a:pt x="487" y="384"/>
                    </a:lnTo>
                    <a:lnTo>
                      <a:pt x="474" y="415"/>
                    </a:lnTo>
                    <a:lnTo>
                      <a:pt x="461" y="441"/>
                    </a:lnTo>
                    <a:lnTo>
                      <a:pt x="478" y="466"/>
                    </a:lnTo>
                    <a:lnTo>
                      <a:pt x="490" y="431"/>
                    </a:lnTo>
                    <a:lnTo>
                      <a:pt x="509" y="460"/>
                    </a:lnTo>
                    <a:lnTo>
                      <a:pt x="520" y="490"/>
                    </a:lnTo>
                    <a:lnTo>
                      <a:pt x="537" y="513"/>
                    </a:lnTo>
                    <a:lnTo>
                      <a:pt x="539" y="545"/>
                    </a:lnTo>
                    <a:lnTo>
                      <a:pt x="505" y="553"/>
                    </a:lnTo>
                    <a:lnTo>
                      <a:pt x="474" y="573"/>
                    </a:lnTo>
                    <a:lnTo>
                      <a:pt x="453" y="598"/>
                    </a:lnTo>
                    <a:lnTo>
                      <a:pt x="449" y="634"/>
                    </a:lnTo>
                    <a:lnTo>
                      <a:pt x="420" y="675"/>
                    </a:lnTo>
                    <a:lnTo>
                      <a:pt x="414" y="704"/>
                    </a:lnTo>
                    <a:lnTo>
                      <a:pt x="385" y="720"/>
                    </a:lnTo>
                    <a:lnTo>
                      <a:pt x="378" y="751"/>
                    </a:lnTo>
                    <a:lnTo>
                      <a:pt x="364" y="752"/>
                    </a:lnTo>
                    <a:lnTo>
                      <a:pt x="334" y="718"/>
                    </a:lnTo>
                    <a:lnTo>
                      <a:pt x="301" y="701"/>
                    </a:lnTo>
                    <a:lnTo>
                      <a:pt x="280" y="682"/>
                    </a:lnTo>
                    <a:lnTo>
                      <a:pt x="238" y="699"/>
                    </a:lnTo>
                    <a:lnTo>
                      <a:pt x="218" y="661"/>
                    </a:lnTo>
                    <a:lnTo>
                      <a:pt x="214" y="616"/>
                    </a:lnTo>
                    <a:lnTo>
                      <a:pt x="185" y="610"/>
                    </a:lnTo>
                    <a:lnTo>
                      <a:pt x="152" y="598"/>
                    </a:lnTo>
                    <a:lnTo>
                      <a:pt x="157" y="558"/>
                    </a:lnTo>
                    <a:lnTo>
                      <a:pt x="114" y="529"/>
                    </a:lnTo>
                    <a:lnTo>
                      <a:pt x="84" y="517"/>
                    </a:lnTo>
                    <a:lnTo>
                      <a:pt x="53" y="519"/>
                    </a:lnTo>
                    <a:lnTo>
                      <a:pt x="41" y="466"/>
                    </a:lnTo>
                    <a:lnTo>
                      <a:pt x="8" y="433"/>
                    </a:lnTo>
                    <a:lnTo>
                      <a:pt x="0" y="404"/>
                    </a:lnTo>
                    <a:lnTo>
                      <a:pt x="14" y="37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603"/>
              <p:cNvSpPr/>
              <p:nvPr/>
            </p:nvSpPr>
            <p:spPr>
              <a:xfrm>
                <a:off x="4030560" y="3486240"/>
                <a:ext cx="20520" cy="442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3" h="57">
                    <a:moveTo>
                      <a:pt x="17" y="57"/>
                    </a:moveTo>
                    <a:lnTo>
                      <a:pt x="0" y="40"/>
                    </a:lnTo>
                    <a:lnTo>
                      <a:pt x="23" y="0"/>
                    </a:lnTo>
                    <a:lnTo>
                      <a:pt x="17" y="5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04"/>
              <p:cNvSpPr/>
              <p:nvPr/>
            </p:nvSpPr>
            <p:spPr>
              <a:xfrm>
                <a:off x="3670200" y="3672000"/>
                <a:ext cx="7920" cy="108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11" y="0"/>
                    </a:moveTo>
                    <a:lnTo>
                      <a:pt x="10" y="6"/>
                    </a:lnTo>
                    <a:lnTo>
                      <a:pt x="0" y="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05"/>
              <p:cNvSpPr/>
              <p:nvPr/>
            </p:nvSpPr>
            <p:spPr>
              <a:xfrm>
                <a:off x="4097160" y="3444840"/>
                <a:ext cx="21960" cy="792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9" h="10">
                    <a:moveTo>
                      <a:pt x="4" y="10"/>
                    </a:moveTo>
                    <a:lnTo>
                      <a:pt x="0" y="1"/>
                    </a:lnTo>
                    <a:lnTo>
                      <a:pt x="29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606"/>
              <p:cNvSpPr/>
              <p:nvPr/>
            </p:nvSpPr>
            <p:spPr>
              <a:xfrm>
                <a:off x="4116240" y="3586320"/>
                <a:ext cx="64800" cy="44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83" h="59">
                    <a:moveTo>
                      <a:pt x="46" y="59"/>
                    </a:moveTo>
                    <a:lnTo>
                      <a:pt x="0" y="44"/>
                    </a:lnTo>
                    <a:lnTo>
                      <a:pt x="24" y="20"/>
                    </a:lnTo>
                    <a:lnTo>
                      <a:pt x="55" y="0"/>
                    </a:lnTo>
                    <a:lnTo>
                      <a:pt x="83" y="25"/>
                    </a:lnTo>
                    <a:lnTo>
                      <a:pt x="46" y="59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607"/>
              <p:cNvSpPr/>
              <p:nvPr/>
            </p:nvSpPr>
            <p:spPr>
              <a:xfrm>
                <a:off x="4120920" y="3448080"/>
                <a:ext cx="21960" cy="205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26" h="25">
                    <a:moveTo>
                      <a:pt x="0" y="6"/>
                    </a:moveTo>
                    <a:lnTo>
                      <a:pt x="3" y="0"/>
                    </a:lnTo>
                    <a:lnTo>
                      <a:pt x="26" y="2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608"/>
              <p:cNvSpPr/>
              <p:nvPr/>
            </p:nvSpPr>
            <p:spPr>
              <a:xfrm>
                <a:off x="3870360" y="3403440"/>
                <a:ext cx="69840" cy="53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97" h="74">
                    <a:moveTo>
                      <a:pt x="24" y="74"/>
                    </a:moveTo>
                    <a:lnTo>
                      <a:pt x="0" y="66"/>
                    </a:lnTo>
                    <a:lnTo>
                      <a:pt x="23" y="7"/>
                    </a:lnTo>
                    <a:lnTo>
                      <a:pt x="84" y="0"/>
                    </a:lnTo>
                    <a:lnTo>
                      <a:pt x="67" y="35"/>
                    </a:lnTo>
                    <a:lnTo>
                      <a:pt x="97" y="46"/>
                    </a:lnTo>
                    <a:lnTo>
                      <a:pt x="70" y="73"/>
                    </a:lnTo>
                    <a:lnTo>
                      <a:pt x="24" y="74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609"/>
              <p:cNvSpPr/>
              <p:nvPr/>
            </p:nvSpPr>
            <p:spPr>
              <a:xfrm>
                <a:off x="3217680" y="3457440"/>
                <a:ext cx="1137960" cy="1512720"/>
              </a:xfrm>
              <a:custGeom>
                <a:avLst/>
                <a:gdLst>
                  <a:gd name="textAreaLeft" fmla="*/ 0 w 1137960"/>
                  <a:gd name="textAreaRight" fmla="*/ 1137960 w 1137960"/>
                  <a:gd name="textAreaTop" fmla="*/ 0 h 1512720"/>
                  <a:gd name="textAreaBottom" fmla="*/ 1513080 h 1512720"/>
                </a:gdLst>
                <a:ahLst/>
                <a:rect l="textAreaLeft" t="textAreaTop" r="textAreaRight" b="textAreaBottom"/>
                <a:pathLst>
                  <a:path w="1522" h="2016">
                    <a:moveTo>
                      <a:pt x="31" y="1070"/>
                    </a:moveTo>
                    <a:lnTo>
                      <a:pt x="56" y="1062"/>
                    </a:lnTo>
                    <a:lnTo>
                      <a:pt x="64" y="1068"/>
                    </a:lnTo>
                    <a:lnTo>
                      <a:pt x="95" y="1049"/>
                    </a:lnTo>
                    <a:lnTo>
                      <a:pt x="89" y="1036"/>
                    </a:lnTo>
                    <a:lnTo>
                      <a:pt x="124" y="1005"/>
                    </a:lnTo>
                    <a:lnTo>
                      <a:pt x="127" y="1016"/>
                    </a:lnTo>
                    <a:lnTo>
                      <a:pt x="136" y="1010"/>
                    </a:lnTo>
                    <a:lnTo>
                      <a:pt x="135" y="999"/>
                    </a:lnTo>
                    <a:lnTo>
                      <a:pt x="161" y="978"/>
                    </a:lnTo>
                    <a:lnTo>
                      <a:pt x="175" y="976"/>
                    </a:lnTo>
                    <a:lnTo>
                      <a:pt x="191" y="957"/>
                    </a:lnTo>
                    <a:lnTo>
                      <a:pt x="220" y="971"/>
                    </a:lnTo>
                    <a:lnTo>
                      <a:pt x="225" y="959"/>
                    </a:lnTo>
                    <a:lnTo>
                      <a:pt x="236" y="960"/>
                    </a:lnTo>
                    <a:lnTo>
                      <a:pt x="239" y="951"/>
                    </a:lnTo>
                    <a:lnTo>
                      <a:pt x="273" y="954"/>
                    </a:lnTo>
                    <a:lnTo>
                      <a:pt x="282" y="919"/>
                    </a:lnTo>
                    <a:lnTo>
                      <a:pt x="294" y="922"/>
                    </a:lnTo>
                    <a:lnTo>
                      <a:pt x="299" y="905"/>
                    </a:lnTo>
                    <a:lnTo>
                      <a:pt x="341" y="894"/>
                    </a:lnTo>
                    <a:lnTo>
                      <a:pt x="343" y="877"/>
                    </a:lnTo>
                    <a:lnTo>
                      <a:pt x="359" y="886"/>
                    </a:lnTo>
                    <a:lnTo>
                      <a:pt x="375" y="859"/>
                    </a:lnTo>
                    <a:lnTo>
                      <a:pt x="359" y="862"/>
                    </a:lnTo>
                    <a:lnTo>
                      <a:pt x="354" y="856"/>
                    </a:lnTo>
                    <a:lnTo>
                      <a:pt x="371" y="840"/>
                    </a:lnTo>
                    <a:lnTo>
                      <a:pt x="384" y="853"/>
                    </a:lnTo>
                    <a:lnTo>
                      <a:pt x="396" y="852"/>
                    </a:lnTo>
                    <a:lnTo>
                      <a:pt x="392" y="809"/>
                    </a:lnTo>
                    <a:lnTo>
                      <a:pt x="383" y="809"/>
                    </a:lnTo>
                    <a:lnTo>
                      <a:pt x="364" y="797"/>
                    </a:lnTo>
                    <a:lnTo>
                      <a:pt x="356" y="770"/>
                    </a:lnTo>
                    <a:lnTo>
                      <a:pt x="367" y="724"/>
                    </a:lnTo>
                    <a:lnTo>
                      <a:pt x="380" y="712"/>
                    </a:lnTo>
                    <a:lnTo>
                      <a:pt x="405" y="693"/>
                    </a:lnTo>
                    <a:lnTo>
                      <a:pt x="401" y="656"/>
                    </a:lnTo>
                    <a:lnTo>
                      <a:pt x="404" y="647"/>
                    </a:lnTo>
                    <a:lnTo>
                      <a:pt x="367" y="619"/>
                    </a:lnTo>
                    <a:lnTo>
                      <a:pt x="360" y="607"/>
                    </a:lnTo>
                    <a:lnTo>
                      <a:pt x="370" y="601"/>
                    </a:lnTo>
                    <a:lnTo>
                      <a:pt x="363" y="590"/>
                    </a:lnTo>
                    <a:lnTo>
                      <a:pt x="395" y="574"/>
                    </a:lnTo>
                    <a:lnTo>
                      <a:pt x="425" y="578"/>
                    </a:lnTo>
                    <a:lnTo>
                      <a:pt x="451" y="601"/>
                    </a:lnTo>
                    <a:lnTo>
                      <a:pt x="468" y="634"/>
                    </a:lnTo>
                    <a:lnTo>
                      <a:pt x="502" y="672"/>
                    </a:lnTo>
                    <a:lnTo>
                      <a:pt x="523" y="735"/>
                    </a:lnTo>
                    <a:lnTo>
                      <a:pt x="540" y="769"/>
                    </a:lnTo>
                    <a:lnTo>
                      <a:pt x="541" y="803"/>
                    </a:lnTo>
                    <a:lnTo>
                      <a:pt x="568" y="780"/>
                    </a:lnTo>
                    <a:lnTo>
                      <a:pt x="613" y="717"/>
                    </a:lnTo>
                    <a:lnTo>
                      <a:pt x="588" y="677"/>
                    </a:lnTo>
                    <a:lnTo>
                      <a:pt x="579" y="636"/>
                    </a:lnTo>
                    <a:lnTo>
                      <a:pt x="598" y="567"/>
                    </a:lnTo>
                    <a:lnTo>
                      <a:pt x="553" y="531"/>
                    </a:lnTo>
                    <a:lnTo>
                      <a:pt x="530" y="550"/>
                    </a:lnTo>
                    <a:lnTo>
                      <a:pt x="536" y="511"/>
                    </a:lnTo>
                    <a:lnTo>
                      <a:pt x="565" y="463"/>
                    </a:lnTo>
                    <a:lnTo>
                      <a:pt x="591" y="418"/>
                    </a:lnTo>
                    <a:lnTo>
                      <a:pt x="607" y="381"/>
                    </a:lnTo>
                    <a:lnTo>
                      <a:pt x="625" y="344"/>
                    </a:lnTo>
                    <a:lnTo>
                      <a:pt x="588" y="341"/>
                    </a:lnTo>
                    <a:lnTo>
                      <a:pt x="616" y="294"/>
                    </a:lnTo>
                    <a:lnTo>
                      <a:pt x="631" y="257"/>
                    </a:lnTo>
                    <a:lnTo>
                      <a:pt x="701" y="220"/>
                    </a:lnTo>
                    <a:lnTo>
                      <a:pt x="744" y="176"/>
                    </a:lnTo>
                    <a:lnTo>
                      <a:pt x="774" y="115"/>
                    </a:lnTo>
                    <a:lnTo>
                      <a:pt x="809" y="43"/>
                    </a:lnTo>
                    <a:lnTo>
                      <a:pt x="841" y="0"/>
                    </a:lnTo>
                    <a:lnTo>
                      <a:pt x="911" y="43"/>
                    </a:lnTo>
                    <a:lnTo>
                      <a:pt x="952" y="46"/>
                    </a:lnTo>
                    <a:lnTo>
                      <a:pt x="976" y="70"/>
                    </a:lnTo>
                    <a:lnTo>
                      <a:pt x="999" y="94"/>
                    </a:lnTo>
                    <a:lnTo>
                      <a:pt x="994" y="135"/>
                    </a:lnTo>
                    <a:lnTo>
                      <a:pt x="971" y="202"/>
                    </a:lnTo>
                    <a:lnTo>
                      <a:pt x="929" y="271"/>
                    </a:lnTo>
                    <a:lnTo>
                      <a:pt x="897" y="298"/>
                    </a:lnTo>
                    <a:lnTo>
                      <a:pt x="923" y="383"/>
                    </a:lnTo>
                    <a:lnTo>
                      <a:pt x="920" y="423"/>
                    </a:lnTo>
                    <a:lnTo>
                      <a:pt x="904" y="464"/>
                    </a:lnTo>
                    <a:lnTo>
                      <a:pt x="875" y="516"/>
                    </a:lnTo>
                    <a:lnTo>
                      <a:pt x="865" y="610"/>
                    </a:lnTo>
                    <a:lnTo>
                      <a:pt x="852" y="655"/>
                    </a:lnTo>
                    <a:lnTo>
                      <a:pt x="821" y="728"/>
                    </a:lnTo>
                    <a:lnTo>
                      <a:pt x="820" y="761"/>
                    </a:lnTo>
                    <a:lnTo>
                      <a:pt x="866" y="826"/>
                    </a:lnTo>
                    <a:lnTo>
                      <a:pt x="847" y="866"/>
                    </a:lnTo>
                    <a:lnTo>
                      <a:pt x="818" y="894"/>
                    </a:lnTo>
                    <a:lnTo>
                      <a:pt x="812" y="922"/>
                    </a:lnTo>
                    <a:lnTo>
                      <a:pt x="802" y="950"/>
                    </a:lnTo>
                    <a:lnTo>
                      <a:pt x="781" y="978"/>
                    </a:lnTo>
                    <a:lnTo>
                      <a:pt x="749" y="999"/>
                    </a:lnTo>
                    <a:lnTo>
                      <a:pt x="721" y="1021"/>
                    </a:lnTo>
                    <a:lnTo>
                      <a:pt x="704" y="1045"/>
                    </a:lnTo>
                    <a:lnTo>
                      <a:pt x="688" y="1073"/>
                    </a:lnTo>
                    <a:lnTo>
                      <a:pt x="660" y="1064"/>
                    </a:lnTo>
                    <a:lnTo>
                      <a:pt x="664" y="1113"/>
                    </a:lnTo>
                    <a:lnTo>
                      <a:pt x="629" y="1121"/>
                    </a:lnTo>
                    <a:lnTo>
                      <a:pt x="581" y="1102"/>
                    </a:lnTo>
                    <a:lnTo>
                      <a:pt x="613" y="1089"/>
                    </a:lnTo>
                    <a:lnTo>
                      <a:pt x="592" y="1079"/>
                    </a:lnTo>
                    <a:lnTo>
                      <a:pt x="574" y="1069"/>
                    </a:lnTo>
                    <a:lnTo>
                      <a:pt x="548" y="1056"/>
                    </a:lnTo>
                    <a:lnTo>
                      <a:pt x="516" y="1042"/>
                    </a:lnTo>
                    <a:lnTo>
                      <a:pt x="487" y="1047"/>
                    </a:lnTo>
                    <a:lnTo>
                      <a:pt x="516" y="1052"/>
                    </a:lnTo>
                    <a:lnTo>
                      <a:pt x="523" y="1097"/>
                    </a:lnTo>
                    <a:lnTo>
                      <a:pt x="577" y="1146"/>
                    </a:lnTo>
                    <a:lnTo>
                      <a:pt x="606" y="1148"/>
                    </a:lnTo>
                    <a:lnTo>
                      <a:pt x="634" y="1155"/>
                    </a:lnTo>
                    <a:lnTo>
                      <a:pt x="666" y="1193"/>
                    </a:lnTo>
                    <a:lnTo>
                      <a:pt x="701" y="1184"/>
                    </a:lnTo>
                    <a:lnTo>
                      <a:pt x="714" y="1153"/>
                    </a:lnTo>
                    <a:lnTo>
                      <a:pt x="750" y="1138"/>
                    </a:lnTo>
                    <a:lnTo>
                      <a:pt x="792" y="1122"/>
                    </a:lnTo>
                    <a:lnTo>
                      <a:pt x="818" y="1101"/>
                    </a:lnTo>
                    <a:lnTo>
                      <a:pt x="836" y="1062"/>
                    </a:lnTo>
                    <a:lnTo>
                      <a:pt x="862" y="1021"/>
                    </a:lnTo>
                    <a:lnTo>
                      <a:pt x="904" y="993"/>
                    </a:lnTo>
                    <a:lnTo>
                      <a:pt x="918" y="953"/>
                    </a:lnTo>
                    <a:lnTo>
                      <a:pt x="918" y="916"/>
                    </a:lnTo>
                    <a:lnTo>
                      <a:pt x="905" y="868"/>
                    </a:lnTo>
                    <a:lnTo>
                      <a:pt x="927" y="820"/>
                    </a:lnTo>
                    <a:lnTo>
                      <a:pt x="976" y="807"/>
                    </a:lnTo>
                    <a:lnTo>
                      <a:pt x="1018" y="800"/>
                    </a:lnTo>
                    <a:lnTo>
                      <a:pt x="1057" y="799"/>
                    </a:lnTo>
                    <a:lnTo>
                      <a:pt x="1058" y="839"/>
                    </a:lnTo>
                    <a:lnTo>
                      <a:pt x="1070" y="883"/>
                    </a:lnTo>
                    <a:lnTo>
                      <a:pt x="1075" y="937"/>
                    </a:lnTo>
                    <a:lnTo>
                      <a:pt x="1062" y="969"/>
                    </a:lnTo>
                    <a:lnTo>
                      <a:pt x="1062" y="1009"/>
                    </a:lnTo>
                    <a:lnTo>
                      <a:pt x="1083" y="1063"/>
                    </a:lnTo>
                    <a:lnTo>
                      <a:pt x="1120" y="1074"/>
                    </a:lnTo>
                    <a:lnTo>
                      <a:pt x="1152" y="1079"/>
                    </a:lnTo>
                    <a:lnTo>
                      <a:pt x="1127" y="1061"/>
                    </a:lnTo>
                    <a:lnTo>
                      <a:pt x="1096" y="1042"/>
                    </a:lnTo>
                    <a:lnTo>
                      <a:pt x="1073" y="1026"/>
                    </a:lnTo>
                    <a:lnTo>
                      <a:pt x="1081" y="999"/>
                    </a:lnTo>
                    <a:lnTo>
                      <a:pt x="1079" y="969"/>
                    </a:lnTo>
                    <a:lnTo>
                      <a:pt x="1099" y="948"/>
                    </a:lnTo>
                    <a:lnTo>
                      <a:pt x="1129" y="946"/>
                    </a:lnTo>
                    <a:lnTo>
                      <a:pt x="1114" y="916"/>
                    </a:lnTo>
                    <a:lnTo>
                      <a:pt x="1112" y="884"/>
                    </a:lnTo>
                    <a:lnTo>
                      <a:pt x="1118" y="831"/>
                    </a:lnTo>
                    <a:lnTo>
                      <a:pt x="1077" y="799"/>
                    </a:lnTo>
                    <a:lnTo>
                      <a:pt x="1041" y="758"/>
                    </a:lnTo>
                    <a:lnTo>
                      <a:pt x="1007" y="744"/>
                    </a:lnTo>
                    <a:lnTo>
                      <a:pt x="981" y="764"/>
                    </a:lnTo>
                    <a:lnTo>
                      <a:pt x="940" y="745"/>
                    </a:lnTo>
                    <a:lnTo>
                      <a:pt x="910" y="749"/>
                    </a:lnTo>
                    <a:lnTo>
                      <a:pt x="920" y="674"/>
                    </a:lnTo>
                    <a:lnTo>
                      <a:pt x="911" y="641"/>
                    </a:lnTo>
                    <a:lnTo>
                      <a:pt x="929" y="613"/>
                    </a:lnTo>
                    <a:lnTo>
                      <a:pt x="945" y="574"/>
                    </a:lnTo>
                    <a:lnTo>
                      <a:pt x="990" y="511"/>
                    </a:lnTo>
                    <a:lnTo>
                      <a:pt x="988" y="453"/>
                    </a:lnTo>
                    <a:lnTo>
                      <a:pt x="982" y="391"/>
                    </a:lnTo>
                    <a:lnTo>
                      <a:pt x="962" y="331"/>
                    </a:lnTo>
                    <a:lnTo>
                      <a:pt x="996" y="291"/>
                    </a:lnTo>
                    <a:lnTo>
                      <a:pt x="1008" y="261"/>
                    </a:lnTo>
                    <a:lnTo>
                      <a:pt x="1044" y="250"/>
                    </a:lnTo>
                    <a:lnTo>
                      <a:pt x="1102" y="197"/>
                    </a:lnTo>
                    <a:lnTo>
                      <a:pt x="1113" y="131"/>
                    </a:lnTo>
                    <a:lnTo>
                      <a:pt x="1108" y="101"/>
                    </a:lnTo>
                    <a:lnTo>
                      <a:pt x="1141" y="114"/>
                    </a:lnTo>
                    <a:lnTo>
                      <a:pt x="1145" y="163"/>
                    </a:lnTo>
                    <a:lnTo>
                      <a:pt x="1129" y="190"/>
                    </a:lnTo>
                    <a:lnTo>
                      <a:pt x="1108" y="261"/>
                    </a:lnTo>
                    <a:lnTo>
                      <a:pt x="1097" y="321"/>
                    </a:lnTo>
                    <a:lnTo>
                      <a:pt x="1092" y="352"/>
                    </a:lnTo>
                    <a:lnTo>
                      <a:pt x="1114" y="417"/>
                    </a:lnTo>
                    <a:lnTo>
                      <a:pt x="1148" y="414"/>
                    </a:lnTo>
                    <a:lnTo>
                      <a:pt x="1204" y="442"/>
                    </a:lnTo>
                    <a:lnTo>
                      <a:pt x="1230" y="495"/>
                    </a:lnTo>
                    <a:lnTo>
                      <a:pt x="1264" y="493"/>
                    </a:lnTo>
                    <a:lnTo>
                      <a:pt x="1233" y="488"/>
                    </a:lnTo>
                    <a:lnTo>
                      <a:pt x="1243" y="460"/>
                    </a:lnTo>
                    <a:lnTo>
                      <a:pt x="1231" y="420"/>
                    </a:lnTo>
                    <a:lnTo>
                      <a:pt x="1193" y="401"/>
                    </a:lnTo>
                    <a:lnTo>
                      <a:pt x="1144" y="352"/>
                    </a:lnTo>
                    <a:lnTo>
                      <a:pt x="1139" y="276"/>
                    </a:lnTo>
                    <a:lnTo>
                      <a:pt x="1171" y="263"/>
                    </a:lnTo>
                    <a:lnTo>
                      <a:pt x="1211" y="300"/>
                    </a:lnTo>
                    <a:lnTo>
                      <a:pt x="1240" y="317"/>
                    </a:lnTo>
                    <a:lnTo>
                      <a:pt x="1258" y="294"/>
                    </a:lnTo>
                    <a:lnTo>
                      <a:pt x="1237" y="269"/>
                    </a:lnTo>
                    <a:lnTo>
                      <a:pt x="1227" y="242"/>
                    </a:lnTo>
                    <a:lnTo>
                      <a:pt x="1284" y="233"/>
                    </a:lnTo>
                    <a:lnTo>
                      <a:pt x="1276" y="262"/>
                    </a:lnTo>
                    <a:lnTo>
                      <a:pt x="1330" y="305"/>
                    </a:lnTo>
                    <a:lnTo>
                      <a:pt x="1337" y="300"/>
                    </a:lnTo>
                    <a:lnTo>
                      <a:pt x="1366" y="339"/>
                    </a:lnTo>
                    <a:lnTo>
                      <a:pt x="1329" y="383"/>
                    </a:lnTo>
                    <a:lnTo>
                      <a:pt x="1304" y="376"/>
                    </a:lnTo>
                    <a:lnTo>
                      <a:pt x="1304" y="390"/>
                    </a:lnTo>
                    <a:lnTo>
                      <a:pt x="1288" y="413"/>
                    </a:lnTo>
                    <a:lnTo>
                      <a:pt x="1325" y="478"/>
                    </a:lnTo>
                    <a:lnTo>
                      <a:pt x="1354" y="490"/>
                    </a:lnTo>
                    <a:lnTo>
                      <a:pt x="1349" y="544"/>
                    </a:lnTo>
                    <a:lnTo>
                      <a:pt x="1337" y="597"/>
                    </a:lnTo>
                    <a:lnTo>
                      <a:pt x="1328" y="590"/>
                    </a:lnTo>
                    <a:lnTo>
                      <a:pt x="1284" y="617"/>
                    </a:lnTo>
                    <a:lnTo>
                      <a:pt x="1226" y="678"/>
                    </a:lnTo>
                    <a:lnTo>
                      <a:pt x="1226" y="709"/>
                    </a:lnTo>
                    <a:lnTo>
                      <a:pt x="1246" y="726"/>
                    </a:lnTo>
                    <a:lnTo>
                      <a:pt x="1264" y="786"/>
                    </a:lnTo>
                    <a:lnTo>
                      <a:pt x="1311" y="798"/>
                    </a:lnTo>
                    <a:lnTo>
                      <a:pt x="1321" y="818"/>
                    </a:lnTo>
                    <a:lnTo>
                      <a:pt x="1359" y="815"/>
                    </a:lnTo>
                    <a:lnTo>
                      <a:pt x="1368" y="798"/>
                    </a:lnTo>
                    <a:lnTo>
                      <a:pt x="1367" y="782"/>
                    </a:lnTo>
                    <a:lnTo>
                      <a:pt x="1383" y="792"/>
                    </a:lnTo>
                    <a:lnTo>
                      <a:pt x="1380" y="832"/>
                    </a:lnTo>
                    <a:lnTo>
                      <a:pt x="1410" y="837"/>
                    </a:lnTo>
                    <a:lnTo>
                      <a:pt x="1399" y="867"/>
                    </a:lnTo>
                    <a:lnTo>
                      <a:pt x="1422" y="911"/>
                    </a:lnTo>
                    <a:lnTo>
                      <a:pt x="1421" y="935"/>
                    </a:lnTo>
                    <a:lnTo>
                      <a:pt x="1406" y="938"/>
                    </a:lnTo>
                    <a:lnTo>
                      <a:pt x="1406" y="970"/>
                    </a:lnTo>
                    <a:lnTo>
                      <a:pt x="1407" y="977"/>
                    </a:lnTo>
                    <a:lnTo>
                      <a:pt x="1395" y="1014"/>
                    </a:lnTo>
                    <a:lnTo>
                      <a:pt x="1385" y="1019"/>
                    </a:lnTo>
                    <a:lnTo>
                      <a:pt x="1382" y="1036"/>
                    </a:lnTo>
                    <a:lnTo>
                      <a:pt x="1366" y="1053"/>
                    </a:lnTo>
                    <a:lnTo>
                      <a:pt x="1349" y="1040"/>
                    </a:lnTo>
                    <a:lnTo>
                      <a:pt x="1340" y="1048"/>
                    </a:lnTo>
                    <a:lnTo>
                      <a:pt x="1343" y="1080"/>
                    </a:lnTo>
                    <a:lnTo>
                      <a:pt x="1354" y="1114"/>
                    </a:lnTo>
                    <a:lnTo>
                      <a:pt x="1366" y="1117"/>
                    </a:lnTo>
                    <a:lnTo>
                      <a:pt x="1355" y="1161"/>
                    </a:lnTo>
                    <a:lnTo>
                      <a:pt x="1341" y="1171"/>
                    </a:lnTo>
                    <a:lnTo>
                      <a:pt x="1376" y="1216"/>
                    </a:lnTo>
                    <a:lnTo>
                      <a:pt x="1392" y="1226"/>
                    </a:lnTo>
                    <a:lnTo>
                      <a:pt x="1405" y="1280"/>
                    </a:lnTo>
                    <a:lnTo>
                      <a:pt x="1388" y="1290"/>
                    </a:lnTo>
                    <a:lnTo>
                      <a:pt x="1387" y="1313"/>
                    </a:lnTo>
                    <a:lnTo>
                      <a:pt x="1403" y="1330"/>
                    </a:lnTo>
                    <a:lnTo>
                      <a:pt x="1406" y="1361"/>
                    </a:lnTo>
                    <a:lnTo>
                      <a:pt x="1390" y="1382"/>
                    </a:lnTo>
                    <a:lnTo>
                      <a:pt x="1401" y="1411"/>
                    </a:lnTo>
                    <a:lnTo>
                      <a:pt x="1402" y="1427"/>
                    </a:lnTo>
                    <a:lnTo>
                      <a:pt x="1420" y="1425"/>
                    </a:lnTo>
                    <a:lnTo>
                      <a:pt x="1448" y="1448"/>
                    </a:lnTo>
                    <a:lnTo>
                      <a:pt x="1439" y="1460"/>
                    </a:lnTo>
                    <a:lnTo>
                      <a:pt x="1455" y="1474"/>
                    </a:lnTo>
                    <a:lnTo>
                      <a:pt x="1457" y="1524"/>
                    </a:lnTo>
                    <a:lnTo>
                      <a:pt x="1442" y="1529"/>
                    </a:lnTo>
                    <a:lnTo>
                      <a:pt x="1436" y="1571"/>
                    </a:lnTo>
                    <a:lnTo>
                      <a:pt x="1477" y="1574"/>
                    </a:lnTo>
                    <a:lnTo>
                      <a:pt x="1493" y="1605"/>
                    </a:lnTo>
                    <a:lnTo>
                      <a:pt x="1517" y="1596"/>
                    </a:lnTo>
                    <a:lnTo>
                      <a:pt x="1522" y="1714"/>
                    </a:lnTo>
                    <a:lnTo>
                      <a:pt x="1467" y="1753"/>
                    </a:lnTo>
                    <a:lnTo>
                      <a:pt x="1465" y="1795"/>
                    </a:lnTo>
                    <a:lnTo>
                      <a:pt x="1453" y="1793"/>
                    </a:lnTo>
                    <a:lnTo>
                      <a:pt x="1477" y="1815"/>
                    </a:lnTo>
                    <a:lnTo>
                      <a:pt x="1478" y="1834"/>
                    </a:lnTo>
                    <a:lnTo>
                      <a:pt x="1497" y="1837"/>
                    </a:lnTo>
                    <a:lnTo>
                      <a:pt x="1484" y="1857"/>
                    </a:lnTo>
                    <a:lnTo>
                      <a:pt x="1486" y="1882"/>
                    </a:lnTo>
                    <a:lnTo>
                      <a:pt x="1414" y="1983"/>
                    </a:lnTo>
                    <a:lnTo>
                      <a:pt x="1400" y="1991"/>
                    </a:lnTo>
                    <a:lnTo>
                      <a:pt x="1388" y="2016"/>
                    </a:lnTo>
                    <a:lnTo>
                      <a:pt x="1368" y="1994"/>
                    </a:lnTo>
                    <a:lnTo>
                      <a:pt x="1349" y="1955"/>
                    </a:lnTo>
                    <a:lnTo>
                      <a:pt x="1323" y="1973"/>
                    </a:lnTo>
                    <a:lnTo>
                      <a:pt x="1305" y="1948"/>
                    </a:lnTo>
                    <a:lnTo>
                      <a:pt x="1285" y="1929"/>
                    </a:lnTo>
                    <a:lnTo>
                      <a:pt x="1246" y="1901"/>
                    </a:lnTo>
                    <a:lnTo>
                      <a:pt x="1184" y="1890"/>
                    </a:lnTo>
                    <a:lnTo>
                      <a:pt x="1162" y="1828"/>
                    </a:lnTo>
                    <a:lnTo>
                      <a:pt x="1082" y="1880"/>
                    </a:lnTo>
                    <a:lnTo>
                      <a:pt x="1037" y="1893"/>
                    </a:lnTo>
                    <a:lnTo>
                      <a:pt x="986" y="1888"/>
                    </a:lnTo>
                    <a:lnTo>
                      <a:pt x="945" y="1902"/>
                    </a:lnTo>
                    <a:lnTo>
                      <a:pt x="911" y="1861"/>
                    </a:lnTo>
                    <a:lnTo>
                      <a:pt x="890" y="1838"/>
                    </a:lnTo>
                    <a:lnTo>
                      <a:pt x="885" y="1801"/>
                    </a:lnTo>
                    <a:lnTo>
                      <a:pt x="838" y="1800"/>
                    </a:lnTo>
                    <a:lnTo>
                      <a:pt x="815" y="1766"/>
                    </a:lnTo>
                    <a:lnTo>
                      <a:pt x="770" y="1753"/>
                    </a:lnTo>
                    <a:lnTo>
                      <a:pt x="709" y="1751"/>
                    </a:lnTo>
                    <a:lnTo>
                      <a:pt x="649" y="1712"/>
                    </a:lnTo>
                    <a:lnTo>
                      <a:pt x="627" y="1663"/>
                    </a:lnTo>
                    <a:lnTo>
                      <a:pt x="598" y="1686"/>
                    </a:lnTo>
                    <a:lnTo>
                      <a:pt x="559" y="1665"/>
                    </a:lnTo>
                    <a:lnTo>
                      <a:pt x="521" y="1679"/>
                    </a:lnTo>
                    <a:lnTo>
                      <a:pt x="541" y="1615"/>
                    </a:lnTo>
                    <a:lnTo>
                      <a:pt x="497" y="1588"/>
                    </a:lnTo>
                    <a:lnTo>
                      <a:pt x="486" y="1556"/>
                    </a:lnTo>
                    <a:lnTo>
                      <a:pt x="492" y="1525"/>
                    </a:lnTo>
                    <a:lnTo>
                      <a:pt x="513" y="1495"/>
                    </a:lnTo>
                    <a:lnTo>
                      <a:pt x="487" y="1473"/>
                    </a:lnTo>
                    <a:lnTo>
                      <a:pt x="453" y="1459"/>
                    </a:lnTo>
                    <a:lnTo>
                      <a:pt x="421" y="1442"/>
                    </a:lnTo>
                    <a:lnTo>
                      <a:pt x="388" y="1420"/>
                    </a:lnTo>
                    <a:lnTo>
                      <a:pt x="403" y="1448"/>
                    </a:lnTo>
                    <a:lnTo>
                      <a:pt x="358" y="1444"/>
                    </a:lnTo>
                    <a:lnTo>
                      <a:pt x="319" y="1451"/>
                    </a:lnTo>
                    <a:lnTo>
                      <a:pt x="284" y="1457"/>
                    </a:lnTo>
                    <a:lnTo>
                      <a:pt x="266" y="1433"/>
                    </a:lnTo>
                    <a:lnTo>
                      <a:pt x="254" y="1405"/>
                    </a:lnTo>
                    <a:lnTo>
                      <a:pt x="261" y="1362"/>
                    </a:lnTo>
                    <a:lnTo>
                      <a:pt x="232" y="1360"/>
                    </a:lnTo>
                    <a:lnTo>
                      <a:pt x="216" y="1335"/>
                    </a:lnTo>
                    <a:lnTo>
                      <a:pt x="174" y="1324"/>
                    </a:lnTo>
                    <a:lnTo>
                      <a:pt x="142" y="1327"/>
                    </a:lnTo>
                    <a:lnTo>
                      <a:pt x="112" y="1324"/>
                    </a:lnTo>
                    <a:lnTo>
                      <a:pt x="71" y="1321"/>
                    </a:lnTo>
                    <a:lnTo>
                      <a:pt x="44" y="1333"/>
                    </a:lnTo>
                    <a:lnTo>
                      <a:pt x="39" y="1287"/>
                    </a:lnTo>
                    <a:lnTo>
                      <a:pt x="0" y="1276"/>
                    </a:lnTo>
                    <a:lnTo>
                      <a:pt x="17" y="1238"/>
                    </a:lnTo>
                    <a:lnTo>
                      <a:pt x="18" y="1204"/>
                    </a:lnTo>
                    <a:lnTo>
                      <a:pt x="57" y="1150"/>
                    </a:lnTo>
                    <a:lnTo>
                      <a:pt x="30" y="1128"/>
                    </a:lnTo>
                    <a:lnTo>
                      <a:pt x="31" y="107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10"/>
              <p:cNvSpPr/>
              <p:nvPr/>
            </p:nvSpPr>
            <p:spPr>
              <a:xfrm>
                <a:off x="2931840" y="4260960"/>
                <a:ext cx="1396800" cy="103824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0 h 1038240"/>
                  <a:gd name="textAreaBottom" fmla="*/ 1038600 h 1038240"/>
                </a:gdLst>
                <a:ahLst/>
                <a:rect l="textAreaLeft" t="textAreaTop" r="textAreaRight" b="textAreaBottom"/>
                <a:pathLst>
                  <a:path w="1857" h="1384">
                    <a:moveTo>
                      <a:pt x="0" y="502"/>
                    </a:moveTo>
                    <a:lnTo>
                      <a:pt x="14" y="487"/>
                    </a:lnTo>
                    <a:lnTo>
                      <a:pt x="19" y="471"/>
                    </a:lnTo>
                    <a:lnTo>
                      <a:pt x="38" y="453"/>
                    </a:lnTo>
                    <a:lnTo>
                      <a:pt x="52" y="435"/>
                    </a:lnTo>
                    <a:lnTo>
                      <a:pt x="55" y="415"/>
                    </a:lnTo>
                    <a:lnTo>
                      <a:pt x="50" y="405"/>
                    </a:lnTo>
                    <a:lnTo>
                      <a:pt x="55" y="393"/>
                    </a:lnTo>
                    <a:lnTo>
                      <a:pt x="55" y="377"/>
                    </a:lnTo>
                    <a:lnTo>
                      <a:pt x="66" y="371"/>
                    </a:lnTo>
                    <a:lnTo>
                      <a:pt x="71" y="358"/>
                    </a:lnTo>
                    <a:lnTo>
                      <a:pt x="64" y="345"/>
                    </a:lnTo>
                    <a:lnTo>
                      <a:pt x="65" y="330"/>
                    </a:lnTo>
                    <a:lnTo>
                      <a:pt x="71" y="320"/>
                    </a:lnTo>
                    <a:lnTo>
                      <a:pt x="89" y="318"/>
                    </a:lnTo>
                    <a:lnTo>
                      <a:pt x="93" y="286"/>
                    </a:lnTo>
                    <a:lnTo>
                      <a:pt x="106" y="276"/>
                    </a:lnTo>
                    <a:lnTo>
                      <a:pt x="129" y="221"/>
                    </a:lnTo>
                    <a:lnTo>
                      <a:pt x="153" y="194"/>
                    </a:lnTo>
                    <a:lnTo>
                      <a:pt x="174" y="182"/>
                    </a:lnTo>
                    <a:lnTo>
                      <a:pt x="169" y="156"/>
                    </a:lnTo>
                    <a:lnTo>
                      <a:pt x="176" y="117"/>
                    </a:lnTo>
                    <a:lnTo>
                      <a:pt x="195" y="101"/>
                    </a:lnTo>
                    <a:lnTo>
                      <a:pt x="195" y="78"/>
                    </a:lnTo>
                    <a:lnTo>
                      <a:pt x="201" y="73"/>
                    </a:lnTo>
                    <a:lnTo>
                      <a:pt x="209" y="75"/>
                    </a:lnTo>
                    <a:lnTo>
                      <a:pt x="248" y="48"/>
                    </a:lnTo>
                    <a:lnTo>
                      <a:pt x="256" y="54"/>
                    </a:lnTo>
                    <a:lnTo>
                      <a:pt x="261" y="76"/>
                    </a:lnTo>
                    <a:lnTo>
                      <a:pt x="265" y="79"/>
                    </a:lnTo>
                    <a:lnTo>
                      <a:pt x="259" y="84"/>
                    </a:lnTo>
                    <a:lnTo>
                      <a:pt x="263" y="91"/>
                    </a:lnTo>
                    <a:lnTo>
                      <a:pt x="293" y="74"/>
                    </a:lnTo>
                    <a:lnTo>
                      <a:pt x="302" y="79"/>
                    </a:lnTo>
                    <a:lnTo>
                      <a:pt x="332" y="58"/>
                    </a:lnTo>
                    <a:lnTo>
                      <a:pt x="328" y="43"/>
                    </a:lnTo>
                    <a:lnTo>
                      <a:pt x="365" y="20"/>
                    </a:lnTo>
                    <a:lnTo>
                      <a:pt x="394" y="15"/>
                    </a:lnTo>
                    <a:lnTo>
                      <a:pt x="410" y="0"/>
                    </a:lnTo>
                    <a:lnTo>
                      <a:pt x="409" y="58"/>
                    </a:lnTo>
                    <a:lnTo>
                      <a:pt x="436" y="80"/>
                    </a:lnTo>
                    <a:lnTo>
                      <a:pt x="397" y="134"/>
                    </a:lnTo>
                    <a:lnTo>
                      <a:pt x="396" y="168"/>
                    </a:lnTo>
                    <a:lnTo>
                      <a:pt x="379" y="206"/>
                    </a:lnTo>
                    <a:lnTo>
                      <a:pt x="418" y="217"/>
                    </a:lnTo>
                    <a:lnTo>
                      <a:pt x="423" y="263"/>
                    </a:lnTo>
                    <a:lnTo>
                      <a:pt x="450" y="251"/>
                    </a:lnTo>
                    <a:lnTo>
                      <a:pt x="491" y="254"/>
                    </a:lnTo>
                    <a:lnTo>
                      <a:pt x="521" y="257"/>
                    </a:lnTo>
                    <a:lnTo>
                      <a:pt x="553" y="254"/>
                    </a:lnTo>
                    <a:lnTo>
                      <a:pt x="595" y="265"/>
                    </a:lnTo>
                    <a:lnTo>
                      <a:pt x="611" y="290"/>
                    </a:lnTo>
                    <a:lnTo>
                      <a:pt x="640" y="292"/>
                    </a:lnTo>
                    <a:lnTo>
                      <a:pt x="633" y="335"/>
                    </a:lnTo>
                    <a:lnTo>
                      <a:pt x="645" y="363"/>
                    </a:lnTo>
                    <a:lnTo>
                      <a:pt x="663" y="387"/>
                    </a:lnTo>
                    <a:lnTo>
                      <a:pt x="698" y="381"/>
                    </a:lnTo>
                    <a:lnTo>
                      <a:pt x="737" y="374"/>
                    </a:lnTo>
                    <a:lnTo>
                      <a:pt x="782" y="378"/>
                    </a:lnTo>
                    <a:lnTo>
                      <a:pt x="767" y="350"/>
                    </a:lnTo>
                    <a:lnTo>
                      <a:pt x="800" y="372"/>
                    </a:lnTo>
                    <a:lnTo>
                      <a:pt x="832" y="389"/>
                    </a:lnTo>
                    <a:lnTo>
                      <a:pt x="866" y="403"/>
                    </a:lnTo>
                    <a:lnTo>
                      <a:pt x="892" y="425"/>
                    </a:lnTo>
                    <a:lnTo>
                      <a:pt x="871" y="455"/>
                    </a:lnTo>
                    <a:lnTo>
                      <a:pt x="865" y="486"/>
                    </a:lnTo>
                    <a:lnTo>
                      <a:pt x="876" y="518"/>
                    </a:lnTo>
                    <a:lnTo>
                      <a:pt x="920" y="545"/>
                    </a:lnTo>
                    <a:lnTo>
                      <a:pt x="900" y="609"/>
                    </a:lnTo>
                    <a:lnTo>
                      <a:pt x="938" y="595"/>
                    </a:lnTo>
                    <a:lnTo>
                      <a:pt x="977" y="616"/>
                    </a:lnTo>
                    <a:lnTo>
                      <a:pt x="1006" y="593"/>
                    </a:lnTo>
                    <a:lnTo>
                      <a:pt x="1028" y="642"/>
                    </a:lnTo>
                    <a:lnTo>
                      <a:pt x="1088" y="681"/>
                    </a:lnTo>
                    <a:lnTo>
                      <a:pt x="1149" y="683"/>
                    </a:lnTo>
                    <a:lnTo>
                      <a:pt x="1194" y="696"/>
                    </a:lnTo>
                    <a:lnTo>
                      <a:pt x="1217" y="730"/>
                    </a:lnTo>
                    <a:lnTo>
                      <a:pt x="1264" y="731"/>
                    </a:lnTo>
                    <a:lnTo>
                      <a:pt x="1269" y="768"/>
                    </a:lnTo>
                    <a:lnTo>
                      <a:pt x="1290" y="791"/>
                    </a:lnTo>
                    <a:lnTo>
                      <a:pt x="1324" y="832"/>
                    </a:lnTo>
                    <a:lnTo>
                      <a:pt x="1365" y="818"/>
                    </a:lnTo>
                    <a:lnTo>
                      <a:pt x="1416" y="823"/>
                    </a:lnTo>
                    <a:lnTo>
                      <a:pt x="1461" y="810"/>
                    </a:lnTo>
                    <a:lnTo>
                      <a:pt x="1541" y="758"/>
                    </a:lnTo>
                    <a:lnTo>
                      <a:pt x="1563" y="820"/>
                    </a:lnTo>
                    <a:lnTo>
                      <a:pt x="1625" y="831"/>
                    </a:lnTo>
                    <a:lnTo>
                      <a:pt x="1664" y="859"/>
                    </a:lnTo>
                    <a:lnTo>
                      <a:pt x="1684" y="878"/>
                    </a:lnTo>
                    <a:lnTo>
                      <a:pt x="1702" y="903"/>
                    </a:lnTo>
                    <a:lnTo>
                      <a:pt x="1728" y="885"/>
                    </a:lnTo>
                    <a:lnTo>
                      <a:pt x="1747" y="924"/>
                    </a:lnTo>
                    <a:lnTo>
                      <a:pt x="1767" y="946"/>
                    </a:lnTo>
                    <a:lnTo>
                      <a:pt x="1760" y="977"/>
                    </a:lnTo>
                    <a:lnTo>
                      <a:pt x="1760" y="1010"/>
                    </a:lnTo>
                    <a:lnTo>
                      <a:pt x="1769" y="1034"/>
                    </a:lnTo>
                    <a:lnTo>
                      <a:pt x="1794" y="1039"/>
                    </a:lnTo>
                    <a:lnTo>
                      <a:pt x="1831" y="1076"/>
                    </a:lnTo>
                    <a:lnTo>
                      <a:pt x="1857" y="1083"/>
                    </a:lnTo>
                    <a:lnTo>
                      <a:pt x="1838" y="1109"/>
                    </a:lnTo>
                    <a:lnTo>
                      <a:pt x="1723" y="1165"/>
                    </a:lnTo>
                    <a:lnTo>
                      <a:pt x="1704" y="1165"/>
                    </a:lnTo>
                    <a:lnTo>
                      <a:pt x="1680" y="1127"/>
                    </a:lnTo>
                    <a:lnTo>
                      <a:pt x="1648" y="1127"/>
                    </a:lnTo>
                    <a:lnTo>
                      <a:pt x="1589" y="1172"/>
                    </a:lnTo>
                    <a:lnTo>
                      <a:pt x="1588" y="1190"/>
                    </a:lnTo>
                    <a:lnTo>
                      <a:pt x="1566" y="1196"/>
                    </a:lnTo>
                    <a:lnTo>
                      <a:pt x="1543" y="1170"/>
                    </a:lnTo>
                    <a:lnTo>
                      <a:pt x="1512" y="1178"/>
                    </a:lnTo>
                    <a:lnTo>
                      <a:pt x="1492" y="1165"/>
                    </a:lnTo>
                    <a:lnTo>
                      <a:pt x="1489" y="1143"/>
                    </a:lnTo>
                    <a:lnTo>
                      <a:pt x="1447" y="1137"/>
                    </a:lnTo>
                    <a:lnTo>
                      <a:pt x="1402" y="1147"/>
                    </a:lnTo>
                    <a:lnTo>
                      <a:pt x="1362" y="1141"/>
                    </a:lnTo>
                    <a:lnTo>
                      <a:pt x="1363" y="1119"/>
                    </a:lnTo>
                    <a:lnTo>
                      <a:pt x="1318" y="1103"/>
                    </a:lnTo>
                    <a:lnTo>
                      <a:pt x="1298" y="1113"/>
                    </a:lnTo>
                    <a:lnTo>
                      <a:pt x="1279" y="1100"/>
                    </a:lnTo>
                    <a:lnTo>
                      <a:pt x="1212" y="1077"/>
                    </a:lnTo>
                    <a:lnTo>
                      <a:pt x="1188" y="1083"/>
                    </a:lnTo>
                    <a:lnTo>
                      <a:pt x="1191" y="1119"/>
                    </a:lnTo>
                    <a:lnTo>
                      <a:pt x="1165" y="1130"/>
                    </a:lnTo>
                    <a:lnTo>
                      <a:pt x="1161" y="1169"/>
                    </a:lnTo>
                    <a:lnTo>
                      <a:pt x="1152" y="1178"/>
                    </a:lnTo>
                    <a:lnTo>
                      <a:pt x="1141" y="1253"/>
                    </a:lnTo>
                    <a:lnTo>
                      <a:pt x="1062" y="1277"/>
                    </a:lnTo>
                    <a:lnTo>
                      <a:pt x="1057" y="1297"/>
                    </a:lnTo>
                    <a:lnTo>
                      <a:pt x="1034" y="1303"/>
                    </a:lnTo>
                    <a:lnTo>
                      <a:pt x="1035" y="1343"/>
                    </a:lnTo>
                    <a:lnTo>
                      <a:pt x="987" y="1384"/>
                    </a:lnTo>
                    <a:lnTo>
                      <a:pt x="965" y="1365"/>
                    </a:lnTo>
                    <a:lnTo>
                      <a:pt x="928" y="1356"/>
                    </a:lnTo>
                    <a:lnTo>
                      <a:pt x="905" y="1337"/>
                    </a:lnTo>
                    <a:lnTo>
                      <a:pt x="878" y="1313"/>
                    </a:lnTo>
                    <a:lnTo>
                      <a:pt x="846" y="1318"/>
                    </a:lnTo>
                    <a:lnTo>
                      <a:pt x="820" y="1307"/>
                    </a:lnTo>
                    <a:lnTo>
                      <a:pt x="830" y="1280"/>
                    </a:lnTo>
                    <a:lnTo>
                      <a:pt x="826" y="1251"/>
                    </a:lnTo>
                    <a:lnTo>
                      <a:pt x="796" y="1242"/>
                    </a:lnTo>
                    <a:lnTo>
                      <a:pt x="782" y="1192"/>
                    </a:lnTo>
                    <a:lnTo>
                      <a:pt x="759" y="1159"/>
                    </a:lnTo>
                    <a:lnTo>
                      <a:pt x="735" y="1130"/>
                    </a:lnTo>
                    <a:lnTo>
                      <a:pt x="709" y="1102"/>
                    </a:lnTo>
                    <a:lnTo>
                      <a:pt x="661" y="1091"/>
                    </a:lnTo>
                    <a:lnTo>
                      <a:pt x="618" y="1080"/>
                    </a:lnTo>
                    <a:lnTo>
                      <a:pt x="600" y="1056"/>
                    </a:lnTo>
                    <a:lnTo>
                      <a:pt x="589" y="1085"/>
                    </a:lnTo>
                    <a:lnTo>
                      <a:pt x="548" y="1109"/>
                    </a:lnTo>
                    <a:lnTo>
                      <a:pt x="487" y="1146"/>
                    </a:lnTo>
                    <a:lnTo>
                      <a:pt x="459" y="1135"/>
                    </a:lnTo>
                    <a:lnTo>
                      <a:pt x="413" y="1154"/>
                    </a:lnTo>
                    <a:lnTo>
                      <a:pt x="360" y="1148"/>
                    </a:lnTo>
                    <a:lnTo>
                      <a:pt x="358" y="1179"/>
                    </a:lnTo>
                    <a:lnTo>
                      <a:pt x="324" y="1202"/>
                    </a:lnTo>
                    <a:lnTo>
                      <a:pt x="299" y="1185"/>
                    </a:lnTo>
                    <a:lnTo>
                      <a:pt x="280" y="1174"/>
                    </a:lnTo>
                    <a:lnTo>
                      <a:pt x="263" y="1169"/>
                    </a:lnTo>
                    <a:lnTo>
                      <a:pt x="249" y="1124"/>
                    </a:lnTo>
                    <a:lnTo>
                      <a:pt x="262" y="1077"/>
                    </a:lnTo>
                    <a:lnTo>
                      <a:pt x="250" y="1069"/>
                    </a:lnTo>
                    <a:lnTo>
                      <a:pt x="252" y="1050"/>
                    </a:lnTo>
                    <a:lnTo>
                      <a:pt x="220" y="1034"/>
                    </a:lnTo>
                    <a:lnTo>
                      <a:pt x="181" y="1009"/>
                    </a:lnTo>
                    <a:lnTo>
                      <a:pt x="174" y="988"/>
                    </a:lnTo>
                    <a:lnTo>
                      <a:pt x="183" y="963"/>
                    </a:lnTo>
                    <a:lnTo>
                      <a:pt x="189" y="936"/>
                    </a:lnTo>
                    <a:lnTo>
                      <a:pt x="191" y="892"/>
                    </a:lnTo>
                    <a:lnTo>
                      <a:pt x="169" y="859"/>
                    </a:lnTo>
                    <a:lnTo>
                      <a:pt x="175" y="854"/>
                    </a:lnTo>
                    <a:lnTo>
                      <a:pt x="172" y="762"/>
                    </a:lnTo>
                    <a:lnTo>
                      <a:pt x="191" y="744"/>
                    </a:lnTo>
                    <a:lnTo>
                      <a:pt x="179" y="698"/>
                    </a:lnTo>
                    <a:lnTo>
                      <a:pt x="164" y="675"/>
                    </a:lnTo>
                    <a:lnTo>
                      <a:pt x="146" y="655"/>
                    </a:lnTo>
                    <a:lnTo>
                      <a:pt x="144" y="644"/>
                    </a:lnTo>
                    <a:lnTo>
                      <a:pt x="115" y="595"/>
                    </a:lnTo>
                    <a:lnTo>
                      <a:pt x="92" y="577"/>
                    </a:lnTo>
                    <a:lnTo>
                      <a:pt x="39" y="557"/>
                    </a:lnTo>
                    <a:lnTo>
                      <a:pt x="32" y="522"/>
                    </a:lnTo>
                    <a:lnTo>
                      <a:pt x="19" y="509"/>
                    </a:lnTo>
                    <a:lnTo>
                      <a:pt x="0" y="502"/>
                    </a:lnTo>
                    <a:close/>
                  </a:path>
                </a:pathLst>
              </a:custGeom>
              <a:solidFill>
                <a:srgbClr val="adbf6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11"/>
              <p:cNvSpPr/>
              <p:nvPr/>
            </p:nvSpPr>
            <p:spPr>
              <a:xfrm>
                <a:off x="2390760" y="4614840"/>
                <a:ext cx="525240" cy="58896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692" h="785">
                    <a:moveTo>
                      <a:pt x="98" y="336"/>
                    </a:moveTo>
                    <a:lnTo>
                      <a:pt x="128" y="304"/>
                    </a:lnTo>
                    <a:lnTo>
                      <a:pt x="158" y="333"/>
                    </a:lnTo>
                    <a:lnTo>
                      <a:pt x="190" y="353"/>
                    </a:lnTo>
                    <a:lnTo>
                      <a:pt x="212" y="333"/>
                    </a:lnTo>
                    <a:lnTo>
                      <a:pt x="252" y="343"/>
                    </a:lnTo>
                    <a:lnTo>
                      <a:pt x="296" y="339"/>
                    </a:lnTo>
                    <a:lnTo>
                      <a:pt x="324" y="338"/>
                    </a:lnTo>
                    <a:lnTo>
                      <a:pt x="320" y="295"/>
                    </a:lnTo>
                    <a:lnTo>
                      <a:pt x="290" y="279"/>
                    </a:lnTo>
                    <a:lnTo>
                      <a:pt x="287" y="251"/>
                    </a:lnTo>
                    <a:lnTo>
                      <a:pt x="290" y="213"/>
                    </a:lnTo>
                    <a:lnTo>
                      <a:pt x="320" y="169"/>
                    </a:lnTo>
                    <a:lnTo>
                      <a:pt x="329" y="120"/>
                    </a:lnTo>
                    <a:lnTo>
                      <a:pt x="330" y="89"/>
                    </a:lnTo>
                    <a:lnTo>
                      <a:pt x="351" y="33"/>
                    </a:lnTo>
                    <a:lnTo>
                      <a:pt x="388" y="6"/>
                    </a:lnTo>
                    <a:lnTo>
                      <a:pt x="428" y="8"/>
                    </a:lnTo>
                    <a:lnTo>
                      <a:pt x="472" y="7"/>
                    </a:lnTo>
                    <a:lnTo>
                      <a:pt x="506" y="0"/>
                    </a:lnTo>
                    <a:lnTo>
                      <a:pt x="538" y="16"/>
                    </a:lnTo>
                    <a:lnTo>
                      <a:pt x="640" y="62"/>
                    </a:lnTo>
                    <a:lnTo>
                      <a:pt x="692" y="51"/>
                    </a:lnTo>
                    <a:lnTo>
                      <a:pt x="683" y="98"/>
                    </a:lnTo>
                    <a:lnTo>
                      <a:pt x="642" y="185"/>
                    </a:lnTo>
                    <a:lnTo>
                      <a:pt x="620" y="203"/>
                    </a:lnTo>
                    <a:lnTo>
                      <a:pt x="596" y="227"/>
                    </a:lnTo>
                    <a:lnTo>
                      <a:pt x="561" y="293"/>
                    </a:lnTo>
                    <a:lnTo>
                      <a:pt x="538" y="316"/>
                    </a:lnTo>
                    <a:lnTo>
                      <a:pt x="512" y="330"/>
                    </a:lnTo>
                    <a:lnTo>
                      <a:pt x="492" y="355"/>
                    </a:lnTo>
                    <a:lnTo>
                      <a:pt x="498" y="387"/>
                    </a:lnTo>
                    <a:lnTo>
                      <a:pt x="531" y="409"/>
                    </a:lnTo>
                    <a:lnTo>
                      <a:pt x="520" y="457"/>
                    </a:lnTo>
                    <a:lnTo>
                      <a:pt x="496" y="472"/>
                    </a:lnTo>
                    <a:lnTo>
                      <a:pt x="512" y="498"/>
                    </a:lnTo>
                    <a:lnTo>
                      <a:pt x="499" y="526"/>
                    </a:lnTo>
                    <a:lnTo>
                      <a:pt x="472" y="547"/>
                    </a:lnTo>
                    <a:lnTo>
                      <a:pt x="408" y="566"/>
                    </a:lnTo>
                    <a:lnTo>
                      <a:pt x="422" y="600"/>
                    </a:lnTo>
                    <a:lnTo>
                      <a:pt x="392" y="623"/>
                    </a:lnTo>
                    <a:lnTo>
                      <a:pt x="355" y="596"/>
                    </a:lnTo>
                    <a:lnTo>
                      <a:pt x="324" y="641"/>
                    </a:lnTo>
                    <a:lnTo>
                      <a:pt x="317" y="672"/>
                    </a:lnTo>
                    <a:lnTo>
                      <a:pt x="278" y="691"/>
                    </a:lnTo>
                    <a:lnTo>
                      <a:pt x="239" y="685"/>
                    </a:lnTo>
                    <a:lnTo>
                      <a:pt x="216" y="769"/>
                    </a:lnTo>
                    <a:lnTo>
                      <a:pt x="192" y="785"/>
                    </a:lnTo>
                    <a:lnTo>
                      <a:pt x="162" y="776"/>
                    </a:lnTo>
                    <a:lnTo>
                      <a:pt x="155" y="738"/>
                    </a:lnTo>
                    <a:lnTo>
                      <a:pt x="117" y="725"/>
                    </a:lnTo>
                    <a:lnTo>
                      <a:pt x="117" y="689"/>
                    </a:lnTo>
                    <a:lnTo>
                      <a:pt x="68" y="685"/>
                    </a:lnTo>
                    <a:lnTo>
                      <a:pt x="32" y="663"/>
                    </a:lnTo>
                    <a:lnTo>
                      <a:pt x="7" y="644"/>
                    </a:lnTo>
                    <a:lnTo>
                      <a:pt x="0" y="595"/>
                    </a:lnTo>
                    <a:lnTo>
                      <a:pt x="25" y="580"/>
                    </a:lnTo>
                    <a:lnTo>
                      <a:pt x="59" y="555"/>
                    </a:lnTo>
                    <a:lnTo>
                      <a:pt x="39" y="506"/>
                    </a:lnTo>
                    <a:lnTo>
                      <a:pt x="55" y="481"/>
                    </a:lnTo>
                    <a:lnTo>
                      <a:pt x="69" y="445"/>
                    </a:lnTo>
                    <a:lnTo>
                      <a:pt x="89" y="408"/>
                    </a:lnTo>
                    <a:lnTo>
                      <a:pt x="83" y="365"/>
                    </a:lnTo>
                    <a:lnTo>
                      <a:pt x="98" y="336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dea178"/>
                </a:solidFill>
              </a:ln>
              <a:effectLst>
                <a:outerShdw dist="50760" dir="5400000" blurRad="0" rotWithShape="0">
                  <a:srgbClr val="dea17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12"/>
              <p:cNvSpPr/>
              <p:nvPr/>
            </p:nvSpPr>
            <p:spPr>
              <a:xfrm>
                <a:off x="2554200" y="4637160"/>
                <a:ext cx="587160" cy="696960"/>
              </a:xfrm>
              <a:custGeom>
                <a:avLst/>
                <a:gdLst>
                  <a:gd name="textAreaLeft" fmla="*/ 0 w 587160"/>
                  <a:gd name="textAreaRight" fmla="*/ 587520 w 587160"/>
                  <a:gd name="textAreaTop" fmla="*/ 0 h 696960"/>
                  <a:gd name="textAreaBottom" fmla="*/ 697320 h 696960"/>
                </a:gdLst>
                <a:ahLst/>
                <a:rect l="textAreaLeft" t="textAreaTop" r="textAreaRight" b="textAreaBottom"/>
                <a:pathLst>
                  <a:path w="786" h="927">
                    <a:moveTo>
                      <a:pt x="0" y="741"/>
                    </a:moveTo>
                    <a:lnTo>
                      <a:pt x="23" y="657"/>
                    </a:lnTo>
                    <a:lnTo>
                      <a:pt x="62" y="663"/>
                    </a:lnTo>
                    <a:lnTo>
                      <a:pt x="101" y="644"/>
                    </a:lnTo>
                    <a:lnTo>
                      <a:pt x="108" y="613"/>
                    </a:lnTo>
                    <a:lnTo>
                      <a:pt x="139" y="568"/>
                    </a:lnTo>
                    <a:lnTo>
                      <a:pt x="176" y="595"/>
                    </a:lnTo>
                    <a:lnTo>
                      <a:pt x="206" y="572"/>
                    </a:lnTo>
                    <a:lnTo>
                      <a:pt x="192" y="538"/>
                    </a:lnTo>
                    <a:lnTo>
                      <a:pt x="256" y="519"/>
                    </a:lnTo>
                    <a:lnTo>
                      <a:pt x="283" y="498"/>
                    </a:lnTo>
                    <a:lnTo>
                      <a:pt x="296" y="470"/>
                    </a:lnTo>
                    <a:lnTo>
                      <a:pt x="280" y="444"/>
                    </a:lnTo>
                    <a:lnTo>
                      <a:pt x="304" y="429"/>
                    </a:lnTo>
                    <a:lnTo>
                      <a:pt x="315" y="381"/>
                    </a:lnTo>
                    <a:lnTo>
                      <a:pt x="282" y="359"/>
                    </a:lnTo>
                    <a:lnTo>
                      <a:pt x="276" y="327"/>
                    </a:lnTo>
                    <a:lnTo>
                      <a:pt x="296" y="302"/>
                    </a:lnTo>
                    <a:lnTo>
                      <a:pt x="322" y="288"/>
                    </a:lnTo>
                    <a:lnTo>
                      <a:pt x="345" y="265"/>
                    </a:lnTo>
                    <a:lnTo>
                      <a:pt x="380" y="199"/>
                    </a:lnTo>
                    <a:lnTo>
                      <a:pt x="404" y="175"/>
                    </a:lnTo>
                    <a:lnTo>
                      <a:pt x="426" y="157"/>
                    </a:lnTo>
                    <a:lnTo>
                      <a:pt x="467" y="70"/>
                    </a:lnTo>
                    <a:lnTo>
                      <a:pt x="476" y="23"/>
                    </a:lnTo>
                    <a:lnTo>
                      <a:pt x="506" y="0"/>
                    </a:lnTo>
                    <a:lnTo>
                      <a:pt x="525" y="7"/>
                    </a:lnTo>
                    <a:lnTo>
                      <a:pt x="538" y="20"/>
                    </a:lnTo>
                    <a:lnTo>
                      <a:pt x="545" y="55"/>
                    </a:lnTo>
                    <a:lnTo>
                      <a:pt x="598" y="75"/>
                    </a:lnTo>
                    <a:lnTo>
                      <a:pt x="621" y="93"/>
                    </a:lnTo>
                    <a:lnTo>
                      <a:pt x="650" y="142"/>
                    </a:lnTo>
                    <a:lnTo>
                      <a:pt x="652" y="153"/>
                    </a:lnTo>
                    <a:lnTo>
                      <a:pt x="670" y="173"/>
                    </a:lnTo>
                    <a:lnTo>
                      <a:pt x="685" y="196"/>
                    </a:lnTo>
                    <a:lnTo>
                      <a:pt x="697" y="242"/>
                    </a:lnTo>
                    <a:lnTo>
                      <a:pt x="678" y="260"/>
                    </a:lnTo>
                    <a:lnTo>
                      <a:pt x="681" y="352"/>
                    </a:lnTo>
                    <a:lnTo>
                      <a:pt x="675" y="357"/>
                    </a:lnTo>
                    <a:lnTo>
                      <a:pt x="697" y="390"/>
                    </a:lnTo>
                    <a:lnTo>
                      <a:pt x="695" y="434"/>
                    </a:lnTo>
                    <a:lnTo>
                      <a:pt x="689" y="461"/>
                    </a:lnTo>
                    <a:lnTo>
                      <a:pt x="680" y="486"/>
                    </a:lnTo>
                    <a:lnTo>
                      <a:pt x="687" y="507"/>
                    </a:lnTo>
                    <a:lnTo>
                      <a:pt x="726" y="532"/>
                    </a:lnTo>
                    <a:lnTo>
                      <a:pt x="758" y="548"/>
                    </a:lnTo>
                    <a:lnTo>
                      <a:pt x="756" y="567"/>
                    </a:lnTo>
                    <a:lnTo>
                      <a:pt x="768" y="575"/>
                    </a:lnTo>
                    <a:lnTo>
                      <a:pt x="755" y="622"/>
                    </a:lnTo>
                    <a:lnTo>
                      <a:pt x="769" y="667"/>
                    </a:lnTo>
                    <a:lnTo>
                      <a:pt x="786" y="672"/>
                    </a:lnTo>
                    <a:lnTo>
                      <a:pt x="774" y="729"/>
                    </a:lnTo>
                    <a:lnTo>
                      <a:pt x="775" y="771"/>
                    </a:lnTo>
                    <a:lnTo>
                      <a:pt x="736" y="779"/>
                    </a:lnTo>
                    <a:lnTo>
                      <a:pt x="710" y="790"/>
                    </a:lnTo>
                    <a:lnTo>
                      <a:pt x="655" y="792"/>
                    </a:lnTo>
                    <a:lnTo>
                      <a:pt x="636" y="829"/>
                    </a:lnTo>
                    <a:lnTo>
                      <a:pt x="644" y="874"/>
                    </a:lnTo>
                    <a:lnTo>
                      <a:pt x="624" y="925"/>
                    </a:lnTo>
                    <a:lnTo>
                      <a:pt x="590" y="906"/>
                    </a:lnTo>
                    <a:lnTo>
                      <a:pt x="565" y="925"/>
                    </a:lnTo>
                    <a:lnTo>
                      <a:pt x="509" y="925"/>
                    </a:lnTo>
                    <a:lnTo>
                      <a:pt x="482" y="904"/>
                    </a:lnTo>
                    <a:lnTo>
                      <a:pt x="455" y="888"/>
                    </a:lnTo>
                    <a:lnTo>
                      <a:pt x="424" y="890"/>
                    </a:lnTo>
                    <a:lnTo>
                      <a:pt x="389" y="908"/>
                    </a:lnTo>
                    <a:lnTo>
                      <a:pt x="364" y="927"/>
                    </a:lnTo>
                    <a:lnTo>
                      <a:pt x="344" y="890"/>
                    </a:lnTo>
                    <a:lnTo>
                      <a:pt x="305" y="866"/>
                    </a:lnTo>
                    <a:lnTo>
                      <a:pt x="267" y="873"/>
                    </a:lnTo>
                    <a:lnTo>
                      <a:pt x="220" y="857"/>
                    </a:lnTo>
                    <a:lnTo>
                      <a:pt x="185" y="836"/>
                    </a:lnTo>
                    <a:lnTo>
                      <a:pt x="161" y="805"/>
                    </a:lnTo>
                    <a:lnTo>
                      <a:pt x="136" y="820"/>
                    </a:lnTo>
                    <a:lnTo>
                      <a:pt x="90" y="813"/>
                    </a:lnTo>
                    <a:lnTo>
                      <a:pt x="3" y="773"/>
                    </a:lnTo>
                    <a:lnTo>
                      <a:pt x="0" y="741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14"/>
              <p:cNvSpPr/>
              <p:nvPr/>
            </p:nvSpPr>
            <p:spPr>
              <a:xfrm>
                <a:off x="4086000" y="6113880"/>
                <a:ext cx="380880" cy="3967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04" h="529">
                    <a:moveTo>
                      <a:pt x="282" y="0"/>
                    </a:moveTo>
                    <a:lnTo>
                      <a:pt x="286" y="23"/>
                    </a:lnTo>
                    <a:lnTo>
                      <a:pt x="295" y="18"/>
                    </a:lnTo>
                    <a:lnTo>
                      <a:pt x="300" y="35"/>
                    </a:lnTo>
                    <a:lnTo>
                      <a:pt x="330" y="43"/>
                    </a:lnTo>
                    <a:lnTo>
                      <a:pt x="346" y="30"/>
                    </a:lnTo>
                    <a:lnTo>
                      <a:pt x="368" y="60"/>
                    </a:lnTo>
                    <a:lnTo>
                      <a:pt x="387" y="44"/>
                    </a:lnTo>
                    <a:lnTo>
                      <a:pt x="395" y="61"/>
                    </a:lnTo>
                    <a:lnTo>
                      <a:pt x="384" y="79"/>
                    </a:lnTo>
                    <a:lnTo>
                      <a:pt x="382" y="100"/>
                    </a:lnTo>
                    <a:lnTo>
                      <a:pt x="369" y="106"/>
                    </a:lnTo>
                    <a:lnTo>
                      <a:pt x="359" y="103"/>
                    </a:lnTo>
                    <a:lnTo>
                      <a:pt x="348" y="128"/>
                    </a:lnTo>
                    <a:lnTo>
                      <a:pt x="333" y="143"/>
                    </a:lnTo>
                    <a:lnTo>
                      <a:pt x="356" y="155"/>
                    </a:lnTo>
                    <a:lnTo>
                      <a:pt x="336" y="185"/>
                    </a:lnTo>
                    <a:lnTo>
                      <a:pt x="358" y="197"/>
                    </a:lnTo>
                    <a:lnTo>
                      <a:pt x="359" y="207"/>
                    </a:lnTo>
                    <a:lnTo>
                      <a:pt x="368" y="209"/>
                    </a:lnTo>
                    <a:lnTo>
                      <a:pt x="386" y="225"/>
                    </a:lnTo>
                    <a:lnTo>
                      <a:pt x="407" y="202"/>
                    </a:lnTo>
                    <a:lnTo>
                      <a:pt x="404" y="196"/>
                    </a:lnTo>
                    <a:lnTo>
                      <a:pt x="410" y="187"/>
                    </a:lnTo>
                    <a:lnTo>
                      <a:pt x="425" y="212"/>
                    </a:lnTo>
                    <a:lnTo>
                      <a:pt x="424" y="230"/>
                    </a:lnTo>
                    <a:lnTo>
                      <a:pt x="504" y="358"/>
                    </a:lnTo>
                    <a:lnTo>
                      <a:pt x="485" y="366"/>
                    </a:lnTo>
                    <a:lnTo>
                      <a:pt x="473" y="350"/>
                    </a:lnTo>
                    <a:lnTo>
                      <a:pt x="469" y="375"/>
                    </a:lnTo>
                    <a:lnTo>
                      <a:pt x="454" y="390"/>
                    </a:lnTo>
                    <a:lnTo>
                      <a:pt x="458" y="396"/>
                    </a:lnTo>
                    <a:lnTo>
                      <a:pt x="467" y="392"/>
                    </a:lnTo>
                    <a:lnTo>
                      <a:pt x="478" y="436"/>
                    </a:lnTo>
                    <a:lnTo>
                      <a:pt x="471" y="444"/>
                    </a:lnTo>
                    <a:lnTo>
                      <a:pt x="446" y="484"/>
                    </a:lnTo>
                    <a:lnTo>
                      <a:pt x="410" y="500"/>
                    </a:lnTo>
                    <a:lnTo>
                      <a:pt x="378" y="494"/>
                    </a:lnTo>
                    <a:lnTo>
                      <a:pt x="343" y="494"/>
                    </a:lnTo>
                    <a:lnTo>
                      <a:pt x="315" y="529"/>
                    </a:lnTo>
                    <a:lnTo>
                      <a:pt x="278" y="523"/>
                    </a:lnTo>
                    <a:lnTo>
                      <a:pt x="241" y="473"/>
                    </a:lnTo>
                    <a:lnTo>
                      <a:pt x="236" y="435"/>
                    </a:lnTo>
                    <a:lnTo>
                      <a:pt x="188" y="473"/>
                    </a:lnTo>
                    <a:lnTo>
                      <a:pt x="102" y="451"/>
                    </a:lnTo>
                    <a:lnTo>
                      <a:pt x="88" y="407"/>
                    </a:lnTo>
                    <a:lnTo>
                      <a:pt x="78" y="372"/>
                    </a:lnTo>
                    <a:lnTo>
                      <a:pt x="47" y="348"/>
                    </a:lnTo>
                    <a:lnTo>
                      <a:pt x="19" y="337"/>
                    </a:lnTo>
                    <a:lnTo>
                      <a:pt x="12" y="285"/>
                    </a:lnTo>
                    <a:lnTo>
                      <a:pt x="36" y="263"/>
                    </a:lnTo>
                    <a:lnTo>
                      <a:pt x="0" y="226"/>
                    </a:lnTo>
                    <a:lnTo>
                      <a:pt x="7" y="195"/>
                    </a:lnTo>
                    <a:lnTo>
                      <a:pt x="100" y="169"/>
                    </a:lnTo>
                    <a:lnTo>
                      <a:pt x="131" y="169"/>
                    </a:lnTo>
                    <a:lnTo>
                      <a:pt x="147" y="139"/>
                    </a:lnTo>
                    <a:lnTo>
                      <a:pt x="186" y="78"/>
                    </a:lnTo>
                    <a:lnTo>
                      <a:pt x="205" y="100"/>
                    </a:lnTo>
                    <a:lnTo>
                      <a:pt x="241" y="83"/>
                    </a:lnTo>
                    <a:lnTo>
                      <a:pt x="231" y="52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15"/>
              <p:cNvSpPr/>
              <p:nvPr/>
            </p:nvSpPr>
            <p:spPr>
              <a:xfrm>
                <a:off x="3719520" y="5859720"/>
                <a:ext cx="582480" cy="46512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772" h="619">
                    <a:moveTo>
                      <a:pt x="0" y="92"/>
                    </a:moveTo>
                    <a:lnTo>
                      <a:pt x="25" y="88"/>
                    </a:lnTo>
                    <a:lnTo>
                      <a:pt x="62" y="77"/>
                    </a:lnTo>
                    <a:lnTo>
                      <a:pt x="140" y="85"/>
                    </a:lnTo>
                    <a:lnTo>
                      <a:pt x="176" y="65"/>
                    </a:lnTo>
                    <a:lnTo>
                      <a:pt x="230" y="34"/>
                    </a:lnTo>
                    <a:lnTo>
                      <a:pt x="277" y="0"/>
                    </a:lnTo>
                    <a:lnTo>
                      <a:pt x="288" y="40"/>
                    </a:lnTo>
                    <a:lnTo>
                      <a:pt x="348" y="86"/>
                    </a:lnTo>
                    <a:lnTo>
                      <a:pt x="334" y="113"/>
                    </a:lnTo>
                    <a:lnTo>
                      <a:pt x="369" y="130"/>
                    </a:lnTo>
                    <a:lnTo>
                      <a:pt x="383" y="159"/>
                    </a:lnTo>
                    <a:lnTo>
                      <a:pt x="411" y="139"/>
                    </a:lnTo>
                    <a:lnTo>
                      <a:pt x="474" y="103"/>
                    </a:lnTo>
                    <a:lnTo>
                      <a:pt x="528" y="86"/>
                    </a:lnTo>
                    <a:lnTo>
                      <a:pt x="568" y="85"/>
                    </a:lnTo>
                    <a:lnTo>
                      <a:pt x="631" y="43"/>
                    </a:lnTo>
                    <a:lnTo>
                      <a:pt x="649" y="77"/>
                    </a:lnTo>
                    <a:lnTo>
                      <a:pt x="679" y="99"/>
                    </a:lnTo>
                    <a:lnTo>
                      <a:pt x="713" y="141"/>
                    </a:lnTo>
                    <a:lnTo>
                      <a:pt x="732" y="199"/>
                    </a:lnTo>
                    <a:lnTo>
                      <a:pt x="763" y="196"/>
                    </a:lnTo>
                    <a:lnTo>
                      <a:pt x="753" y="233"/>
                    </a:lnTo>
                    <a:lnTo>
                      <a:pt x="725" y="228"/>
                    </a:lnTo>
                    <a:lnTo>
                      <a:pt x="737" y="258"/>
                    </a:lnTo>
                    <a:lnTo>
                      <a:pt x="758" y="297"/>
                    </a:lnTo>
                    <a:lnTo>
                      <a:pt x="772" y="334"/>
                    </a:lnTo>
                    <a:lnTo>
                      <a:pt x="721" y="386"/>
                    </a:lnTo>
                    <a:lnTo>
                      <a:pt x="731" y="417"/>
                    </a:lnTo>
                    <a:lnTo>
                      <a:pt x="695" y="434"/>
                    </a:lnTo>
                    <a:lnTo>
                      <a:pt x="676" y="412"/>
                    </a:lnTo>
                    <a:lnTo>
                      <a:pt x="637" y="473"/>
                    </a:lnTo>
                    <a:lnTo>
                      <a:pt x="621" y="503"/>
                    </a:lnTo>
                    <a:lnTo>
                      <a:pt x="590" y="503"/>
                    </a:lnTo>
                    <a:lnTo>
                      <a:pt x="497" y="529"/>
                    </a:lnTo>
                    <a:lnTo>
                      <a:pt x="490" y="560"/>
                    </a:lnTo>
                    <a:lnTo>
                      <a:pt x="526" y="597"/>
                    </a:lnTo>
                    <a:lnTo>
                      <a:pt x="502" y="619"/>
                    </a:lnTo>
                    <a:lnTo>
                      <a:pt x="491" y="591"/>
                    </a:lnTo>
                    <a:lnTo>
                      <a:pt x="468" y="565"/>
                    </a:lnTo>
                    <a:lnTo>
                      <a:pt x="425" y="543"/>
                    </a:lnTo>
                    <a:lnTo>
                      <a:pt x="394" y="557"/>
                    </a:lnTo>
                    <a:lnTo>
                      <a:pt x="360" y="576"/>
                    </a:lnTo>
                    <a:lnTo>
                      <a:pt x="328" y="570"/>
                    </a:lnTo>
                    <a:lnTo>
                      <a:pt x="301" y="562"/>
                    </a:lnTo>
                    <a:lnTo>
                      <a:pt x="261" y="556"/>
                    </a:lnTo>
                    <a:lnTo>
                      <a:pt x="249" y="529"/>
                    </a:lnTo>
                    <a:lnTo>
                      <a:pt x="236" y="493"/>
                    </a:lnTo>
                    <a:lnTo>
                      <a:pt x="214" y="470"/>
                    </a:lnTo>
                    <a:lnTo>
                      <a:pt x="184" y="477"/>
                    </a:lnTo>
                    <a:lnTo>
                      <a:pt x="161" y="516"/>
                    </a:lnTo>
                    <a:lnTo>
                      <a:pt x="135" y="530"/>
                    </a:lnTo>
                    <a:lnTo>
                      <a:pt x="111" y="465"/>
                    </a:lnTo>
                    <a:lnTo>
                      <a:pt x="102" y="437"/>
                    </a:lnTo>
                    <a:lnTo>
                      <a:pt x="95" y="408"/>
                    </a:lnTo>
                    <a:lnTo>
                      <a:pt x="90" y="379"/>
                    </a:lnTo>
                    <a:lnTo>
                      <a:pt x="80" y="351"/>
                    </a:lnTo>
                    <a:lnTo>
                      <a:pt x="72" y="299"/>
                    </a:lnTo>
                    <a:lnTo>
                      <a:pt x="51" y="256"/>
                    </a:lnTo>
                    <a:lnTo>
                      <a:pt x="40" y="200"/>
                    </a:lnTo>
                    <a:lnTo>
                      <a:pt x="21" y="139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16"/>
              <p:cNvSpPr/>
              <p:nvPr/>
            </p:nvSpPr>
            <p:spPr>
              <a:xfrm>
                <a:off x="4168800" y="5634360"/>
                <a:ext cx="307800" cy="5540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408" h="736">
                    <a:moveTo>
                      <a:pt x="0" y="87"/>
                    </a:moveTo>
                    <a:lnTo>
                      <a:pt x="48" y="62"/>
                    </a:lnTo>
                    <a:lnTo>
                      <a:pt x="78" y="76"/>
                    </a:lnTo>
                    <a:lnTo>
                      <a:pt x="157" y="10"/>
                    </a:lnTo>
                    <a:lnTo>
                      <a:pt x="199" y="20"/>
                    </a:lnTo>
                    <a:lnTo>
                      <a:pt x="243" y="20"/>
                    </a:lnTo>
                    <a:lnTo>
                      <a:pt x="276" y="37"/>
                    </a:lnTo>
                    <a:lnTo>
                      <a:pt x="334" y="0"/>
                    </a:lnTo>
                    <a:lnTo>
                      <a:pt x="355" y="10"/>
                    </a:lnTo>
                    <a:lnTo>
                      <a:pt x="344" y="40"/>
                    </a:lnTo>
                    <a:lnTo>
                      <a:pt x="355" y="81"/>
                    </a:lnTo>
                    <a:lnTo>
                      <a:pt x="383" y="96"/>
                    </a:lnTo>
                    <a:lnTo>
                      <a:pt x="408" y="163"/>
                    </a:lnTo>
                    <a:lnTo>
                      <a:pt x="346" y="209"/>
                    </a:lnTo>
                    <a:lnTo>
                      <a:pt x="324" y="236"/>
                    </a:lnTo>
                    <a:lnTo>
                      <a:pt x="323" y="250"/>
                    </a:lnTo>
                    <a:lnTo>
                      <a:pt x="341" y="271"/>
                    </a:lnTo>
                    <a:lnTo>
                      <a:pt x="334" y="302"/>
                    </a:lnTo>
                    <a:lnTo>
                      <a:pt x="346" y="319"/>
                    </a:lnTo>
                    <a:lnTo>
                      <a:pt x="340" y="330"/>
                    </a:lnTo>
                    <a:lnTo>
                      <a:pt x="330" y="331"/>
                    </a:lnTo>
                    <a:lnTo>
                      <a:pt x="321" y="378"/>
                    </a:lnTo>
                    <a:lnTo>
                      <a:pt x="300" y="376"/>
                    </a:lnTo>
                    <a:lnTo>
                      <a:pt x="329" y="401"/>
                    </a:lnTo>
                    <a:lnTo>
                      <a:pt x="344" y="383"/>
                    </a:lnTo>
                    <a:lnTo>
                      <a:pt x="360" y="403"/>
                    </a:lnTo>
                    <a:lnTo>
                      <a:pt x="366" y="398"/>
                    </a:lnTo>
                    <a:lnTo>
                      <a:pt x="378" y="415"/>
                    </a:lnTo>
                    <a:lnTo>
                      <a:pt x="372" y="426"/>
                    </a:lnTo>
                    <a:lnTo>
                      <a:pt x="355" y="431"/>
                    </a:lnTo>
                    <a:lnTo>
                      <a:pt x="355" y="459"/>
                    </a:lnTo>
                    <a:lnTo>
                      <a:pt x="361" y="458"/>
                    </a:lnTo>
                    <a:lnTo>
                      <a:pt x="370" y="479"/>
                    </a:lnTo>
                    <a:lnTo>
                      <a:pt x="337" y="496"/>
                    </a:lnTo>
                    <a:lnTo>
                      <a:pt x="326" y="550"/>
                    </a:lnTo>
                    <a:lnTo>
                      <a:pt x="335" y="537"/>
                    </a:lnTo>
                    <a:lnTo>
                      <a:pt x="350" y="561"/>
                    </a:lnTo>
                    <a:lnTo>
                      <a:pt x="330" y="601"/>
                    </a:lnTo>
                    <a:lnTo>
                      <a:pt x="363" y="629"/>
                    </a:lnTo>
                    <a:lnTo>
                      <a:pt x="354" y="644"/>
                    </a:lnTo>
                    <a:lnTo>
                      <a:pt x="344" y="649"/>
                    </a:lnTo>
                    <a:lnTo>
                      <a:pt x="353" y="663"/>
                    </a:lnTo>
                    <a:lnTo>
                      <a:pt x="311" y="694"/>
                    </a:lnTo>
                    <a:lnTo>
                      <a:pt x="307" y="712"/>
                    </a:lnTo>
                    <a:lnTo>
                      <a:pt x="272" y="736"/>
                    </a:lnTo>
                    <a:lnTo>
                      <a:pt x="274" y="715"/>
                    </a:lnTo>
                    <a:lnTo>
                      <a:pt x="285" y="697"/>
                    </a:lnTo>
                    <a:lnTo>
                      <a:pt x="277" y="680"/>
                    </a:lnTo>
                    <a:lnTo>
                      <a:pt x="258" y="696"/>
                    </a:lnTo>
                    <a:lnTo>
                      <a:pt x="236" y="666"/>
                    </a:lnTo>
                    <a:lnTo>
                      <a:pt x="220" y="679"/>
                    </a:lnTo>
                    <a:lnTo>
                      <a:pt x="190" y="671"/>
                    </a:lnTo>
                    <a:lnTo>
                      <a:pt x="185" y="654"/>
                    </a:lnTo>
                    <a:lnTo>
                      <a:pt x="176" y="659"/>
                    </a:lnTo>
                    <a:lnTo>
                      <a:pt x="172" y="636"/>
                    </a:lnTo>
                    <a:lnTo>
                      <a:pt x="158" y="599"/>
                    </a:lnTo>
                    <a:lnTo>
                      <a:pt x="137" y="560"/>
                    </a:lnTo>
                    <a:lnTo>
                      <a:pt x="125" y="530"/>
                    </a:lnTo>
                    <a:lnTo>
                      <a:pt x="153" y="535"/>
                    </a:lnTo>
                    <a:lnTo>
                      <a:pt x="163" y="498"/>
                    </a:lnTo>
                    <a:lnTo>
                      <a:pt x="132" y="501"/>
                    </a:lnTo>
                    <a:lnTo>
                      <a:pt x="113" y="443"/>
                    </a:lnTo>
                    <a:lnTo>
                      <a:pt x="79" y="401"/>
                    </a:lnTo>
                    <a:lnTo>
                      <a:pt x="49" y="379"/>
                    </a:lnTo>
                    <a:lnTo>
                      <a:pt x="31" y="345"/>
                    </a:lnTo>
                    <a:lnTo>
                      <a:pt x="13" y="313"/>
                    </a:lnTo>
                    <a:lnTo>
                      <a:pt x="27" y="287"/>
                    </a:lnTo>
                    <a:lnTo>
                      <a:pt x="17" y="257"/>
                    </a:lnTo>
                    <a:lnTo>
                      <a:pt x="21" y="189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17"/>
              <p:cNvSpPr/>
              <p:nvPr/>
            </p:nvSpPr>
            <p:spPr>
              <a:xfrm>
                <a:off x="1455480" y="5110200"/>
                <a:ext cx="492120" cy="457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660" h="607">
                    <a:moveTo>
                      <a:pt x="0" y="145"/>
                    </a:moveTo>
                    <a:lnTo>
                      <a:pt x="6" y="69"/>
                    </a:lnTo>
                    <a:lnTo>
                      <a:pt x="72" y="15"/>
                    </a:lnTo>
                    <a:lnTo>
                      <a:pt x="112" y="0"/>
                    </a:lnTo>
                    <a:lnTo>
                      <a:pt x="136" y="34"/>
                    </a:lnTo>
                    <a:lnTo>
                      <a:pt x="169" y="50"/>
                    </a:lnTo>
                    <a:lnTo>
                      <a:pt x="197" y="82"/>
                    </a:lnTo>
                    <a:lnTo>
                      <a:pt x="224" y="64"/>
                    </a:lnTo>
                    <a:lnTo>
                      <a:pt x="241" y="105"/>
                    </a:lnTo>
                    <a:lnTo>
                      <a:pt x="268" y="120"/>
                    </a:lnTo>
                    <a:lnTo>
                      <a:pt x="331" y="140"/>
                    </a:lnTo>
                    <a:lnTo>
                      <a:pt x="409" y="163"/>
                    </a:lnTo>
                    <a:lnTo>
                      <a:pt x="433" y="196"/>
                    </a:lnTo>
                    <a:lnTo>
                      <a:pt x="486" y="204"/>
                    </a:lnTo>
                    <a:lnTo>
                      <a:pt x="517" y="207"/>
                    </a:lnTo>
                    <a:lnTo>
                      <a:pt x="538" y="232"/>
                    </a:lnTo>
                    <a:lnTo>
                      <a:pt x="547" y="264"/>
                    </a:lnTo>
                    <a:lnTo>
                      <a:pt x="550" y="296"/>
                    </a:lnTo>
                    <a:lnTo>
                      <a:pt x="581" y="294"/>
                    </a:lnTo>
                    <a:lnTo>
                      <a:pt x="598" y="337"/>
                    </a:lnTo>
                    <a:lnTo>
                      <a:pt x="608" y="374"/>
                    </a:lnTo>
                    <a:lnTo>
                      <a:pt x="629" y="394"/>
                    </a:lnTo>
                    <a:lnTo>
                      <a:pt x="640" y="427"/>
                    </a:lnTo>
                    <a:lnTo>
                      <a:pt x="660" y="473"/>
                    </a:lnTo>
                    <a:lnTo>
                      <a:pt x="612" y="504"/>
                    </a:lnTo>
                    <a:lnTo>
                      <a:pt x="579" y="500"/>
                    </a:lnTo>
                    <a:lnTo>
                      <a:pt x="535" y="503"/>
                    </a:lnTo>
                    <a:lnTo>
                      <a:pt x="498" y="503"/>
                    </a:lnTo>
                    <a:lnTo>
                      <a:pt x="433" y="531"/>
                    </a:lnTo>
                    <a:lnTo>
                      <a:pt x="392" y="590"/>
                    </a:lnTo>
                    <a:lnTo>
                      <a:pt x="338" y="607"/>
                    </a:lnTo>
                    <a:lnTo>
                      <a:pt x="321" y="506"/>
                    </a:lnTo>
                    <a:lnTo>
                      <a:pt x="295" y="488"/>
                    </a:lnTo>
                    <a:lnTo>
                      <a:pt x="264" y="479"/>
                    </a:lnTo>
                    <a:lnTo>
                      <a:pt x="248" y="451"/>
                    </a:lnTo>
                    <a:lnTo>
                      <a:pt x="249" y="412"/>
                    </a:lnTo>
                    <a:lnTo>
                      <a:pt x="210" y="405"/>
                    </a:lnTo>
                    <a:lnTo>
                      <a:pt x="185" y="369"/>
                    </a:lnTo>
                    <a:lnTo>
                      <a:pt x="144" y="352"/>
                    </a:lnTo>
                    <a:lnTo>
                      <a:pt x="152" y="271"/>
                    </a:lnTo>
                    <a:lnTo>
                      <a:pt x="120" y="248"/>
                    </a:lnTo>
                    <a:lnTo>
                      <a:pt x="97" y="222"/>
                    </a:lnTo>
                    <a:lnTo>
                      <a:pt x="64" y="213"/>
                    </a:lnTo>
                    <a:lnTo>
                      <a:pt x="23" y="199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18"/>
              <p:cNvSpPr/>
              <p:nvPr/>
            </p:nvSpPr>
            <p:spPr>
              <a:xfrm>
                <a:off x="1858680" y="5162760"/>
                <a:ext cx="318960" cy="29988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419" h="402">
                    <a:moveTo>
                      <a:pt x="0" y="161"/>
                    </a:moveTo>
                    <a:lnTo>
                      <a:pt x="26" y="145"/>
                    </a:lnTo>
                    <a:lnTo>
                      <a:pt x="11" y="110"/>
                    </a:lnTo>
                    <a:lnTo>
                      <a:pt x="6" y="72"/>
                    </a:lnTo>
                    <a:lnTo>
                      <a:pt x="21" y="44"/>
                    </a:lnTo>
                    <a:lnTo>
                      <a:pt x="49" y="61"/>
                    </a:lnTo>
                    <a:lnTo>
                      <a:pt x="70" y="36"/>
                    </a:lnTo>
                    <a:lnTo>
                      <a:pt x="116" y="53"/>
                    </a:lnTo>
                    <a:lnTo>
                      <a:pt x="155" y="49"/>
                    </a:lnTo>
                    <a:lnTo>
                      <a:pt x="178" y="70"/>
                    </a:lnTo>
                    <a:lnTo>
                      <a:pt x="206" y="85"/>
                    </a:lnTo>
                    <a:lnTo>
                      <a:pt x="233" y="68"/>
                    </a:lnTo>
                    <a:lnTo>
                      <a:pt x="263" y="0"/>
                    </a:lnTo>
                    <a:lnTo>
                      <a:pt x="279" y="43"/>
                    </a:lnTo>
                    <a:lnTo>
                      <a:pt x="306" y="36"/>
                    </a:lnTo>
                    <a:lnTo>
                      <a:pt x="364" y="38"/>
                    </a:lnTo>
                    <a:lnTo>
                      <a:pt x="393" y="74"/>
                    </a:lnTo>
                    <a:lnTo>
                      <a:pt x="419" y="99"/>
                    </a:lnTo>
                    <a:lnTo>
                      <a:pt x="402" y="136"/>
                    </a:lnTo>
                    <a:lnTo>
                      <a:pt x="374" y="189"/>
                    </a:lnTo>
                    <a:lnTo>
                      <a:pt x="343" y="217"/>
                    </a:lnTo>
                    <a:lnTo>
                      <a:pt x="330" y="239"/>
                    </a:lnTo>
                    <a:lnTo>
                      <a:pt x="313" y="264"/>
                    </a:lnTo>
                    <a:lnTo>
                      <a:pt x="284" y="281"/>
                    </a:lnTo>
                    <a:lnTo>
                      <a:pt x="249" y="308"/>
                    </a:lnTo>
                    <a:lnTo>
                      <a:pt x="212" y="340"/>
                    </a:lnTo>
                    <a:lnTo>
                      <a:pt x="188" y="372"/>
                    </a:lnTo>
                    <a:lnTo>
                      <a:pt x="155" y="382"/>
                    </a:lnTo>
                    <a:lnTo>
                      <a:pt x="132" y="394"/>
                    </a:lnTo>
                    <a:lnTo>
                      <a:pt x="122" y="402"/>
                    </a:lnTo>
                    <a:lnTo>
                      <a:pt x="102" y="356"/>
                    </a:lnTo>
                    <a:lnTo>
                      <a:pt x="91" y="323"/>
                    </a:lnTo>
                    <a:lnTo>
                      <a:pt x="70" y="303"/>
                    </a:lnTo>
                    <a:lnTo>
                      <a:pt x="60" y="266"/>
                    </a:lnTo>
                    <a:lnTo>
                      <a:pt x="43" y="223"/>
                    </a:lnTo>
                    <a:lnTo>
                      <a:pt x="12" y="225"/>
                    </a:lnTo>
                    <a:lnTo>
                      <a:pt x="9" y="193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19"/>
              <p:cNvSpPr/>
              <p:nvPr/>
            </p:nvSpPr>
            <p:spPr>
              <a:xfrm>
                <a:off x="1957320" y="5235840"/>
                <a:ext cx="649080" cy="657000"/>
              </a:xfrm>
              <a:custGeom>
                <a:avLst/>
                <a:gdLst>
                  <a:gd name="textAreaLeft" fmla="*/ 0 w 649080"/>
                  <a:gd name="textAreaRight" fmla="*/ 649080 w 649080"/>
                  <a:gd name="textAreaTop" fmla="*/ 0 h 657000"/>
                  <a:gd name="textAreaBottom" fmla="*/ 657360 h 657000"/>
                </a:gdLst>
                <a:ahLst/>
                <a:rect l="textAreaLeft" t="textAreaTop" r="textAreaRight" b="textAreaBottom"/>
                <a:pathLst>
                  <a:path w="864" h="874">
                    <a:moveTo>
                      <a:pt x="0" y="295"/>
                    </a:moveTo>
                    <a:lnTo>
                      <a:pt x="23" y="283"/>
                    </a:lnTo>
                    <a:lnTo>
                      <a:pt x="56" y="273"/>
                    </a:lnTo>
                    <a:lnTo>
                      <a:pt x="80" y="241"/>
                    </a:lnTo>
                    <a:lnTo>
                      <a:pt x="117" y="209"/>
                    </a:lnTo>
                    <a:lnTo>
                      <a:pt x="152" y="182"/>
                    </a:lnTo>
                    <a:lnTo>
                      <a:pt x="181" y="165"/>
                    </a:lnTo>
                    <a:lnTo>
                      <a:pt x="198" y="140"/>
                    </a:lnTo>
                    <a:lnTo>
                      <a:pt x="211" y="118"/>
                    </a:lnTo>
                    <a:lnTo>
                      <a:pt x="242" y="90"/>
                    </a:lnTo>
                    <a:lnTo>
                      <a:pt x="270" y="37"/>
                    </a:lnTo>
                    <a:lnTo>
                      <a:pt x="287" y="0"/>
                    </a:lnTo>
                    <a:lnTo>
                      <a:pt x="333" y="61"/>
                    </a:lnTo>
                    <a:lnTo>
                      <a:pt x="313" y="91"/>
                    </a:lnTo>
                    <a:lnTo>
                      <a:pt x="334" y="112"/>
                    </a:lnTo>
                    <a:lnTo>
                      <a:pt x="367" y="89"/>
                    </a:lnTo>
                    <a:lnTo>
                      <a:pt x="376" y="173"/>
                    </a:lnTo>
                    <a:lnTo>
                      <a:pt x="376" y="218"/>
                    </a:lnTo>
                    <a:lnTo>
                      <a:pt x="400" y="233"/>
                    </a:lnTo>
                    <a:lnTo>
                      <a:pt x="415" y="259"/>
                    </a:lnTo>
                    <a:lnTo>
                      <a:pt x="419" y="290"/>
                    </a:lnTo>
                    <a:lnTo>
                      <a:pt x="444" y="332"/>
                    </a:lnTo>
                    <a:lnTo>
                      <a:pt x="417" y="351"/>
                    </a:lnTo>
                    <a:lnTo>
                      <a:pt x="432" y="376"/>
                    </a:lnTo>
                    <a:lnTo>
                      <a:pt x="414" y="409"/>
                    </a:lnTo>
                    <a:lnTo>
                      <a:pt x="438" y="425"/>
                    </a:lnTo>
                    <a:lnTo>
                      <a:pt x="476" y="392"/>
                    </a:lnTo>
                    <a:lnTo>
                      <a:pt x="499" y="428"/>
                    </a:lnTo>
                    <a:lnTo>
                      <a:pt x="474" y="473"/>
                    </a:lnTo>
                    <a:lnTo>
                      <a:pt x="495" y="493"/>
                    </a:lnTo>
                    <a:lnTo>
                      <a:pt x="479" y="518"/>
                    </a:lnTo>
                    <a:lnTo>
                      <a:pt x="471" y="566"/>
                    </a:lnTo>
                    <a:lnTo>
                      <a:pt x="497" y="539"/>
                    </a:lnTo>
                    <a:lnTo>
                      <a:pt x="500" y="577"/>
                    </a:lnTo>
                    <a:lnTo>
                      <a:pt x="533" y="570"/>
                    </a:lnTo>
                    <a:lnTo>
                      <a:pt x="567" y="570"/>
                    </a:lnTo>
                    <a:lnTo>
                      <a:pt x="585" y="601"/>
                    </a:lnTo>
                    <a:lnTo>
                      <a:pt x="641" y="604"/>
                    </a:lnTo>
                    <a:lnTo>
                      <a:pt x="649" y="560"/>
                    </a:lnTo>
                    <a:lnTo>
                      <a:pt x="678" y="554"/>
                    </a:lnTo>
                    <a:lnTo>
                      <a:pt x="745" y="572"/>
                    </a:lnTo>
                    <a:lnTo>
                      <a:pt x="763" y="614"/>
                    </a:lnTo>
                    <a:lnTo>
                      <a:pt x="733" y="641"/>
                    </a:lnTo>
                    <a:lnTo>
                      <a:pt x="782" y="654"/>
                    </a:lnTo>
                    <a:lnTo>
                      <a:pt x="792" y="697"/>
                    </a:lnTo>
                    <a:lnTo>
                      <a:pt x="843" y="774"/>
                    </a:lnTo>
                    <a:lnTo>
                      <a:pt x="864" y="810"/>
                    </a:lnTo>
                    <a:lnTo>
                      <a:pt x="845" y="837"/>
                    </a:lnTo>
                    <a:lnTo>
                      <a:pt x="818" y="874"/>
                    </a:lnTo>
                    <a:lnTo>
                      <a:pt x="754" y="864"/>
                    </a:lnTo>
                    <a:lnTo>
                      <a:pt x="726" y="852"/>
                    </a:lnTo>
                    <a:lnTo>
                      <a:pt x="705" y="805"/>
                    </a:lnTo>
                    <a:lnTo>
                      <a:pt x="666" y="843"/>
                    </a:lnTo>
                    <a:lnTo>
                      <a:pt x="637" y="830"/>
                    </a:lnTo>
                    <a:lnTo>
                      <a:pt x="620" y="799"/>
                    </a:lnTo>
                    <a:lnTo>
                      <a:pt x="591" y="780"/>
                    </a:lnTo>
                    <a:lnTo>
                      <a:pt x="583" y="735"/>
                    </a:lnTo>
                    <a:lnTo>
                      <a:pt x="583" y="703"/>
                    </a:lnTo>
                    <a:lnTo>
                      <a:pt x="539" y="685"/>
                    </a:lnTo>
                    <a:lnTo>
                      <a:pt x="517" y="706"/>
                    </a:lnTo>
                    <a:lnTo>
                      <a:pt x="480" y="693"/>
                    </a:lnTo>
                    <a:lnTo>
                      <a:pt x="467" y="660"/>
                    </a:lnTo>
                    <a:lnTo>
                      <a:pt x="426" y="654"/>
                    </a:lnTo>
                    <a:lnTo>
                      <a:pt x="383" y="647"/>
                    </a:lnTo>
                    <a:lnTo>
                      <a:pt x="366" y="670"/>
                    </a:lnTo>
                    <a:lnTo>
                      <a:pt x="330" y="680"/>
                    </a:lnTo>
                    <a:lnTo>
                      <a:pt x="308" y="659"/>
                    </a:lnTo>
                    <a:lnTo>
                      <a:pt x="287" y="625"/>
                    </a:lnTo>
                    <a:lnTo>
                      <a:pt x="281" y="595"/>
                    </a:lnTo>
                    <a:lnTo>
                      <a:pt x="263" y="562"/>
                    </a:lnTo>
                    <a:lnTo>
                      <a:pt x="249" y="600"/>
                    </a:lnTo>
                    <a:lnTo>
                      <a:pt x="229" y="630"/>
                    </a:lnTo>
                    <a:lnTo>
                      <a:pt x="231" y="584"/>
                    </a:lnTo>
                    <a:lnTo>
                      <a:pt x="226" y="555"/>
                    </a:lnTo>
                    <a:lnTo>
                      <a:pt x="212" y="518"/>
                    </a:lnTo>
                    <a:lnTo>
                      <a:pt x="193" y="496"/>
                    </a:lnTo>
                    <a:lnTo>
                      <a:pt x="179" y="451"/>
                    </a:lnTo>
                    <a:lnTo>
                      <a:pt x="126" y="422"/>
                    </a:lnTo>
                    <a:lnTo>
                      <a:pt x="122" y="382"/>
                    </a:lnTo>
                    <a:lnTo>
                      <a:pt x="70" y="370"/>
                    </a:lnTo>
                    <a:lnTo>
                      <a:pt x="40" y="363"/>
                    </a:lnTo>
                    <a:lnTo>
                      <a:pt x="24" y="328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20"/>
              <p:cNvSpPr/>
              <p:nvPr/>
            </p:nvSpPr>
            <p:spPr>
              <a:xfrm>
                <a:off x="1761840" y="5015160"/>
                <a:ext cx="293400" cy="27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92" h="360">
                    <a:moveTo>
                      <a:pt x="0" y="291"/>
                    </a:moveTo>
                    <a:lnTo>
                      <a:pt x="22" y="268"/>
                    </a:lnTo>
                    <a:lnTo>
                      <a:pt x="55" y="205"/>
                    </a:lnTo>
                    <a:lnTo>
                      <a:pt x="48" y="171"/>
                    </a:lnTo>
                    <a:lnTo>
                      <a:pt x="48" y="139"/>
                    </a:lnTo>
                    <a:lnTo>
                      <a:pt x="49" y="100"/>
                    </a:lnTo>
                    <a:lnTo>
                      <a:pt x="37" y="69"/>
                    </a:lnTo>
                    <a:lnTo>
                      <a:pt x="83" y="54"/>
                    </a:lnTo>
                    <a:lnTo>
                      <a:pt x="111" y="67"/>
                    </a:lnTo>
                    <a:lnTo>
                      <a:pt x="131" y="32"/>
                    </a:lnTo>
                    <a:lnTo>
                      <a:pt x="140" y="0"/>
                    </a:lnTo>
                    <a:lnTo>
                      <a:pt x="161" y="31"/>
                    </a:lnTo>
                    <a:lnTo>
                      <a:pt x="198" y="41"/>
                    </a:lnTo>
                    <a:lnTo>
                      <a:pt x="229" y="79"/>
                    </a:lnTo>
                    <a:lnTo>
                      <a:pt x="274" y="90"/>
                    </a:lnTo>
                    <a:lnTo>
                      <a:pt x="298" y="107"/>
                    </a:lnTo>
                    <a:lnTo>
                      <a:pt x="352" y="111"/>
                    </a:lnTo>
                    <a:lnTo>
                      <a:pt x="349" y="159"/>
                    </a:lnTo>
                    <a:lnTo>
                      <a:pt x="373" y="189"/>
                    </a:lnTo>
                    <a:lnTo>
                      <a:pt x="392" y="199"/>
                    </a:lnTo>
                    <a:lnTo>
                      <a:pt x="362" y="267"/>
                    </a:lnTo>
                    <a:lnTo>
                      <a:pt x="335" y="284"/>
                    </a:lnTo>
                    <a:lnTo>
                      <a:pt x="307" y="269"/>
                    </a:lnTo>
                    <a:lnTo>
                      <a:pt x="284" y="248"/>
                    </a:lnTo>
                    <a:lnTo>
                      <a:pt x="245" y="252"/>
                    </a:lnTo>
                    <a:lnTo>
                      <a:pt x="199" y="235"/>
                    </a:lnTo>
                    <a:lnTo>
                      <a:pt x="178" y="260"/>
                    </a:lnTo>
                    <a:lnTo>
                      <a:pt x="150" y="243"/>
                    </a:lnTo>
                    <a:lnTo>
                      <a:pt x="135" y="271"/>
                    </a:lnTo>
                    <a:lnTo>
                      <a:pt x="140" y="309"/>
                    </a:lnTo>
                    <a:lnTo>
                      <a:pt x="155" y="344"/>
                    </a:lnTo>
                    <a:lnTo>
                      <a:pt x="129" y="360"/>
                    </a:lnTo>
                    <a:lnTo>
                      <a:pt x="108" y="335"/>
                    </a:lnTo>
                    <a:lnTo>
                      <a:pt x="77" y="332"/>
                    </a:lnTo>
                    <a:lnTo>
                      <a:pt x="24" y="324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21"/>
              <p:cNvSpPr/>
              <p:nvPr/>
            </p:nvSpPr>
            <p:spPr>
              <a:xfrm>
                <a:off x="1207800" y="5181840"/>
                <a:ext cx="463320" cy="43488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626" h="577">
                    <a:moveTo>
                      <a:pt x="0" y="397"/>
                    </a:moveTo>
                    <a:lnTo>
                      <a:pt x="41" y="358"/>
                    </a:lnTo>
                    <a:lnTo>
                      <a:pt x="99" y="365"/>
                    </a:lnTo>
                    <a:lnTo>
                      <a:pt x="112" y="299"/>
                    </a:lnTo>
                    <a:lnTo>
                      <a:pt x="100" y="267"/>
                    </a:lnTo>
                    <a:lnTo>
                      <a:pt x="112" y="233"/>
                    </a:lnTo>
                    <a:lnTo>
                      <a:pt x="149" y="201"/>
                    </a:lnTo>
                    <a:lnTo>
                      <a:pt x="142" y="157"/>
                    </a:lnTo>
                    <a:lnTo>
                      <a:pt x="131" y="112"/>
                    </a:lnTo>
                    <a:lnTo>
                      <a:pt x="136" y="92"/>
                    </a:lnTo>
                    <a:lnTo>
                      <a:pt x="160" y="74"/>
                    </a:lnTo>
                    <a:lnTo>
                      <a:pt x="178" y="55"/>
                    </a:lnTo>
                    <a:lnTo>
                      <a:pt x="171" y="11"/>
                    </a:lnTo>
                    <a:lnTo>
                      <a:pt x="216" y="13"/>
                    </a:lnTo>
                    <a:lnTo>
                      <a:pt x="261" y="0"/>
                    </a:lnTo>
                    <a:lnTo>
                      <a:pt x="282" y="34"/>
                    </a:lnTo>
                    <a:lnTo>
                      <a:pt x="331" y="49"/>
                    </a:lnTo>
                    <a:lnTo>
                      <a:pt x="354" y="103"/>
                    </a:lnTo>
                    <a:lnTo>
                      <a:pt x="395" y="117"/>
                    </a:lnTo>
                    <a:lnTo>
                      <a:pt x="428" y="126"/>
                    </a:lnTo>
                    <a:lnTo>
                      <a:pt x="451" y="152"/>
                    </a:lnTo>
                    <a:lnTo>
                      <a:pt x="483" y="175"/>
                    </a:lnTo>
                    <a:lnTo>
                      <a:pt x="475" y="256"/>
                    </a:lnTo>
                    <a:lnTo>
                      <a:pt x="516" y="273"/>
                    </a:lnTo>
                    <a:lnTo>
                      <a:pt x="541" y="309"/>
                    </a:lnTo>
                    <a:lnTo>
                      <a:pt x="580" y="316"/>
                    </a:lnTo>
                    <a:lnTo>
                      <a:pt x="579" y="355"/>
                    </a:lnTo>
                    <a:lnTo>
                      <a:pt x="595" y="383"/>
                    </a:lnTo>
                    <a:lnTo>
                      <a:pt x="626" y="392"/>
                    </a:lnTo>
                    <a:lnTo>
                      <a:pt x="598" y="424"/>
                    </a:lnTo>
                    <a:lnTo>
                      <a:pt x="569" y="435"/>
                    </a:lnTo>
                    <a:lnTo>
                      <a:pt x="528" y="450"/>
                    </a:lnTo>
                    <a:lnTo>
                      <a:pt x="507" y="495"/>
                    </a:lnTo>
                    <a:lnTo>
                      <a:pt x="503" y="534"/>
                    </a:lnTo>
                    <a:lnTo>
                      <a:pt x="468" y="544"/>
                    </a:lnTo>
                    <a:lnTo>
                      <a:pt x="425" y="577"/>
                    </a:lnTo>
                    <a:lnTo>
                      <a:pt x="405" y="545"/>
                    </a:lnTo>
                    <a:lnTo>
                      <a:pt x="386" y="507"/>
                    </a:lnTo>
                    <a:lnTo>
                      <a:pt x="324" y="527"/>
                    </a:lnTo>
                    <a:lnTo>
                      <a:pt x="286" y="510"/>
                    </a:lnTo>
                    <a:lnTo>
                      <a:pt x="258" y="534"/>
                    </a:lnTo>
                    <a:lnTo>
                      <a:pt x="232" y="552"/>
                    </a:lnTo>
                    <a:lnTo>
                      <a:pt x="204" y="534"/>
                    </a:lnTo>
                    <a:lnTo>
                      <a:pt x="203" y="504"/>
                    </a:lnTo>
                    <a:lnTo>
                      <a:pt x="195" y="537"/>
                    </a:lnTo>
                    <a:lnTo>
                      <a:pt x="158" y="526"/>
                    </a:lnTo>
                    <a:lnTo>
                      <a:pt x="95" y="543"/>
                    </a:lnTo>
                    <a:lnTo>
                      <a:pt x="78" y="572"/>
                    </a:lnTo>
                    <a:lnTo>
                      <a:pt x="43" y="529"/>
                    </a:lnTo>
                    <a:lnTo>
                      <a:pt x="44" y="455"/>
                    </a:lnTo>
                    <a:lnTo>
                      <a:pt x="37" y="42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22"/>
              <p:cNvSpPr/>
              <p:nvPr/>
            </p:nvSpPr>
            <p:spPr>
              <a:xfrm>
                <a:off x="2462040" y="5241960"/>
                <a:ext cx="372960" cy="48708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487080"/>
                  <a:gd name="textAreaBottom" fmla="*/ 487080 h 487080"/>
                </a:gdLst>
                <a:ahLst/>
                <a:rect l="textAreaLeft" t="textAreaTop" r="textAreaRight" b="textAreaBottom"/>
                <a:pathLst>
                  <a:path w="501" h="647">
                    <a:moveTo>
                      <a:pt x="257" y="15"/>
                    </a:moveTo>
                    <a:lnTo>
                      <a:pt x="282" y="0"/>
                    </a:lnTo>
                    <a:lnTo>
                      <a:pt x="306" y="31"/>
                    </a:lnTo>
                    <a:lnTo>
                      <a:pt x="341" y="52"/>
                    </a:lnTo>
                    <a:lnTo>
                      <a:pt x="388" y="68"/>
                    </a:lnTo>
                    <a:lnTo>
                      <a:pt x="426" y="61"/>
                    </a:lnTo>
                    <a:lnTo>
                      <a:pt x="465" y="85"/>
                    </a:lnTo>
                    <a:lnTo>
                      <a:pt x="485" y="122"/>
                    </a:lnTo>
                    <a:lnTo>
                      <a:pt x="485" y="158"/>
                    </a:lnTo>
                    <a:lnTo>
                      <a:pt x="501" y="187"/>
                    </a:lnTo>
                    <a:lnTo>
                      <a:pt x="493" y="228"/>
                    </a:lnTo>
                    <a:lnTo>
                      <a:pt x="464" y="237"/>
                    </a:lnTo>
                    <a:lnTo>
                      <a:pt x="436" y="250"/>
                    </a:lnTo>
                    <a:lnTo>
                      <a:pt x="436" y="285"/>
                    </a:lnTo>
                    <a:lnTo>
                      <a:pt x="407" y="305"/>
                    </a:lnTo>
                    <a:lnTo>
                      <a:pt x="407" y="338"/>
                    </a:lnTo>
                    <a:lnTo>
                      <a:pt x="441" y="342"/>
                    </a:lnTo>
                    <a:lnTo>
                      <a:pt x="490" y="361"/>
                    </a:lnTo>
                    <a:lnTo>
                      <a:pt x="479" y="398"/>
                    </a:lnTo>
                    <a:lnTo>
                      <a:pt x="478" y="428"/>
                    </a:lnTo>
                    <a:lnTo>
                      <a:pt x="483" y="442"/>
                    </a:lnTo>
                    <a:lnTo>
                      <a:pt x="425" y="434"/>
                    </a:lnTo>
                    <a:lnTo>
                      <a:pt x="388" y="425"/>
                    </a:lnTo>
                    <a:lnTo>
                      <a:pt x="358" y="428"/>
                    </a:lnTo>
                    <a:lnTo>
                      <a:pt x="329" y="415"/>
                    </a:lnTo>
                    <a:lnTo>
                      <a:pt x="297" y="402"/>
                    </a:lnTo>
                    <a:lnTo>
                      <a:pt x="295" y="434"/>
                    </a:lnTo>
                    <a:lnTo>
                      <a:pt x="265" y="441"/>
                    </a:lnTo>
                    <a:lnTo>
                      <a:pt x="308" y="475"/>
                    </a:lnTo>
                    <a:lnTo>
                      <a:pt x="274" y="484"/>
                    </a:lnTo>
                    <a:lnTo>
                      <a:pt x="283" y="512"/>
                    </a:lnTo>
                    <a:lnTo>
                      <a:pt x="308" y="539"/>
                    </a:lnTo>
                    <a:lnTo>
                      <a:pt x="328" y="561"/>
                    </a:lnTo>
                    <a:lnTo>
                      <a:pt x="283" y="559"/>
                    </a:lnTo>
                    <a:lnTo>
                      <a:pt x="245" y="537"/>
                    </a:lnTo>
                    <a:lnTo>
                      <a:pt x="190" y="570"/>
                    </a:lnTo>
                    <a:lnTo>
                      <a:pt x="208" y="612"/>
                    </a:lnTo>
                    <a:lnTo>
                      <a:pt x="167" y="645"/>
                    </a:lnTo>
                    <a:lnTo>
                      <a:pt x="110" y="647"/>
                    </a:lnTo>
                    <a:lnTo>
                      <a:pt x="61" y="634"/>
                    </a:lnTo>
                    <a:lnTo>
                      <a:pt x="91" y="607"/>
                    </a:lnTo>
                    <a:lnTo>
                      <a:pt x="73" y="565"/>
                    </a:lnTo>
                    <a:lnTo>
                      <a:pt x="6" y="547"/>
                    </a:lnTo>
                    <a:lnTo>
                      <a:pt x="0" y="499"/>
                    </a:lnTo>
                    <a:lnTo>
                      <a:pt x="12" y="468"/>
                    </a:lnTo>
                    <a:lnTo>
                      <a:pt x="39" y="448"/>
                    </a:lnTo>
                    <a:lnTo>
                      <a:pt x="40" y="419"/>
                    </a:lnTo>
                    <a:lnTo>
                      <a:pt x="53" y="377"/>
                    </a:lnTo>
                    <a:lnTo>
                      <a:pt x="98" y="326"/>
                    </a:lnTo>
                    <a:lnTo>
                      <a:pt x="138" y="304"/>
                    </a:lnTo>
                    <a:lnTo>
                      <a:pt x="167" y="333"/>
                    </a:lnTo>
                    <a:lnTo>
                      <a:pt x="167" y="294"/>
                    </a:lnTo>
                    <a:lnTo>
                      <a:pt x="217" y="224"/>
                    </a:lnTo>
                    <a:lnTo>
                      <a:pt x="186" y="226"/>
                    </a:lnTo>
                    <a:lnTo>
                      <a:pt x="162" y="241"/>
                    </a:lnTo>
                    <a:lnTo>
                      <a:pt x="93" y="245"/>
                    </a:lnTo>
                    <a:lnTo>
                      <a:pt x="69" y="225"/>
                    </a:lnTo>
                    <a:lnTo>
                      <a:pt x="41" y="237"/>
                    </a:lnTo>
                    <a:lnTo>
                      <a:pt x="40" y="195"/>
                    </a:lnTo>
                    <a:lnTo>
                      <a:pt x="29" y="119"/>
                    </a:lnTo>
                    <a:lnTo>
                      <a:pt x="33" y="85"/>
                    </a:lnTo>
                    <a:lnTo>
                      <a:pt x="58" y="73"/>
                    </a:lnTo>
                    <a:lnTo>
                      <a:pt x="85" y="121"/>
                    </a:lnTo>
                    <a:lnTo>
                      <a:pt x="79" y="165"/>
                    </a:lnTo>
                    <a:lnTo>
                      <a:pt x="84" y="134"/>
                    </a:lnTo>
                    <a:lnTo>
                      <a:pt x="104" y="157"/>
                    </a:lnTo>
                    <a:lnTo>
                      <a:pt x="121" y="192"/>
                    </a:lnTo>
                    <a:lnTo>
                      <a:pt x="143" y="163"/>
                    </a:lnTo>
                    <a:lnTo>
                      <a:pt x="140" y="131"/>
                    </a:lnTo>
                    <a:lnTo>
                      <a:pt x="170" y="149"/>
                    </a:lnTo>
                    <a:lnTo>
                      <a:pt x="222" y="123"/>
                    </a:lnTo>
                    <a:lnTo>
                      <a:pt x="258" y="112"/>
                    </a:lnTo>
                    <a:lnTo>
                      <a:pt x="256" y="80"/>
                    </a:lnTo>
                    <a:lnTo>
                      <a:pt x="257" y="51"/>
                    </a:lnTo>
                    <a:lnTo>
                      <a:pt x="257" y="15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623"/>
              <p:cNvSpPr/>
              <p:nvPr/>
            </p:nvSpPr>
            <p:spPr>
              <a:xfrm>
                <a:off x="998280" y="4768920"/>
                <a:ext cx="247320" cy="250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329" h="332">
                    <a:moveTo>
                      <a:pt x="52" y="43"/>
                    </a:moveTo>
                    <a:lnTo>
                      <a:pt x="87" y="35"/>
                    </a:lnTo>
                    <a:lnTo>
                      <a:pt x="115" y="29"/>
                    </a:lnTo>
                    <a:lnTo>
                      <a:pt x="138" y="0"/>
                    </a:lnTo>
                    <a:lnTo>
                      <a:pt x="174" y="61"/>
                    </a:lnTo>
                    <a:lnTo>
                      <a:pt x="218" y="77"/>
                    </a:lnTo>
                    <a:lnTo>
                      <a:pt x="232" y="105"/>
                    </a:lnTo>
                    <a:lnTo>
                      <a:pt x="256" y="159"/>
                    </a:lnTo>
                    <a:lnTo>
                      <a:pt x="268" y="201"/>
                    </a:lnTo>
                    <a:lnTo>
                      <a:pt x="302" y="213"/>
                    </a:lnTo>
                    <a:lnTo>
                      <a:pt x="300" y="231"/>
                    </a:lnTo>
                    <a:lnTo>
                      <a:pt x="329" y="252"/>
                    </a:lnTo>
                    <a:lnTo>
                      <a:pt x="327" y="285"/>
                    </a:lnTo>
                    <a:lnTo>
                      <a:pt x="296" y="283"/>
                    </a:lnTo>
                    <a:lnTo>
                      <a:pt x="274" y="332"/>
                    </a:lnTo>
                    <a:lnTo>
                      <a:pt x="262" y="300"/>
                    </a:lnTo>
                    <a:lnTo>
                      <a:pt x="231" y="284"/>
                    </a:lnTo>
                    <a:lnTo>
                      <a:pt x="200" y="261"/>
                    </a:lnTo>
                    <a:lnTo>
                      <a:pt x="166" y="263"/>
                    </a:lnTo>
                    <a:lnTo>
                      <a:pt x="123" y="252"/>
                    </a:lnTo>
                    <a:lnTo>
                      <a:pt x="100" y="219"/>
                    </a:lnTo>
                    <a:lnTo>
                      <a:pt x="72" y="228"/>
                    </a:lnTo>
                    <a:lnTo>
                      <a:pt x="41" y="204"/>
                    </a:lnTo>
                    <a:lnTo>
                      <a:pt x="49" y="171"/>
                    </a:lnTo>
                    <a:lnTo>
                      <a:pt x="19" y="143"/>
                    </a:lnTo>
                    <a:lnTo>
                      <a:pt x="10" y="115"/>
                    </a:lnTo>
                    <a:lnTo>
                      <a:pt x="0" y="87"/>
                    </a:lnTo>
                    <a:lnTo>
                      <a:pt x="22" y="68"/>
                    </a:lnTo>
                    <a:lnTo>
                      <a:pt x="52" y="43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624"/>
              <p:cNvSpPr/>
              <p:nvPr/>
            </p:nvSpPr>
            <p:spPr>
              <a:xfrm>
                <a:off x="1008000" y="4924440"/>
                <a:ext cx="212400" cy="263520"/>
              </a:xfrm>
              <a:custGeom>
                <a:avLst/>
                <a:gdLst>
                  <a:gd name="textAreaLeft" fmla="*/ 0 w 212400"/>
                  <a:gd name="textAreaRight" fmla="*/ 212400 w 2124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81" h="354">
                    <a:moveTo>
                      <a:pt x="27" y="0"/>
                    </a:moveTo>
                    <a:lnTo>
                      <a:pt x="58" y="24"/>
                    </a:lnTo>
                    <a:lnTo>
                      <a:pt x="86" y="15"/>
                    </a:lnTo>
                    <a:lnTo>
                      <a:pt x="109" y="48"/>
                    </a:lnTo>
                    <a:lnTo>
                      <a:pt x="152" y="59"/>
                    </a:lnTo>
                    <a:lnTo>
                      <a:pt x="186" y="57"/>
                    </a:lnTo>
                    <a:lnTo>
                      <a:pt x="217" y="80"/>
                    </a:lnTo>
                    <a:lnTo>
                      <a:pt x="248" y="96"/>
                    </a:lnTo>
                    <a:lnTo>
                      <a:pt x="260" y="128"/>
                    </a:lnTo>
                    <a:lnTo>
                      <a:pt x="268" y="159"/>
                    </a:lnTo>
                    <a:lnTo>
                      <a:pt x="281" y="197"/>
                    </a:lnTo>
                    <a:lnTo>
                      <a:pt x="244" y="229"/>
                    </a:lnTo>
                    <a:lnTo>
                      <a:pt x="262" y="257"/>
                    </a:lnTo>
                    <a:lnTo>
                      <a:pt x="241" y="280"/>
                    </a:lnTo>
                    <a:lnTo>
                      <a:pt x="231" y="311"/>
                    </a:lnTo>
                    <a:lnTo>
                      <a:pt x="202" y="354"/>
                    </a:lnTo>
                    <a:lnTo>
                      <a:pt x="184" y="311"/>
                    </a:lnTo>
                    <a:lnTo>
                      <a:pt x="162" y="271"/>
                    </a:lnTo>
                    <a:lnTo>
                      <a:pt x="133" y="260"/>
                    </a:lnTo>
                    <a:lnTo>
                      <a:pt x="127" y="231"/>
                    </a:lnTo>
                    <a:lnTo>
                      <a:pt x="130" y="194"/>
                    </a:lnTo>
                    <a:lnTo>
                      <a:pt x="106" y="178"/>
                    </a:lnTo>
                    <a:lnTo>
                      <a:pt x="65" y="162"/>
                    </a:lnTo>
                    <a:lnTo>
                      <a:pt x="42" y="127"/>
                    </a:lnTo>
                    <a:lnTo>
                      <a:pt x="21" y="91"/>
                    </a:lnTo>
                    <a:lnTo>
                      <a:pt x="0" y="65"/>
                    </a:lnTo>
                    <a:lnTo>
                      <a:pt x="16" y="3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26"/>
              <p:cNvSpPr/>
              <p:nvPr/>
            </p:nvSpPr>
            <p:spPr>
              <a:xfrm>
                <a:off x="1150920" y="4530960"/>
                <a:ext cx="249120" cy="1807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31" h="240">
                    <a:moveTo>
                      <a:pt x="2" y="45"/>
                    </a:moveTo>
                    <a:lnTo>
                      <a:pt x="36" y="27"/>
                    </a:lnTo>
                    <a:lnTo>
                      <a:pt x="57" y="0"/>
                    </a:lnTo>
                    <a:lnTo>
                      <a:pt x="91" y="33"/>
                    </a:lnTo>
                    <a:lnTo>
                      <a:pt x="120" y="27"/>
                    </a:lnTo>
                    <a:lnTo>
                      <a:pt x="150" y="44"/>
                    </a:lnTo>
                    <a:lnTo>
                      <a:pt x="191" y="28"/>
                    </a:lnTo>
                    <a:lnTo>
                      <a:pt x="230" y="16"/>
                    </a:lnTo>
                    <a:lnTo>
                      <a:pt x="262" y="28"/>
                    </a:lnTo>
                    <a:lnTo>
                      <a:pt x="308" y="66"/>
                    </a:lnTo>
                    <a:lnTo>
                      <a:pt x="322" y="94"/>
                    </a:lnTo>
                    <a:lnTo>
                      <a:pt x="331" y="125"/>
                    </a:lnTo>
                    <a:lnTo>
                      <a:pt x="320" y="169"/>
                    </a:lnTo>
                    <a:lnTo>
                      <a:pt x="290" y="192"/>
                    </a:lnTo>
                    <a:lnTo>
                      <a:pt x="257" y="184"/>
                    </a:lnTo>
                    <a:lnTo>
                      <a:pt x="249" y="218"/>
                    </a:lnTo>
                    <a:lnTo>
                      <a:pt x="229" y="195"/>
                    </a:lnTo>
                    <a:lnTo>
                      <a:pt x="172" y="205"/>
                    </a:lnTo>
                    <a:lnTo>
                      <a:pt x="135" y="234"/>
                    </a:lnTo>
                    <a:lnTo>
                      <a:pt x="119" y="236"/>
                    </a:lnTo>
                    <a:lnTo>
                      <a:pt x="66" y="240"/>
                    </a:lnTo>
                    <a:lnTo>
                      <a:pt x="31" y="236"/>
                    </a:lnTo>
                    <a:lnTo>
                      <a:pt x="12" y="191"/>
                    </a:lnTo>
                    <a:lnTo>
                      <a:pt x="20" y="154"/>
                    </a:lnTo>
                    <a:lnTo>
                      <a:pt x="25" y="114"/>
                    </a:lnTo>
                    <a:lnTo>
                      <a:pt x="0" y="86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25"/>
              <p:cNvSpPr/>
              <p:nvPr/>
            </p:nvSpPr>
            <p:spPr>
              <a:xfrm>
                <a:off x="930240" y="4552920"/>
                <a:ext cx="242640" cy="249120"/>
              </a:xfrm>
              <a:custGeom>
                <a:avLst/>
                <a:gdLst>
                  <a:gd name="textAreaLeft" fmla="*/ 0 w 242640"/>
                  <a:gd name="textAreaRight" fmla="*/ 242640 w 24264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326" h="333">
                    <a:moveTo>
                      <a:pt x="173" y="46"/>
                    </a:moveTo>
                    <a:lnTo>
                      <a:pt x="189" y="54"/>
                    </a:lnTo>
                    <a:lnTo>
                      <a:pt x="241" y="37"/>
                    </a:lnTo>
                    <a:lnTo>
                      <a:pt x="270" y="17"/>
                    </a:lnTo>
                    <a:lnTo>
                      <a:pt x="297" y="16"/>
                    </a:lnTo>
                    <a:lnTo>
                      <a:pt x="295" y="57"/>
                    </a:lnTo>
                    <a:lnTo>
                      <a:pt x="320" y="85"/>
                    </a:lnTo>
                    <a:lnTo>
                      <a:pt x="315" y="125"/>
                    </a:lnTo>
                    <a:lnTo>
                      <a:pt x="307" y="162"/>
                    </a:lnTo>
                    <a:lnTo>
                      <a:pt x="326" y="207"/>
                    </a:lnTo>
                    <a:lnTo>
                      <a:pt x="294" y="242"/>
                    </a:lnTo>
                    <a:lnTo>
                      <a:pt x="265" y="239"/>
                    </a:lnTo>
                    <a:lnTo>
                      <a:pt x="261" y="274"/>
                    </a:lnTo>
                    <a:lnTo>
                      <a:pt x="230" y="290"/>
                    </a:lnTo>
                    <a:lnTo>
                      <a:pt x="207" y="319"/>
                    </a:lnTo>
                    <a:lnTo>
                      <a:pt x="179" y="325"/>
                    </a:lnTo>
                    <a:lnTo>
                      <a:pt x="144" y="333"/>
                    </a:lnTo>
                    <a:lnTo>
                      <a:pt x="153" y="279"/>
                    </a:lnTo>
                    <a:lnTo>
                      <a:pt x="164" y="245"/>
                    </a:lnTo>
                    <a:lnTo>
                      <a:pt x="131" y="210"/>
                    </a:lnTo>
                    <a:lnTo>
                      <a:pt x="106" y="187"/>
                    </a:lnTo>
                    <a:lnTo>
                      <a:pt x="59" y="151"/>
                    </a:lnTo>
                    <a:lnTo>
                      <a:pt x="29" y="164"/>
                    </a:lnTo>
                    <a:lnTo>
                      <a:pt x="0" y="131"/>
                    </a:lnTo>
                    <a:lnTo>
                      <a:pt x="21" y="87"/>
                    </a:lnTo>
                    <a:lnTo>
                      <a:pt x="31" y="59"/>
                    </a:lnTo>
                    <a:lnTo>
                      <a:pt x="55" y="4"/>
                    </a:lnTo>
                    <a:lnTo>
                      <a:pt x="99" y="0"/>
                    </a:lnTo>
                    <a:lnTo>
                      <a:pt x="100" y="31"/>
                    </a:lnTo>
                    <a:lnTo>
                      <a:pt x="173" y="46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27"/>
              <p:cNvSpPr/>
              <p:nvPr/>
            </p:nvSpPr>
            <p:spPr>
              <a:xfrm>
                <a:off x="1223640" y="4837320"/>
                <a:ext cx="214200" cy="2174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286" h="291">
                    <a:moveTo>
                      <a:pt x="0" y="142"/>
                    </a:moveTo>
                    <a:lnTo>
                      <a:pt x="2" y="124"/>
                    </a:lnTo>
                    <a:lnTo>
                      <a:pt x="49" y="119"/>
                    </a:lnTo>
                    <a:lnTo>
                      <a:pt x="48" y="90"/>
                    </a:lnTo>
                    <a:lnTo>
                      <a:pt x="49" y="53"/>
                    </a:lnTo>
                    <a:lnTo>
                      <a:pt x="80" y="37"/>
                    </a:lnTo>
                    <a:lnTo>
                      <a:pt x="95" y="4"/>
                    </a:lnTo>
                    <a:lnTo>
                      <a:pt x="126" y="31"/>
                    </a:lnTo>
                    <a:lnTo>
                      <a:pt x="165" y="45"/>
                    </a:lnTo>
                    <a:lnTo>
                      <a:pt x="175" y="14"/>
                    </a:lnTo>
                    <a:lnTo>
                      <a:pt x="223" y="0"/>
                    </a:lnTo>
                    <a:lnTo>
                      <a:pt x="237" y="43"/>
                    </a:lnTo>
                    <a:lnTo>
                      <a:pt x="275" y="39"/>
                    </a:lnTo>
                    <a:lnTo>
                      <a:pt x="286" y="98"/>
                    </a:lnTo>
                    <a:lnTo>
                      <a:pt x="267" y="120"/>
                    </a:lnTo>
                    <a:lnTo>
                      <a:pt x="242" y="157"/>
                    </a:lnTo>
                    <a:lnTo>
                      <a:pt x="211" y="187"/>
                    </a:lnTo>
                    <a:lnTo>
                      <a:pt x="226" y="236"/>
                    </a:lnTo>
                    <a:lnTo>
                      <a:pt x="229" y="271"/>
                    </a:lnTo>
                    <a:lnTo>
                      <a:pt x="196" y="291"/>
                    </a:lnTo>
                    <a:lnTo>
                      <a:pt x="170" y="270"/>
                    </a:lnTo>
                    <a:lnTo>
                      <a:pt x="144" y="259"/>
                    </a:lnTo>
                    <a:lnTo>
                      <a:pt x="120" y="227"/>
                    </a:lnTo>
                    <a:lnTo>
                      <a:pt x="101" y="204"/>
                    </a:lnTo>
                    <a:lnTo>
                      <a:pt x="81" y="177"/>
                    </a:lnTo>
                    <a:lnTo>
                      <a:pt x="29" y="163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28"/>
              <p:cNvSpPr/>
              <p:nvPr/>
            </p:nvSpPr>
            <p:spPr>
              <a:xfrm>
                <a:off x="1101600" y="4707000"/>
                <a:ext cx="190440" cy="2253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257" h="296">
                    <a:moveTo>
                      <a:pt x="0" y="83"/>
                    </a:moveTo>
                    <a:lnTo>
                      <a:pt x="31" y="67"/>
                    </a:lnTo>
                    <a:lnTo>
                      <a:pt x="35" y="32"/>
                    </a:lnTo>
                    <a:lnTo>
                      <a:pt x="64" y="35"/>
                    </a:lnTo>
                    <a:lnTo>
                      <a:pt x="96" y="0"/>
                    </a:lnTo>
                    <a:lnTo>
                      <a:pt x="131" y="4"/>
                    </a:lnTo>
                    <a:lnTo>
                      <a:pt x="184" y="0"/>
                    </a:lnTo>
                    <a:lnTo>
                      <a:pt x="208" y="21"/>
                    </a:lnTo>
                    <a:lnTo>
                      <a:pt x="207" y="59"/>
                    </a:lnTo>
                    <a:lnTo>
                      <a:pt x="208" y="94"/>
                    </a:lnTo>
                    <a:lnTo>
                      <a:pt x="240" y="123"/>
                    </a:lnTo>
                    <a:lnTo>
                      <a:pt x="257" y="176"/>
                    </a:lnTo>
                    <a:lnTo>
                      <a:pt x="242" y="209"/>
                    </a:lnTo>
                    <a:lnTo>
                      <a:pt x="211" y="225"/>
                    </a:lnTo>
                    <a:lnTo>
                      <a:pt x="210" y="262"/>
                    </a:lnTo>
                    <a:lnTo>
                      <a:pt x="211" y="291"/>
                    </a:lnTo>
                    <a:lnTo>
                      <a:pt x="164" y="296"/>
                    </a:lnTo>
                    <a:lnTo>
                      <a:pt x="130" y="284"/>
                    </a:lnTo>
                    <a:lnTo>
                      <a:pt x="118" y="242"/>
                    </a:lnTo>
                    <a:lnTo>
                      <a:pt x="94" y="188"/>
                    </a:lnTo>
                    <a:lnTo>
                      <a:pt x="80" y="160"/>
                    </a:lnTo>
                    <a:lnTo>
                      <a:pt x="36" y="14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29"/>
              <p:cNvSpPr/>
              <p:nvPr/>
            </p:nvSpPr>
            <p:spPr>
              <a:xfrm>
                <a:off x="1241280" y="4656240"/>
                <a:ext cx="185400" cy="2188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47" h="284">
                    <a:moveTo>
                      <a:pt x="0" y="67"/>
                    </a:moveTo>
                    <a:lnTo>
                      <a:pt x="16" y="65"/>
                    </a:lnTo>
                    <a:lnTo>
                      <a:pt x="53" y="36"/>
                    </a:lnTo>
                    <a:lnTo>
                      <a:pt x="110" y="26"/>
                    </a:lnTo>
                    <a:lnTo>
                      <a:pt x="130" y="49"/>
                    </a:lnTo>
                    <a:lnTo>
                      <a:pt x="138" y="15"/>
                    </a:lnTo>
                    <a:lnTo>
                      <a:pt x="171" y="23"/>
                    </a:lnTo>
                    <a:lnTo>
                      <a:pt x="201" y="0"/>
                    </a:lnTo>
                    <a:lnTo>
                      <a:pt x="236" y="13"/>
                    </a:lnTo>
                    <a:lnTo>
                      <a:pt x="238" y="48"/>
                    </a:lnTo>
                    <a:lnTo>
                      <a:pt x="247" y="96"/>
                    </a:lnTo>
                    <a:lnTo>
                      <a:pt x="245" y="140"/>
                    </a:lnTo>
                    <a:lnTo>
                      <a:pt x="246" y="178"/>
                    </a:lnTo>
                    <a:lnTo>
                      <a:pt x="201" y="239"/>
                    </a:lnTo>
                    <a:lnTo>
                      <a:pt x="153" y="253"/>
                    </a:lnTo>
                    <a:lnTo>
                      <a:pt x="143" y="284"/>
                    </a:lnTo>
                    <a:lnTo>
                      <a:pt x="104" y="270"/>
                    </a:lnTo>
                    <a:lnTo>
                      <a:pt x="73" y="243"/>
                    </a:lnTo>
                    <a:lnTo>
                      <a:pt x="56" y="190"/>
                    </a:lnTo>
                    <a:lnTo>
                      <a:pt x="24" y="161"/>
                    </a:lnTo>
                    <a:lnTo>
                      <a:pt x="23" y="126"/>
                    </a:lnTo>
                    <a:lnTo>
                      <a:pt x="24" y="8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30"/>
              <p:cNvSpPr/>
              <p:nvPr/>
            </p:nvSpPr>
            <p:spPr>
              <a:xfrm>
                <a:off x="1161720" y="4959360"/>
                <a:ext cx="299880" cy="31572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315720"/>
                  <a:gd name="textAreaBottom" fmla="*/ 315720 h 315720"/>
                </a:gdLst>
                <a:ahLst/>
                <a:rect l="textAreaLeft" t="textAreaTop" r="textAreaRight" b="textAreaBottom"/>
                <a:pathLst>
                  <a:path w="397" h="421">
                    <a:moveTo>
                      <a:pt x="0" y="306"/>
                    </a:moveTo>
                    <a:lnTo>
                      <a:pt x="29" y="263"/>
                    </a:lnTo>
                    <a:lnTo>
                      <a:pt x="39" y="232"/>
                    </a:lnTo>
                    <a:lnTo>
                      <a:pt x="60" y="209"/>
                    </a:lnTo>
                    <a:lnTo>
                      <a:pt x="42" y="181"/>
                    </a:lnTo>
                    <a:lnTo>
                      <a:pt x="79" y="149"/>
                    </a:lnTo>
                    <a:lnTo>
                      <a:pt x="66" y="111"/>
                    </a:lnTo>
                    <a:lnTo>
                      <a:pt x="58" y="80"/>
                    </a:lnTo>
                    <a:lnTo>
                      <a:pt x="80" y="31"/>
                    </a:lnTo>
                    <a:lnTo>
                      <a:pt x="111" y="33"/>
                    </a:lnTo>
                    <a:lnTo>
                      <a:pt x="113" y="0"/>
                    </a:lnTo>
                    <a:lnTo>
                      <a:pt x="165" y="14"/>
                    </a:lnTo>
                    <a:lnTo>
                      <a:pt x="185" y="41"/>
                    </a:lnTo>
                    <a:lnTo>
                      <a:pt x="204" y="64"/>
                    </a:lnTo>
                    <a:lnTo>
                      <a:pt x="228" y="96"/>
                    </a:lnTo>
                    <a:lnTo>
                      <a:pt x="254" y="107"/>
                    </a:lnTo>
                    <a:lnTo>
                      <a:pt x="280" y="128"/>
                    </a:lnTo>
                    <a:lnTo>
                      <a:pt x="300" y="151"/>
                    </a:lnTo>
                    <a:lnTo>
                      <a:pt x="308" y="184"/>
                    </a:lnTo>
                    <a:lnTo>
                      <a:pt x="339" y="215"/>
                    </a:lnTo>
                    <a:lnTo>
                      <a:pt x="378" y="244"/>
                    </a:lnTo>
                    <a:lnTo>
                      <a:pt x="397" y="268"/>
                    </a:lnTo>
                    <a:lnTo>
                      <a:pt x="391" y="344"/>
                    </a:lnTo>
                    <a:lnTo>
                      <a:pt x="342" y="329"/>
                    </a:lnTo>
                    <a:lnTo>
                      <a:pt x="321" y="295"/>
                    </a:lnTo>
                    <a:lnTo>
                      <a:pt x="276" y="308"/>
                    </a:lnTo>
                    <a:lnTo>
                      <a:pt x="231" y="306"/>
                    </a:lnTo>
                    <a:lnTo>
                      <a:pt x="238" y="350"/>
                    </a:lnTo>
                    <a:lnTo>
                      <a:pt x="220" y="369"/>
                    </a:lnTo>
                    <a:lnTo>
                      <a:pt x="196" y="387"/>
                    </a:lnTo>
                    <a:lnTo>
                      <a:pt x="186" y="389"/>
                    </a:lnTo>
                    <a:lnTo>
                      <a:pt x="153" y="405"/>
                    </a:lnTo>
                    <a:lnTo>
                      <a:pt x="126" y="420"/>
                    </a:lnTo>
                    <a:lnTo>
                      <a:pt x="105" y="421"/>
                    </a:lnTo>
                    <a:lnTo>
                      <a:pt x="47" y="405"/>
                    </a:lnTo>
                    <a:lnTo>
                      <a:pt x="27" y="355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31"/>
              <p:cNvSpPr/>
              <p:nvPr/>
            </p:nvSpPr>
            <p:spPr>
              <a:xfrm>
                <a:off x="1923840" y="4795920"/>
                <a:ext cx="255240" cy="17136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71360"/>
                  <a:gd name="textAreaBottom" fmla="*/ 171360 h 171360"/>
                </a:gdLst>
                <a:ahLst/>
                <a:rect l="textAreaLeft" t="textAreaTop" r="textAreaRight" b="textAreaBottom"/>
                <a:pathLst>
                  <a:path w="344" h="229">
                    <a:moveTo>
                      <a:pt x="0" y="66"/>
                    </a:moveTo>
                    <a:lnTo>
                      <a:pt x="23" y="44"/>
                    </a:lnTo>
                    <a:lnTo>
                      <a:pt x="3" y="21"/>
                    </a:lnTo>
                    <a:lnTo>
                      <a:pt x="34" y="12"/>
                    </a:lnTo>
                    <a:lnTo>
                      <a:pt x="83" y="0"/>
                    </a:lnTo>
                    <a:lnTo>
                      <a:pt x="113" y="7"/>
                    </a:lnTo>
                    <a:lnTo>
                      <a:pt x="135" y="45"/>
                    </a:lnTo>
                    <a:lnTo>
                      <a:pt x="166" y="56"/>
                    </a:lnTo>
                    <a:lnTo>
                      <a:pt x="199" y="44"/>
                    </a:lnTo>
                    <a:lnTo>
                      <a:pt x="222" y="65"/>
                    </a:lnTo>
                    <a:lnTo>
                      <a:pt x="263" y="61"/>
                    </a:lnTo>
                    <a:lnTo>
                      <a:pt x="287" y="89"/>
                    </a:lnTo>
                    <a:lnTo>
                      <a:pt x="310" y="68"/>
                    </a:lnTo>
                    <a:lnTo>
                      <a:pt x="305" y="114"/>
                    </a:lnTo>
                    <a:lnTo>
                      <a:pt x="337" y="127"/>
                    </a:lnTo>
                    <a:lnTo>
                      <a:pt x="344" y="163"/>
                    </a:lnTo>
                    <a:lnTo>
                      <a:pt x="328" y="196"/>
                    </a:lnTo>
                    <a:lnTo>
                      <a:pt x="305" y="223"/>
                    </a:lnTo>
                    <a:lnTo>
                      <a:pt x="283" y="198"/>
                    </a:lnTo>
                    <a:lnTo>
                      <a:pt x="252" y="206"/>
                    </a:lnTo>
                    <a:lnTo>
                      <a:pt x="211" y="191"/>
                    </a:lnTo>
                    <a:lnTo>
                      <a:pt x="194" y="228"/>
                    </a:lnTo>
                    <a:lnTo>
                      <a:pt x="160" y="229"/>
                    </a:lnTo>
                    <a:lnTo>
                      <a:pt x="142" y="198"/>
                    </a:lnTo>
                    <a:lnTo>
                      <a:pt x="126" y="159"/>
                    </a:lnTo>
                    <a:lnTo>
                      <a:pt x="121" y="117"/>
                    </a:lnTo>
                    <a:lnTo>
                      <a:pt x="55" y="116"/>
                    </a:lnTo>
                    <a:lnTo>
                      <a:pt x="11" y="99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32"/>
              <p:cNvSpPr/>
              <p:nvPr/>
            </p:nvSpPr>
            <p:spPr>
              <a:xfrm>
                <a:off x="2008080" y="4403880"/>
                <a:ext cx="534960" cy="62712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716" h="838">
                    <a:moveTo>
                      <a:pt x="0" y="530"/>
                    </a:moveTo>
                    <a:lnTo>
                      <a:pt x="32" y="486"/>
                    </a:lnTo>
                    <a:lnTo>
                      <a:pt x="52" y="466"/>
                    </a:lnTo>
                    <a:lnTo>
                      <a:pt x="104" y="479"/>
                    </a:lnTo>
                    <a:lnTo>
                      <a:pt x="129" y="461"/>
                    </a:lnTo>
                    <a:lnTo>
                      <a:pt x="159" y="456"/>
                    </a:lnTo>
                    <a:lnTo>
                      <a:pt x="145" y="417"/>
                    </a:lnTo>
                    <a:lnTo>
                      <a:pt x="110" y="398"/>
                    </a:lnTo>
                    <a:lnTo>
                      <a:pt x="77" y="364"/>
                    </a:lnTo>
                    <a:lnTo>
                      <a:pt x="105" y="347"/>
                    </a:lnTo>
                    <a:lnTo>
                      <a:pt x="138" y="309"/>
                    </a:lnTo>
                    <a:lnTo>
                      <a:pt x="166" y="320"/>
                    </a:lnTo>
                    <a:lnTo>
                      <a:pt x="200" y="312"/>
                    </a:lnTo>
                    <a:lnTo>
                      <a:pt x="227" y="306"/>
                    </a:lnTo>
                    <a:lnTo>
                      <a:pt x="237" y="272"/>
                    </a:lnTo>
                    <a:lnTo>
                      <a:pt x="240" y="239"/>
                    </a:lnTo>
                    <a:lnTo>
                      <a:pt x="246" y="201"/>
                    </a:lnTo>
                    <a:lnTo>
                      <a:pt x="266" y="181"/>
                    </a:lnTo>
                    <a:lnTo>
                      <a:pt x="247" y="160"/>
                    </a:lnTo>
                    <a:lnTo>
                      <a:pt x="269" y="120"/>
                    </a:lnTo>
                    <a:lnTo>
                      <a:pt x="253" y="76"/>
                    </a:lnTo>
                    <a:lnTo>
                      <a:pt x="282" y="95"/>
                    </a:lnTo>
                    <a:lnTo>
                      <a:pt x="320" y="55"/>
                    </a:lnTo>
                    <a:lnTo>
                      <a:pt x="342" y="37"/>
                    </a:lnTo>
                    <a:lnTo>
                      <a:pt x="348" y="22"/>
                    </a:lnTo>
                    <a:lnTo>
                      <a:pt x="376" y="0"/>
                    </a:lnTo>
                    <a:lnTo>
                      <a:pt x="415" y="27"/>
                    </a:lnTo>
                    <a:lnTo>
                      <a:pt x="432" y="73"/>
                    </a:lnTo>
                    <a:lnTo>
                      <a:pt x="423" y="97"/>
                    </a:lnTo>
                    <a:lnTo>
                      <a:pt x="406" y="135"/>
                    </a:lnTo>
                    <a:lnTo>
                      <a:pt x="406" y="168"/>
                    </a:lnTo>
                    <a:lnTo>
                      <a:pt x="366" y="196"/>
                    </a:lnTo>
                    <a:lnTo>
                      <a:pt x="352" y="230"/>
                    </a:lnTo>
                    <a:lnTo>
                      <a:pt x="383" y="271"/>
                    </a:lnTo>
                    <a:lnTo>
                      <a:pt x="391" y="320"/>
                    </a:lnTo>
                    <a:lnTo>
                      <a:pt x="399" y="360"/>
                    </a:lnTo>
                    <a:lnTo>
                      <a:pt x="423" y="306"/>
                    </a:lnTo>
                    <a:lnTo>
                      <a:pt x="451" y="307"/>
                    </a:lnTo>
                    <a:lnTo>
                      <a:pt x="481" y="292"/>
                    </a:lnTo>
                    <a:lnTo>
                      <a:pt x="518" y="302"/>
                    </a:lnTo>
                    <a:lnTo>
                      <a:pt x="550" y="286"/>
                    </a:lnTo>
                    <a:lnTo>
                      <a:pt x="562" y="325"/>
                    </a:lnTo>
                    <a:lnTo>
                      <a:pt x="606" y="307"/>
                    </a:lnTo>
                    <a:lnTo>
                      <a:pt x="633" y="313"/>
                    </a:lnTo>
                    <a:lnTo>
                      <a:pt x="635" y="323"/>
                    </a:lnTo>
                    <a:lnTo>
                      <a:pt x="698" y="364"/>
                    </a:lnTo>
                    <a:lnTo>
                      <a:pt x="710" y="355"/>
                    </a:lnTo>
                    <a:lnTo>
                      <a:pt x="716" y="383"/>
                    </a:lnTo>
                    <a:lnTo>
                      <a:pt x="696" y="426"/>
                    </a:lnTo>
                    <a:lnTo>
                      <a:pt x="681" y="443"/>
                    </a:lnTo>
                    <a:lnTo>
                      <a:pt x="674" y="426"/>
                    </a:lnTo>
                    <a:lnTo>
                      <a:pt x="653" y="456"/>
                    </a:lnTo>
                    <a:lnTo>
                      <a:pt x="625" y="474"/>
                    </a:lnTo>
                    <a:lnTo>
                      <a:pt x="622" y="482"/>
                    </a:lnTo>
                    <a:lnTo>
                      <a:pt x="630" y="513"/>
                    </a:lnTo>
                    <a:lnTo>
                      <a:pt x="644" y="518"/>
                    </a:lnTo>
                    <a:lnTo>
                      <a:pt x="648" y="524"/>
                    </a:lnTo>
                    <a:lnTo>
                      <a:pt x="655" y="519"/>
                    </a:lnTo>
                    <a:lnTo>
                      <a:pt x="660" y="529"/>
                    </a:lnTo>
                    <a:lnTo>
                      <a:pt x="653" y="545"/>
                    </a:lnTo>
                    <a:lnTo>
                      <a:pt x="646" y="542"/>
                    </a:lnTo>
                    <a:lnTo>
                      <a:pt x="639" y="563"/>
                    </a:lnTo>
                    <a:lnTo>
                      <a:pt x="638" y="589"/>
                    </a:lnTo>
                    <a:lnTo>
                      <a:pt x="608" y="621"/>
                    </a:lnTo>
                    <a:lnTo>
                      <a:pt x="568" y="611"/>
                    </a:lnTo>
                    <a:lnTo>
                      <a:pt x="561" y="577"/>
                    </a:lnTo>
                    <a:lnTo>
                      <a:pt x="531" y="590"/>
                    </a:lnTo>
                    <a:lnTo>
                      <a:pt x="503" y="557"/>
                    </a:lnTo>
                    <a:lnTo>
                      <a:pt x="465" y="547"/>
                    </a:lnTo>
                    <a:lnTo>
                      <a:pt x="442" y="585"/>
                    </a:lnTo>
                    <a:lnTo>
                      <a:pt x="442" y="615"/>
                    </a:lnTo>
                    <a:lnTo>
                      <a:pt x="433" y="645"/>
                    </a:lnTo>
                    <a:lnTo>
                      <a:pt x="407" y="655"/>
                    </a:lnTo>
                    <a:lnTo>
                      <a:pt x="384" y="675"/>
                    </a:lnTo>
                    <a:lnTo>
                      <a:pt x="355" y="656"/>
                    </a:lnTo>
                    <a:lnTo>
                      <a:pt x="340" y="683"/>
                    </a:lnTo>
                    <a:lnTo>
                      <a:pt x="328" y="742"/>
                    </a:lnTo>
                    <a:lnTo>
                      <a:pt x="313" y="772"/>
                    </a:lnTo>
                    <a:lnTo>
                      <a:pt x="285" y="781"/>
                    </a:lnTo>
                    <a:lnTo>
                      <a:pt x="279" y="838"/>
                    </a:lnTo>
                    <a:lnTo>
                      <a:pt x="244" y="827"/>
                    </a:lnTo>
                    <a:lnTo>
                      <a:pt x="259" y="791"/>
                    </a:lnTo>
                    <a:lnTo>
                      <a:pt x="242" y="752"/>
                    </a:lnTo>
                    <a:lnTo>
                      <a:pt x="215" y="719"/>
                    </a:lnTo>
                    <a:lnTo>
                      <a:pt x="231" y="686"/>
                    </a:lnTo>
                    <a:lnTo>
                      <a:pt x="224" y="650"/>
                    </a:lnTo>
                    <a:lnTo>
                      <a:pt x="192" y="637"/>
                    </a:lnTo>
                    <a:lnTo>
                      <a:pt x="197" y="591"/>
                    </a:lnTo>
                    <a:lnTo>
                      <a:pt x="174" y="612"/>
                    </a:lnTo>
                    <a:lnTo>
                      <a:pt x="150" y="584"/>
                    </a:lnTo>
                    <a:lnTo>
                      <a:pt x="109" y="588"/>
                    </a:lnTo>
                    <a:lnTo>
                      <a:pt x="86" y="567"/>
                    </a:lnTo>
                    <a:lnTo>
                      <a:pt x="53" y="579"/>
                    </a:lnTo>
                    <a:lnTo>
                      <a:pt x="22" y="568"/>
                    </a:lnTo>
                    <a:lnTo>
                      <a:pt x="0" y="530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33"/>
              <p:cNvSpPr/>
              <p:nvPr/>
            </p:nvSpPr>
            <p:spPr>
              <a:xfrm>
                <a:off x="1857240" y="4870440"/>
                <a:ext cx="185400" cy="17280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72800"/>
                  <a:gd name="textAreaBottom" fmla="*/ 172800 h 172800"/>
                </a:gdLst>
                <a:ahLst/>
                <a:rect l="textAreaLeft" t="textAreaTop" r="textAreaRight" b="textAreaBottom"/>
                <a:pathLst>
                  <a:path w="248" h="232">
                    <a:moveTo>
                      <a:pt x="0" y="134"/>
                    </a:moveTo>
                    <a:lnTo>
                      <a:pt x="34" y="99"/>
                    </a:lnTo>
                    <a:lnTo>
                      <a:pt x="72" y="96"/>
                    </a:lnTo>
                    <a:lnTo>
                      <a:pt x="59" y="65"/>
                    </a:lnTo>
                    <a:lnTo>
                      <a:pt x="84" y="34"/>
                    </a:lnTo>
                    <a:lnTo>
                      <a:pt x="99" y="0"/>
                    </a:lnTo>
                    <a:lnTo>
                      <a:pt x="143" y="17"/>
                    </a:lnTo>
                    <a:lnTo>
                      <a:pt x="209" y="18"/>
                    </a:lnTo>
                    <a:lnTo>
                      <a:pt x="214" y="60"/>
                    </a:lnTo>
                    <a:lnTo>
                      <a:pt x="230" y="99"/>
                    </a:lnTo>
                    <a:lnTo>
                      <a:pt x="248" y="130"/>
                    </a:lnTo>
                    <a:lnTo>
                      <a:pt x="209" y="142"/>
                    </a:lnTo>
                    <a:lnTo>
                      <a:pt x="152" y="167"/>
                    </a:lnTo>
                    <a:lnTo>
                      <a:pt x="157" y="223"/>
                    </a:lnTo>
                    <a:lnTo>
                      <a:pt x="126" y="224"/>
                    </a:lnTo>
                    <a:lnTo>
                      <a:pt x="71" y="232"/>
                    </a:lnTo>
                    <a:lnTo>
                      <a:pt x="34" y="222"/>
                    </a:lnTo>
                    <a:lnTo>
                      <a:pt x="13" y="19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34"/>
              <p:cNvSpPr/>
              <p:nvPr/>
            </p:nvSpPr>
            <p:spPr>
              <a:xfrm>
                <a:off x="1645920" y="4633920"/>
                <a:ext cx="482400" cy="35712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641" h="474">
                    <a:moveTo>
                      <a:pt x="0" y="233"/>
                    </a:moveTo>
                    <a:lnTo>
                      <a:pt x="44" y="201"/>
                    </a:lnTo>
                    <a:lnTo>
                      <a:pt x="84" y="171"/>
                    </a:lnTo>
                    <a:lnTo>
                      <a:pt x="123" y="165"/>
                    </a:lnTo>
                    <a:lnTo>
                      <a:pt x="171" y="151"/>
                    </a:lnTo>
                    <a:lnTo>
                      <a:pt x="159" y="107"/>
                    </a:lnTo>
                    <a:lnTo>
                      <a:pt x="204" y="87"/>
                    </a:lnTo>
                    <a:lnTo>
                      <a:pt x="239" y="71"/>
                    </a:lnTo>
                    <a:lnTo>
                      <a:pt x="287" y="69"/>
                    </a:lnTo>
                    <a:lnTo>
                      <a:pt x="287" y="41"/>
                    </a:lnTo>
                    <a:lnTo>
                      <a:pt x="320" y="28"/>
                    </a:lnTo>
                    <a:lnTo>
                      <a:pt x="328" y="19"/>
                    </a:lnTo>
                    <a:lnTo>
                      <a:pt x="354" y="37"/>
                    </a:lnTo>
                    <a:lnTo>
                      <a:pt x="413" y="37"/>
                    </a:lnTo>
                    <a:lnTo>
                      <a:pt x="441" y="0"/>
                    </a:lnTo>
                    <a:lnTo>
                      <a:pt x="477" y="5"/>
                    </a:lnTo>
                    <a:lnTo>
                      <a:pt x="485" y="37"/>
                    </a:lnTo>
                    <a:lnTo>
                      <a:pt x="514" y="41"/>
                    </a:lnTo>
                    <a:lnTo>
                      <a:pt x="559" y="55"/>
                    </a:lnTo>
                    <a:lnTo>
                      <a:pt x="592" y="89"/>
                    </a:lnTo>
                    <a:lnTo>
                      <a:pt x="627" y="108"/>
                    </a:lnTo>
                    <a:lnTo>
                      <a:pt x="641" y="147"/>
                    </a:lnTo>
                    <a:lnTo>
                      <a:pt x="611" y="152"/>
                    </a:lnTo>
                    <a:lnTo>
                      <a:pt x="586" y="170"/>
                    </a:lnTo>
                    <a:lnTo>
                      <a:pt x="534" y="157"/>
                    </a:lnTo>
                    <a:lnTo>
                      <a:pt x="514" y="177"/>
                    </a:lnTo>
                    <a:lnTo>
                      <a:pt x="482" y="221"/>
                    </a:lnTo>
                    <a:lnTo>
                      <a:pt x="452" y="214"/>
                    </a:lnTo>
                    <a:lnTo>
                      <a:pt x="403" y="226"/>
                    </a:lnTo>
                    <a:lnTo>
                      <a:pt x="372" y="235"/>
                    </a:lnTo>
                    <a:lnTo>
                      <a:pt x="392" y="258"/>
                    </a:lnTo>
                    <a:lnTo>
                      <a:pt x="369" y="280"/>
                    </a:lnTo>
                    <a:lnTo>
                      <a:pt x="380" y="313"/>
                    </a:lnTo>
                    <a:lnTo>
                      <a:pt x="365" y="347"/>
                    </a:lnTo>
                    <a:lnTo>
                      <a:pt x="340" y="378"/>
                    </a:lnTo>
                    <a:lnTo>
                      <a:pt x="353" y="409"/>
                    </a:lnTo>
                    <a:lnTo>
                      <a:pt x="315" y="412"/>
                    </a:lnTo>
                    <a:lnTo>
                      <a:pt x="281" y="447"/>
                    </a:lnTo>
                    <a:lnTo>
                      <a:pt x="265" y="407"/>
                    </a:lnTo>
                    <a:lnTo>
                      <a:pt x="218" y="433"/>
                    </a:lnTo>
                    <a:lnTo>
                      <a:pt x="189" y="442"/>
                    </a:lnTo>
                    <a:lnTo>
                      <a:pt x="176" y="474"/>
                    </a:lnTo>
                    <a:lnTo>
                      <a:pt x="154" y="450"/>
                    </a:lnTo>
                    <a:lnTo>
                      <a:pt x="119" y="423"/>
                    </a:lnTo>
                    <a:lnTo>
                      <a:pt x="123" y="394"/>
                    </a:lnTo>
                    <a:lnTo>
                      <a:pt x="91" y="351"/>
                    </a:lnTo>
                    <a:lnTo>
                      <a:pt x="67" y="325"/>
                    </a:lnTo>
                    <a:lnTo>
                      <a:pt x="40" y="314"/>
                    </a:lnTo>
                    <a:lnTo>
                      <a:pt x="19" y="29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635"/>
              <p:cNvSpPr/>
              <p:nvPr/>
            </p:nvSpPr>
            <p:spPr>
              <a:xfrm>
                <a:off x="1638000" y="4535640"/>
                <a:ext cx="252360" cy="1792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342" h="239">
                    <a:moveTo>
                      <a:pt x="0" y="22"/>
                    </a:moveTo>
                    <a:lnTo>
                      <a:pt x="23" y="0"/>
                    </a:lnTo>
                    <a:lnTo>
                      <a:pt x="53" y="2"/>
                    </a:lnTo>
                    <a:lnTo>
                      <a:pt x="101" y="15"/>
                    </a:lnTo>
                    <a:lnTo>
                      <a:pt x="145" y="44"/>
                    </a:lnTo>
                    <a:lnTo>
                      <a:pt x="204" y="43"/>
                    </a:lnTo>
                    <a:lnTo>
                      <a:pt x="231" y="50"/>
                    </a:lnTo>
                    <a:lnTo>
                      <a:pt x="264" y="71"/>
                    </a:lnTo>
                    <a:lnTo>
                      <a:pt x="292" y="82"/>
                    </a:lnTo>
                    <a:lnTo>
                      <a:pt x="282" y="113"/>
                    </a:lnTo>
                    <a:lnTo>
                      <a:pt x="342" y="115"/>
                    </a:lnTo>
                    <a:lnTo>
                      <a:pt x="337" y="151"/>
                    </a:lnTo>
                    <a:lnTo>
                      <a:pt x="329" y="160"/>
                    </a:lnTo>
                    <a:lnTo>
                      <a:pt x="296" y="173"/>
                    </a:lnTo>
                    <a:lnTo>
                      <a:pt x="296" y="201"/>
                    </a:lnTo>
                    <a:lnTo>
                      <a:pt x="248" y="203"/>
                    </a:lnTo>
                    <a:lnTo>
                      <a:pt x="213" y="219"/>
                    </a:lnTo>
                    <a:lnTo>
                      <a:pt x="168" y="239"/>
                    </a:lnTo>
                    <a:lnTo>
                      <a:pt x="129" y="212"/>
                    </a:lnTo>
                    <a:lnTo>
                      <a:pt x="115" y="170"/>
                    </a:lnTo>
                    <a:lnTo>
                      <a:pt x="77" y="158"/>
                    </a:lnTo>
                    <a:lnTo>
                      <a:pt x="56" y="115"/>
                    </a:lnTo>
                    <a:lnTo>
                      <a:pt x="5" y="108"/>
                    </a:lnTo>
                    <a:lnTo>
                      <a:pt x="11" y="62"/>
                    </a:lnTo>
                    <a:lnTo>
                      <a:pt x="24" y="3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36"/>
              <p:cNvSpPr/>
              <p:nvPr/>
            </p:nvSpPr>
            <p:spPr>
              <a:xfrm>
                <a:off x="1716120" y="4399200"/>
                <a:ext cx="475920" cy="277560"/>
              </a:xfrm>
              <a:custGeom>
                <a:avLst/>
                <a:gdLst/>
                <a:ahLst/>
                <a:rect l="l" t="t" r="r" b="b"/>
                <a:pathLst>
                  <a:path w="636" h="369">
                    <a:moveTo>
                      <a:pt x="0" y="197"/>
                    </a:moveTo>
                    <a:lnTo>
                      <a:pt x="24" y="165"/>
                    </a:lnTo>
                    <a:lnTo>
                      <a:pt x="53" y="149"/>
                    </a:lnTo>
                    <a:lnTo>
                      <a:pt x="129" y="98"/>
                    </a:lnTo>
                    <a:lnTo>
                      <a:pt x="145" y="65"/>
                    </a:lnTo>
                    <a:lnTo>
                      <a:pt x="161" y="57"/>
                    </a:lnTo>
                    <a:lnTo>
                      <a:pt x="189" y="42"/>
                    </a:lnTo>
                    <a:lnTo>
                      <a:pt x="226" y="29"/>
                    </a:lnTo>
                    <a:lnTo>
                      <a:pt x="258" y="42"/>
                    </a:lnTo>
                    <a:lnTo>
                      <a:pt x="290" y="0"/>
                    </a:lnTo>
                    <a:lnTo>
                      <a:pt x="298" y="31"/>
                    </a:lnTo>
                    <a:lnTo>
                      <a:pt x="318" y="70"/>
                    </a:lnTo>
                    <a:lnTo>
                      <a:pt x="347" y="70"/>
                    </a:lnTo>
                    <a:lnTo>
                      <a:pt x="371" y="97"/>
                    </a:lnTo>
                    <a:lnTo>
                      <a:pt x="412" y="120"/>
                    </a:lnTo>
                    <a:lnTo>
                      <a:pt x="462" y="174"/>
                    </a:lnTo>
                    <a:lnTo>
                      <a:pt x="490" y="174"/>
                    </a:lnTo>
                    <a:lnTo>
                      <a:pt x="522" y="208"/>
                    </a:lnTo>
                    <a:lnTo>
                      <a:pt x="561" y="201"/>
                    </a:lnTo>
                    <a:lnTo>
                      <a:pt x="590" y="172"/>
                    </a:lnTo>
                    <a:lnTo>
                      <a:pt x="636" y="206"/>
                    </a:lnTo>
                    <a:lnTo>
                      <a:pt x="630" y="244"/>
                    </a:lnTo>
                    <a:lnTo>
                      <a:pt x="627" y="277"/>
                    </a:lnTo>
                    <a:lnTo>
                      <a:pt x="617" y="311"/>
                    </a:lnTo>
                    <a:lnTo>
                      <a:pt x="590" y="317"/>
                    </a:lnTo>
                    <a:lnTo>
                      <a:pt x="556" y="325"/>
                    </a:lnTo>
                    <a:lnTo>
                      <a:pt x="528" y="314"/>
                    </a:lnTo>
                    <a:lnTo>
                      <a:pt x="495" y="352"/>
                    </a:lnTo>
                    <a:lnTo>
                      <a:pt x="467" y="369"/>
                    </a:lnTo>
                    <a:lnTo>
                      <a:pt x="422" y="355"/>
                    </a:lnTo>
                    <a:lnTo>
                      <a:pt x="393" y="351"/>
                    </a:lnTo>
                    <a:lnTo>
                      <a:pt x="385" y="319"/>
                    </a:lnTo>
                    <a:lnTo>
                      <a:pt x="349" y="314"/>
                    </a:lnTo>
                    <a:lnTo>
                      <a:pt x="321" y="351"/>
                    </a:lnTo>
                    <a:lnTo>
                      <a:pt x="262" y="351"/>
                    </a:lnTo>
                    <a:lnTo>
                      <a:pt x="236" y="333"/>
                    </a:lnTo>
                    <a:lnTo>
                      <a:pt x="241" y="297"/>
                    </a:lnTo>
                    <a:lnTo>
                      <a:pt x="181" y="295"/>
                    </a:lnTo>
                    <a:lnTo>
                      <a:pt x="191" y="264"/>
                    </a:lnTo>
                    <a:lnTo>
                      <a:pt x="163" y="253"/>
                    </a:lnTo>
                    <a:lnTo>
                      <a:pt x="130" y="232"/>
                    </a:lnTo>
                    <a:lnTo>
                      <a:pt x="103" y="225"/>
                    </a:lnTo>
                    <a:lnTo>
                      <a:pt x="44" y="226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37"/>
              <p:cNvSpPr/>
              <p:nvPr/>
            </p:nvSpPr>
            <p:spPr>
              <a:xfrm>
                <a:off x="1590480" y="4853160"/>
                <a:ext cx="277560" cy="212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68" h="278">
                    <a:moveTo>
                      <a:pt x="0" y="119"/>
                    </a:moveTo>
                    <a:lnTo>
                      <a:pt x="13" y="85"/>
                    </a:lnTo>
                    <a:lnTo>
                      <a:pt x="39" y="108"/>
                    </a:lnTo>
                    <a:lnTo>
                      <a:pt x="33" y="66"/>
                    </a:lnTo>
                    <a:lnTo>
                      <a:pt x="70" y="52"/>
                    </a:lnTo>
                    <a:lnTo>
                      <a:pt x="93" y="0"/>
                    </a:lnTo>
                    <a:lnTo>
                      <a:pt x="114" y="19"/>
                    </a:lnTo>
                    <a:lnTo>
                      <a:pt x="141" y="30"/>
                    </a:lnTo>
                    <a:lnTo>
                      <a:pt x="165" y="56"/>
                    </a:lnTo>
                    <a:lnTo>
                      <a:pt x="197" y="99"/>
                    </a:lnTo>
                    <a:lnTo>
                      <a:pt x="193" y="128"/>
                    </a:lnTo>
                    <a:lnTo>
                      <a:pt x="228" y="155"/>
                    </a:lnTo>
                    <a:lnTo>
                      <a:pt x="250" y="179"/>
                    </a:lnTo>
                    <a:lnTo>
                      <a:pt x="263" y="147"/>
                    </a:lnTo>
                    <a:lnTo>
                      <a:pt x="292" y="138"/>
                    </a:lnTo>
                    <a:lnTo>
                      <a:pt x="339" y="112"/>
                    </a:lnTo>
                    <a:lnTo>
                      <a:pt x="355" y="152"/>
                    </a:lnTo>
                    <a:lnTo>
                      <a:pt x="368" y="209"/>
                    </a:lnTo>
                    <a:lnTo>
                      <a:pt x="359" y="241"/>
                    </a:lnTo>
                    <a:lnTo>
                      <a:pt x="339" y="276"/>
                    </a:lnTo>
                    <a:lnTo>
                      <a:pt x="311" y="263"/>
                    </a:lnTo>
                    <a:lnTo>
                      <a:pt x="265" y="278"/>
                    </a:lnTo>
                    <a:lnTo>
                      <a:pt x="223" y="268"/>
                    </a:lnTo>
                    <a:lnTo>
                      <a:pt x="177" y="234"/>
                    </a:lnTo>
                    <a:lnTo>
                      <a:pt x="142" y="265"/>
                    </a:lnTo>
                    <a:lnTo>
                      <a:pt x="109" y="186"/>
                    </a:lnTo>
                    <a:lnTo>
                      <a:pt x="78" y="152"/>
                    </a:lnTo>
                    <a:lnTo>
                      <a:pt x="53" y="165"/>
                    </a:lnTo>
                    <a:lnTo>
                      <a:pt x="21" y="148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38"/>
              <p:cNvSpPr/>
              <p:nvPr/>
            </p:nvSpPr>
            <p:spPr>
              <a:xfrm>
                <a:off x="1909800" y="4938840"/>
                <a:ext cx="453960" cy="38088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602" h="509">
                    <a:moveTo>
                      <a:pt x="0" y="140"/>
                    </a:moveTo>
                    <a:lnTo>
                      <a:pt x="55" y="132"/>
                    </a:lnTo>
                    <a:lnTo>
                      <a:pt x="86" y="131"/>
                    </a:lnTo>
                    <a:lnTo>
                      <a:pt x="81" y="75"/>
                    </a:lnTo>
                    <a:lnTo>
                      <a:pt x="138" y="50"/>
                    </a:lnTo>
                    <a:lnTo>
                      <a:pt x="177" y="38"/>
                    </a:lnTo>
                    <a:lnTo>
                      <a:pt x="211" y="37"/>
                    </a:lnTo>
                    <a:lnTo>
                      <a:pt x="228" y="0"/>
                    </a:lnTo>
                    <a:lnTo>
                      <a:pt x="269" y="15"/>
                    </a:lnTo>
                    <a:lnTo>
                      <a:pt x="300" y="7"/>
                    </a:lnTo>
                    <a:lnTo>
                      <a:pt x="322" y="32"/>
                    </a:lnTo>
                    <a:lnTo>
                      <a:pt x="345" y="5"/>
                    </a:lnTo>
                    <a:lnTo>
                      <a:pt x="372" y="38"/>
                    </a:lnTo>
                    <a:lnTo>
                      <a:pt x="389" y="77"/>
                    </a:lnTo>
                    <a:lnTo>
                      <a:pt x="374" y="113"/>
                    </a:lnTo>
                    <a:lnTo>
                      <a:pt x="409" y="124"/>
                    </a:lnTo>
                    <a:lnTo>
                      <a:pt x="429" y="184"/>
                    </a:lnTo>
                    <a:lnTo>
                      <a:pt x="463" y="184"/>
                    </a:lnTo>
                    <a:lnTo>
                      <a:pt x="485" y="207"/>
                    </a:lnTo>
                    <a:lnTo>
                      <a:pt x="515" y="193"/>
                    </a:lnTo>
                    <a:lnTo>
                      <a:pt x="501" y="159"/>
                    </a:lnTo>
                    <a:lnTo>
                      <a:pt x="530" y="135"/>
                    </a:lnTo>
                    <a:lnTo>
                      <a:pt x="561" y="146"/>
                    </a:lnTo>
                    <a:lnTo>
                      <a:pt x="537" y="169"/>
                    </a:lnTo>
                    <a:lnTo>
                      <a:pt x="539" y="206"/>
                    </a:lnTo>
                    <a:lnTo>
                      <a:pt x="568" y="199"/>
                    </a:lnTo>
                    <a:lnTo>
                      <a:pt x="553" y="224"/>
                    </a:lnTo>
                    <a:lnTo>
                      <a:pt x="519" y="233"/>
                    </a:lnTo>
                    <a:lnTo>
                      <a:pt x="562" y="267"/>
                    </a:lnTo>
                    <a:lnTo>
                      <a:pt x="602" y="298"/>
                    </a:lnTo>
                    <a:lnTo>
                      <a:pt x="568" y="318"/>
                    </a:lnTo>
                    <a:lnTo>
                      <a:pt x="545" y="334"/>
                    </a:lnTo>
                    <a:lnTo>
                      <a:pt x="513" y="348"/>
                    </a:lnTo>
                    <a:lnTo>
                      <a:pt x="485" y="339"/>
                    </a:lnTo>
                    <a:lnTo>
                      <a:pt x="489" y="374"/>
                    </a:lnTo>
                    <a:lnTo>
                      <a:pt x="477" y="426"/>
                    </a:lnTo>
                    <a:lnTo>
                      <a:pt x="444" y="449"/>
                    </a:lnTo>
                    <a:lnTo>
                      <a:pt x="430" y="486"/>
                    </a:lnTo>
                    <a:lnTo>
                      <a:pt x="397" y="509"/>
                    </a:lnTo>
                    <a:lnTo>
                      <a:pt x="376" y="488"/>
                    </a:lnTo>
                    <a:lnTo>
                      <a:pt x="396" y="458"/>
                    </a:lnTo>
                    <a:lnTo>
                      <a:pt x="350" y="397"/>
                    </a:lnTo>
                    <a:lnTo>
                      <a:pt x="324" y="372"/>
                    </a:lnTo>
                    <a:lnTo>
                      <a:pt x="295" y="336"/>
                    </a:lnTo>
                    <a:lnTo>
                      <a:pt x="237" y="334"/>
                    </a:lnTo>
                    <a:lnTo>
                      <a:pt x="210" y="341"/>
                    </a:lnTo>
                    <a:lnTo>
                      <a:pt x="194" y="298"/>
                    </a:lnTo>
                    <a:lnTo>
                      <a:pt x="175" y="288"/>
                    </a:lnTo>
                    <a:lnTo>
                      <a:pt x="151" y="258"/>
                    </a:lnTo>
                    <a:lnTo>
                      <a:pt x="154" y="210"/>
                    </a:lnTo>
                    <a:lnTo>
                      <a:pt x="100" y="206"/>
                    </a:lnTo>
                    <a:lnTo>
                      <a:pt x="76" y="189"/>
                    </a:lnTo>
                    <a:lnTo>
                      <a:pt x="31" y="178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39"/>
              <p:cNvSpPr/>
              <p:nvPr/>
            </p:nvSpPr>
            <p:spPr>
              <a:xfrm>
                <a:off x="2217600" y="4813560"/>
                <a:ext cx="247320" cy="3254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25440"/>
                  <a:gd name="textAreaBottom" fmla="*/ 325440 h 325440"/>
                </a:gdLst>
                <a:ahLst/>
                <a:rect l="textAreaLeft" t="textAreaTop" r="textAreaRight" b="textAreaBottom"/>
                <a:pathLst>
                  <a:path w="329" h="434">
                    <a:moveTo>
                      <a:pt x="0" y="291"/>
                    </a:moveTo>
                    <a:lnTo>
                      <a:pt x="6" y="234"/>
                    </a:lnTo>
                    <a:lnTo>
                      <a:pt x="34" y="225"/>
                    </a:lnTo>
                    <a:lnTo>
                      <a:pt x="49" y="195"/>
                    </a:lnTo>
                    <a:lnTo>
                      <a:pt x="61" y="136"/>
                    </a:lnTo>
                    <a:lnTo>
                      <a:pt x="76" y="109"/>
                    </a:lnTo>
                    <a:lnTo>
                      <a:pt x="105" y="128"/>
                    </a:lnTo>
                    <a:lnTo>
                      <a:pt x="128" y="108"/>
                    </a:lnTo>
                    <a:lnTo>
                      <a:pt x="154" y="98"/>
                    </a:lnTo>
                    <a:lnTo>
                      <a:pt x="163" y="68"/>
                    </a:lnTo>
                    <a:lnTo>
                      <a:pt x="163" y="38"/>
                    </a:lnTo>
                    <a:lnTo>
                      <a:pt x="186" y="0"/>
                    </a:lnTo>
                    <a:lnTo>
                      <a:pt x="224" y="10"/>
                    </a:lnTo>
                    <a:lnTo>
                      <a:pt x="252" y="43"/>
                    </a:lnTo>
                    <a:lnTo>
                      <a:pt x="282" y="30"/>
                    </a:lnTo>
                    <a:lnTo>
                      <a:pt x="289" y="64"/>
                    </a:lnTo>
                    <a:lnTo>
                      <a:pt x="329" y="74"/>
                    </a:lnTo>
                    <a:lnTo>
                      <a:pt x="314" y="103"/>
                    </a:lnTo>
                    <a:lnTo>
                      <a:pt x="320" y="146"/>
                    </a:lnTo>
                    <a:lnTo>
                      <a:pt x="300" y="183"/>
                    </a:lnTo>
                    <a:lnTo>
                      <a:pt x="286" y="219"/>
                    </a:lnTo>
                    <a:lnTo>
                      <a:pt x="270" y="244"/>
                    </a:lnTo>
                    <a:lnTo>
                      <a:pt x="290" y="293"/>
                    </a:lnTo>
                    <a:lnTo>
                      <a:pt x="256" y="318"/>
                    </a:lnTo>
                    <a:lnTo>
                      <a:pt x="231" y="333"/>
                    </a:lnTo>
                    <a:lnTo>
                      <a:pt x="238" y="382"/>
                    </a:lnTo>
                    <a:lnTo>
                      <a:pt x="202" y="412"/>
                    </a:lnTo>
                    <a:lnTo>
                      <a:pt x="153" y="434"/>
                    </a:lnTo>
                    <a:lnTo>
                      <a:pt x="110" y="400"/>
                    </a:lnTo>
                    <a:lnTo>
                      <a:pt x="144" y="391"/>
                    </a:lnTo>
                    <a:lnTo>
                      <a:pt x="159" y="366"/>
                    </a:lnTo>
                    <a:lnTo>
                      <a:pt x="130" y="373"/>
                    </a:lnTo>
                    <a:lnTo>
                      <a:pt x="128" y="336"/>
                    </a:lnTo>
                    <a:lnTo>
                      <a:pt x="152" y="313"/>
                    </a:lnTo>
                    <a:lnTo>
                      <a:pt x="121" y="302"/>
                    </a:lnTo>
                    <a:lnTo>
                      <a:pt x="92" y="326"/>
                    </a:lnTo>
                    <a:lnTo>
                      <a:pt x="106" y="360"/>
                    </a:lnTo>
                    <a:lnTo>
                      <a:pt x="76" y="374"/>
                    </a:lnTo>
                    <a:lnTo>
                      <a:pt x="54" y="351"/>
                    </a:lnTo>
                    <a:lnTo>
                      <a:pt x="20" y="351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640"/>
              <p:cNvSpPr/>
              <p:nvPr/>
            </p:nvSpPr>
            <p:spPr>
              <a:xfrm>
                <a:off x="1323720" y="4435560"/>
                <a:ext cx="264960" cy="33156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352" h="438">
                    <a:moveTo>
                      <a:pt x="0" y="143"/>
                    </a:moveTo>
                    <a:lnTo>
                      <a:pt x="18" y="105"/>
                    </a:lnTo>
                    <a:lnTo>
                      <a:pt x="49" y="74"/>
                    </a:lnTo>
                    <a:lnTo>
                      <a:pt x="53" y="38"/>
                    </a:lnTo>
                    <a:lnTo>
                      <a:pt x="91" y="20"/>
                    </a:lnTo>
                    <a:lnTo>
                      <a:pt x="121" y="0"/>
                    </a:lnTo>
                    <a:lnTo>
                      <a:pt x="144" y="24"/>
                    </a:lnTo>
                    <a:lnTo>
                      <a:pt x="179" y="43"/>
                    </a:lnTo>
                    <a:lnTo>
                      <a:pt x="225" y="56"/>
                    </a:lnTo>
                    <a:lnTo>
                      <a:pt x="257" y="51"/>
                    </a:lnTo>
                    <a:lnTo>
                      <a:pt x="282" y="60"/>
                    </a:lnTo>
                    <a:lnTo>
                      <a:pt x="312" y="52"/>
                    </a:lnTo>
                    <a:lnTo>
                      <a:pt x="334" y="108"/>
                    </a:lnTo>
                    <a:lnTo>
                      <a:pt x="331" y="124"/>
                    </a:lnTo>
                    <a:lnTo>
                      <a:pt x="312" y="148"/>
                    </a:lnTo>
                    <a:lnTo>
                      <a:pt x="285" y="188"/>
                    </a:lnTo>
                    <a:lnTo>
                      <a:pt x="288" y="231"/>
                    </a:lnTo>
                    <a:lnTo>
                      <a:pt x="325" y="295"/>
                    </a:lnTo>
                    <a:lnTo>
                      <a:pt x="352" y="306"/>
                    </a:lnTo>
                    <a:lnTo>
                      <a:pt x="337" y="357"/>
                    </a:lnTo>
                    <a:lnTo>
                      <a:pt x="336" y="394"/>
                    </a:lnTo>
                    <a:lnTo>
                      <a:pt x="268" y="390"/>
                    </a:lnTo>
                    <a:lnTo>
                      <a:pt x="222" y="415"/>
                    </a:lnTo>
                    <a:lnTo>
                      <a:pt x="181" y="409"/>
                    </a:lnTo>
                    <a:lnTo>
                      <a:pt x="162" y="438"/>
                    </a:lnTo>
                    <a:lnTo>
                      <a:pt x="134" y="436"/>
                    </a:lnTo>
                    <a:lnTo>
                      <a:pt x="136" y="392"/>
                    </a:lnTo>
                    <a:lnTo>
                      <a:pt x="127" y="344"/>
                    </a:lnTo>
                    <a:lnTo>
                      <a:pt x="125" y="309"/>
                    </a:lnTo>
                    <a:lnTo>
                      <a:pt x="90" y="296"/>
                    </a:lnTo>
                    <a:lnTo>
                      <a:pt x="101" y="252"/>
                    </a:lnTo>
                    <a:lnTo>
                      <a:pt x="92" y="221"/>
                    </a:lnTo>
                    <a:lnTo>
                      <a:pt x="78" y="193"/>
                    </a:lnTo>
                    <a:lnTo>
                      <a:pt x="32" y="155"/>
                    </a:lnTo>
                    <a:lnTo>
                      <a:pt x="0" y="143"/>
                    </a:lnTo>
                    <a:lnTo>
                      <a:pt x="214" y="184"/>
                    </a:lnTo>
                    <a:lnTo>
                      <a:pt x="203" y="172"/>
                    </a:lnTo>
                    <a:lnTo>
                      <a:pt x="182" y="178"/>
                    </a:lnTo>
                    <a:lnTo>
                      <a:pt x="167" y="199"/>
                    </a:lnTo>
                    <a:lnTo>
                      <a:pt x="183" y="222"/>
                    </a:lnTo>
                    <a:lnTo>
                      <a:pt x="213" y="214"/>
                    </a:lnTo>
                    <a:lnTo>
                      <a:pt x="214" y="184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641"/>
              <p:cNvSpPr/>
              <p:nvPr/>
            </p:nvSpPr>
            <p:spPr>
              <a:xfrm>
                <a:off x="1323720" y="4435560"/>
                <a:ext cx="264960" cy="33156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352" h="438">
                    <a:moveTo>
                      <a:pt x="0" y="143"/>
                    </a:moveTo>
                    <a:lnTo>
                      <a:pt x="18" y="105"/>
                    </a:lnTo>
                    <a:lnTo>
                      <a:pt x="49" y="74"/>
                    </a:lnTo>
                    <a:lnTo>
                      <a:pt x="53" y="38"/>
                    </a:lnTo>
                    <a:lnTo>
                      <a:pt x="91" y="20"/>
                    </a:lnTo>
                    <a:lnTo>
                      <a:pt x="121" y="0"/>
                    </a:lnTo>
                    <a:lnTo>
                      <a:pt x="144" y="24"/>
                    </a:lnTo>
                    <a:lnTo>
                      <a:pt x="179" y="43"/>
                    </a:lnTo>
                    <a:lnTo>
                      <a:pt x="225" y="56"/>
                    </a:lnTo>
                    <a:lnTo>
                      <a:pt x="257" y="51"/>
                    </a:lnTo>
                    <a:lnTo>
                      <a:pt x="282" y="60"/>
                    </a:lnTo>
                    <a:lnTo>
                      <a:pt x="312" y="52"/>
                    </a:lnTo>
                    <a:lnTo>
                      <a:pt x="334" y="108"/>
                    </a:lnTo>
                    <a:lnTo>
                      <a:pt x="331" y="124"/>
                    </a:lnTo>
                    <a:lnTo>
                      <a:pt x="312" y="148"/>
                    </a:lnTo>
                    <a:lnTo>
                      <a:pt x="285" y="188"/>
                    </a:lnTo>
                    <a:lnTo>
                      <a:pt x="288" y="231"/>
                    </a:lnTo>
                    <a:lnTo>
                      <a:pt x="325" y="295"/>
                    </a:lnTo>
                    <a:lnTo>
                      <a:pt x="352" y="306"/>
                    </a:lnTo>
                    <a:lnTo>
                      <a:pt x="337" y="357"/>
                    </a:lnTo>
                    <a:lnTo>
                      <a:pt x="336" y="394"/>
                    </a:lnTo>
                    <a:lnTo>
                      <a:pt x="268" y="390"/>
                    </a:lnTo>
                    <a:lnTo>
                      <a:pt x="222" y="415"/>
                    </a:lnTo>
                    <a:lnTo>
                      <a:pt x="181" y="409"/>
                    </a:lnTo>
                    <a:lnTo>
                      <a:pt x="162" y="438"/>
                    </a:lnTo>
                    <a:lnTo>
                      <a:pt x="134" y="436"/>
                    </a:lnTo>
                    <a:lnTo>
                      <a:pt x="136" y="392"/>
                    </a:lnTo>
                    <a:lnTo>
                      <a:pt x="127" y="344"/>
                    </a:lnTo>
                    <a:lnTo>
                      <a:pt x="125" y="309"/>
                    </a:lnTo>
                    <a:lnTo>
                      <a:pt x="90" y="296"/>
                    </a:lnTo>
                    <a:lnTo>
                      <a:pt x="101" y="252"/>
                    </a:lnTo>
                    <a:lnTo>
                      <a:pt x="92" y="221"/>
                    </a:lnTo>
                    <a:lnTo>
                      <a:pt x="78" y="193"/>
                    </a:lnTo>
                    <a:lnTo>
                      <a:pt x="32" y="155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adbf6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643"/>
              <p:cNvSpPr/>
              <p:nvPr/>
            </p:nvSpPr>
            <p:spPr>
              <a:xfrm>
                <a:off x="1058760" y="5559480"/>
                <a:ext cx="407880" cy="43812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542" h="585">
                    <a:moveTo>
                      <a:pt x="0" y="127"/>
                    </a:moveTo>
                    <a:lnTo>
                      <a:pt x="36" y="124"/>
                    </a:lnTo>
                    <a:lnTo>
                      <a:pt x="66" y="119"/>
                    </a:lnTo>
                    <a:lnTo>
                      <a:pt x="79" y="71"/>
                    </a:lnTo>
                    <a:lnTo>
                      <a:pt x="106" y="97"/>
                    </a:lnTo>
                    <a:lnTo>
                      <a:pt x="139" y="146"/>
                    </a:lnTo>
                    <a:lnTo>
                      <a:pt x="182" y="216"/>
                    </a:lnTo>
                    <a:lnTo>
                      <a:pt x="216" y="217"/>
                    </a:lnTo>
                    <a:lnTo>
                      <a:pt x="238" y="169"/>
                    </a:lnTo>
                    <a:lnTo>
                      <a:pt x="283" y="164"/>
                    </a:lnTo>
                    <a:lnTo>
                      <a:pt x="301" y="135"/>
                    </a:lnTo>
                    <a:lnTo>
                      <a:pt x="314" y="89"/>
                    </a:lnTo>
                    <a:lnTo>
                      <a:pt x="283" y="101"/>
                    </a:lnTo>
                    <a:lnTo>
                      <a:pt x="275" y="68"/>
                    </a:lnTo>
                    <a:lnTo>
                      <a:pt x="292" y="39"/>
                    </a:lnTo>
                    <a:lnTo>
                      <a:pt x="355" y="22"/>
                    </a:lnTo>
                    <a:lnTo>
                      <a:pt x="392" y="33"/>
                    </a:lnTo>
                    <a:lnTo>
                      <a:pt x="400" y="0"/>
                    </a:lnTo>
                    <a:lnTo>
                      <a:pt x="401" y="30"/>
                    </a:lnTo>
                    <a:lnTo>
                      <a:pt x="429" y="48"/>
                    </a:lnTo>
                    <a:lnTo>
                      <a:pt x="455" y="30"/>
                    </a:lnTo>
                    <a:lnTo>
                      <a:pt x="459" y="65"/>
                    </a:lnTo>
                    <a:lnTo>
                      <a:pt x="492" y="105"/>
                    </a:lnTo>
                    <a:lnTo>
                      <a:pt x="473" y="144"/>
                    </a:lnTo>
                    <a:lnTo>
                      <a:pt x="486" y="201"/>
                    </a:lnTo>
                    <a:lnTo>
                      <a:pt x="542" y="207"/>
                    </a:lnTo>
                    <a:lnTo>
                      <a:pt x="505" y="224"/>
                    </a:lnTo>
                    <a:lnTo>
                      <a:pt x="501" y="294"/>
                    </a:lnTo>
                    <a:lnTo>
                      <a:pt x="516" y="322"/>
                    </a:lnTo>
                    <a:lnTo>
                      <a:pt x="503" y="353"/>
                    </a:lnTo>
                    <a:lnTo>
                      <a:pt x="472" y="362"/>
                    </a:lnTo>
                    <a:lnTo>
                      <a:pt x="427" y="359"/>
                    </a:lnTo>
                    <a:lnTo>
                      <a:pt x="447" y="385"/>
                    </a:lnTo>
                    <a:lnTo>
                      <a:pt x="460" y="417"/>
                    </a:lnTo>
                    <a:lnTo>
                      <a:pt x="443" y="445"/>
                    </a:lnTo>
                    <a:lnTo>
                      <a:pt x="411" y="465"/>
                    </a:lnTo>
                    <a:lnTo>
                      <a:pt x="443" y="487"/>
                    </a:lnTo>
                    <a:lnTo>
                      <a:pt x="455" y="542"/>
                    </a:lnTo>
                    <a:lnTo>
                      <a:pt x="432" y="563"/>
                    </a:lnTo>
                    <a:lnTo>
                      <a:pt x="406" y="581"/>
                    </a:lnTo>
                    <a:lnTo>
                      <a:pt x="367" y="585"/>
                    </a:lnTo>
                    <a:lnTo>
                      <a:pt x="342" y="568"/>
                    </a:lnTo>
                    <a:lnTo>
                      <a:pt x="332" y="536"/>
                    </a:lnTo>
                    <a:lnTo>
                      <a:pt x="284" y="493"/>
                    </a:lnTo>
                    <a:lnTo>
                      <a:pt x="254" y="478"/>
                    </a:lnTo>
                    <a:lnTo>
                      <a:pt x="249" y="441"/>
                    </a:lnTo>
                    <a:lnTo>
                      <a:pt x="216" y="395"/>
                    </a:lnTo>
                    <a:lnTo>
                      <a:pt x="194" y="339"/>
                    </a:lnTo>
                    <a:lnTo>
                      <a:pt x="189" y="294"/>
                    </a:lnTo>
                    <a:lnTo>
                      <a:pt x="160" y="238"/>
                    </a:lnTo>
                    <a:lnTo>
                      <a:pt x="150" y="205"/>
                    </a:lnTo>
                    <a:lnTo>
                      <a:pt x="134" y="166"/>
                    </a:lnTo>
                    <a:lnTo>
                      <a:pt x="84" y="180"/>
                    </a:lnTo>
                    <a:lnTo>
                      <a:pt x="51" y="169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644"/>
              <p:cNvSpPr/>
              <p:nvPr/>
            </p:nvSpPr>
            <p:spPr>
              <a:xfrm>
                <a:off x="1079280" y="6007320"/>
                <a:ext cx="171360" cy="1648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25" h="220">
                    <a:moveTo>
                      <a:pt x="0" y="135"/>
                    </a:moveTo>
                    <a:lnTo>
                      <a:pt x="28" y="96"/>
                    </a:lnTo>
                    <a:lnTo>
                      <a:pt x="53" y="58"/>
                    </a:lnTo>
                    <a:lnTo>
                      <a:pt x="39" y="11"/>
                    </a:lnTo>
                    <a:lnTo>
                      <a:pt x="75" y="8"/>
                    </a:lnTo>
                    <a:lnTo>
                      <a:pt x="129" y="0"/>
                    </a:lnTo>
                    <a:lnTo>
                      <a:pt x="145" y="27"/>
                    </a:lnTo>
                    <a:lnTo>
                      <a:pt x="166" y="63"/>
                    </a:lnTo>
                    <a:lnTo>
                      <a:pt x="205" y="59"/>
                    </a:lnTo>
                    <a:lnTo>
                      <a:pt x="225" y="82"/>
                    </a:lnTo>
                    <a:lnTo>
                      <a:pt x="164" y="123"/>
                    </a:lnTo>
                    <a:lnTo>
                      <a:pt x="144" y="159"/>
                    </a:lnTo>
                    <a:lnTo>
                      <a:pt x="126" y="198"/>
                    </a:lnTo>
                    <a:lnTo>
                      <a:pt x="88" y="190"/>
                    </a:lnTo>
                    <a:lnTo>
                      <a:pt x="43" y="220"/>
                    </a:lnTo>
                    <a:lnTo>
                      <a:pt x="37" y="193"/>
                    </a:lnTo>
                    <a:lnTo>
                      <a:pt x="16" y="171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7c993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645"/>
              <p:cNvSpPr/>
              <p:nvPr/>
            </p:nvSpPr>
            <p:spPr>
              <a:xfrm>
                <a:off x="934920" y="5904000"/>
                <a:ext cx="158400" cy="10944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04" h="150">
                    <a:moveTo>
                      <a:pt x="0" y="46"/>
                    </a:moveTo>
                    <a:lnTo>
                      <a:pt x="7" y="30"/>
                    </a:lnTo>
                    <a:lnTo>
                      <a:pt x="29" y="10"/>
                    </a:lnTo>
                    <a:lnTo>
                      <a:pt x="53" y="10"/>
                    </a:lnTo>
                    <a:lnTo>
                      <a:pt x="64" y="0"/>
                    </a:lnTo>
                    <a:lnTo>
                      <a:pt x="129" y="10"/>
                    </a:lnTo>
                    <a:lnTo>
                      <a:pt x="150" y="35"/>
                    </a:lnTo>
                    <a:lnTo>
                      <a:pt x="178" y="52"/>
                    </a:lnTo>
                    <a:lnTo>
                      <a:pt x="204" y="92"/>
                    </a:lnTo>
                    <a:lnTo>
                      <a:pt x="184" y="150"/>
                    </a:lnTo>
                    <a:lnTo>
                      <a:pt x="166" y="127"/>
                    </a:lnTo>
                    <a:lnTo>
                      <a:pt x="123" y="129"/>
                    </a:lnTo>
                    <a:lnTo>
                      <a:pt x="100" y="146"/>
                    </a:lnTo>
                    <a:lnTo>
                      <a:pt x="66" y="149"/>
                    </a:lnTo>
                    <a:lnTo>
                      <a:pt x="59" y="145"/>
                    </a:lnTo>
                    <a:lnTo>
                      <a:pt x="35" y="8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646"/>
              <p:cNvSpPr/>
              <p:nvPr/>
            </p:nvSpPr>
            <p:spPr>
              <a:xfrm>
                <a:off x="936360" y="5249880"/>
                <a:ext cx="387000" cy="47124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508" h="629">
                    <a:moveTo>
                      <a:pt x="1" y="247"/>
                    </a:moveTo>
                    <a:lnTo>
                      <a:pt x="30" y="250"/>
                    </a:lnTo>
                    <a:lnTo>
                      <a:pt x="59" y="257"/>
                    </a:lnTo>
                    <a:lnTo>
                      <a:pt x="86" y="233"/>
                    </a:lnTo>
                    <a:lnTo>
                      <a:pt x="34" y="219"/>
                    </a:lnTo>
                    <a:lnTo>
                      <a:pt x="13" y="187"/>
                    </a:lnTo>
                    <a:lnTo>
                      <a:pt x="50" y="150"/>
                    </a:lnTo>
                    <a:lnTo>
                      <a:pt x="93" y="163"/>
                    </a:lnTo>
                    <a:lnTo>
                      <a:pt x="171" y="197"/>
                    </a:lnTo>
                    <a:lnTo>
                      <a:pt x="210" y="174"/>
                    </a:lnTo>
                    <a:lnTo>
                      <a:pt x="237" y="165"/>
                    </a:lnTo>
                    <a:lnTo>
                      <a:pt x="244" y="131"/>
                    </a:lnTo>
                    <a:lnTo>
                      <a:pt x="242" y="98"/>
                    </a:lnTo>
                    <a:lnTo>
                      <a:pt x="278" y="101"/>
                    </a:lnTo>
                    <a:lnTo>
                      <a:pt x="275" y="47"/>
                    </a:lnTo>
                    <a:lnTo>
                      <a:pt x="332" y="45"/>
                    </a:lnTo>
                    <a:lnTo>
                      <a:pt x="346" y="18"/>
                    </a:lnTo>
                    <a:lnTo>
                      <a:pt x="404" y="34"/>
                    </a:lnTo>
                    <a:lnTo>
                      <a:pt x="425" y="33"/>
                    </a:lnTo>
                    <a:lnTo>
                      <a:pt x="452" y="18"/>
                    </a:lnTo>
                    <a:lnTo>
                      <a:pt x="485" y="2"/>
                    </a:lnTo>
                    <a:lnTo>
                      <a:pt x="495" y="0"/>
                    </a:lnTo>
                    <a:lnTo>
                      <a:pt x="490" y="20"/>
                    </a:lnTo>
                    <a:lnTo>
                      <a:pt x="501" y="65"/>
                    </a:lnTo>
                    <a:lnTo>
                      <a:pt x="508" y="109"/>
                    </a:lnTo>
                    <a:lnTo>
                      <a:pt x="471" y="141"/>
                    </a:lnTo>
                    <a:lnTo>
                      <a:pt x="459" y="175"/>
                    </a:lnTo>
                    <a:lnTo>
                      <a:pt x="471" y="207"/>
                    </a:lnTo>
                    <a:lnTo>
                      <a:pt x="464" y="241"/>
                    </a:lnTo>
                    <a:lnTo>
                      <a:pt x="438" y="261"/>
                    </a:lnTo>
                    <a:lnTo>
                      <a:pt x="419" y="268"/>
                    </a:lnTo>
                    <a:lnTo>
                      <a:pt x="400" y="266"/>
                    </a:lnTo>
                    <a:lnTo>
                      <a:pt x="359" y="305"/>
                    </a:lnTo>
                    <a:lnTo>
                      <a:pt x="396" y="333"/>
                    </a:lnTo>
                    <a:lnTo>
                      <a:pt x="403" y="363"/>
                    </a:lnTo>
                    <a:lnTo>
                      <a:pt x="402" y="437"/>
                    </a:lnTo>
                    <a:lnTo>
                      <a:pt x="437" y="480"/>
                    </a:lnTo>
                    <a:lnTo>
                      <a:pt x="445" y="513"/>
                    </a:lnTo>
                    <a:lnTo>
                      <a:pt x="476" y="501"/>
                    </a:lnTo>
                    <a:lnTo>
                      <a:pt x="463" y="547"/>
                    </a:lnTo>
                    <a:lnTo>
                      <a:pt x="445" y="576"/>
                    </a:lnTo>
                    <a:lnTo>
                      <a:pt x="400" y="581"/>
                    </a:lnTo>
                    <a:lnTo>
                      <a:pt x="378" y="629"/>
                    </a:lnTo>
                    <a:lnTo>
                      <a:pt x="344" y="628"/>
                    </a:lnTo>
                    <a:lnTo>
                      <a:pt x="301" y="558"/>
                    </a:lnTo>
                    <a:lnTo>
                      <a:pt x="268" y="509"/>
                    </a:lnTo>
                    <a:lnTo>
                      <a:pt x="241" y="483"/>
                    </a:lnTo>
                    <a:lnTo>
                      <a:pt x="228" y="531"/>
                    </a:lnTo>
                    <a:lnTo>
                      <a:pt x="198" y="536"/>
                    </a:lnTo>
                    <a:lnTo>
                      <a:pt x="162" y="539"/>
                    </a:lnTo>
                    <a:lnTo>
                      <a:pt x="116" y="510"/>
                    </a:lnTo>
                    <a:lnTo>
                      <a:pt x="130" y="457"/>
                    </a:lnTo>
                    <a:lnTo>
                      <a:pt x="109" y="439"/>
                    </a:lnTo>
                    <a:lnTo>
                      <a:pt x="80" y="408"/>
                    </a:lnTo>
                    <a:lnTo>
                      <a:pt x="77" y="377"/>
                    </a:lnTo>
                    <a:lnTo>
                      <a:pt x="96" y="344"/>
                    </a:lnTo>
                    <a:lnTo>
                      <a:pt x="73" y="323"/>
                    </a:lnTo>
                    <a:lnTo>
                      <a:pt x="30" y="307"/>
                    </a:lnTo>
                    <a:lnTo>
                      <a:pt x="0" y="285"/>
                    </a:lnTo>
                    <a:lnTo>
                      <a:pt x="1" y="24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647"/>
              <p:cNvSpPr/>
              <p:nvPr/>
            </p:nvSpPr>
            <p:spPr>
              <a:xfrm>
                <a:off x="1252440" y="5430960"/>
                <a:ext cx="25200" cy="266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0" y="27"/>
                    </a:moveTo>
                    <a:lnTo>
                      <a:pt x="19" y="20"/>
                    </a:lnTo>
                    <a:lnTo>
                      <a:pt x="45" y="0"/>
                    </a:lnTo>
                    <a:lnTo>
                      <a:pt x="39" y="32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48"/>
              <p:cNvSpPr/>
              <p:nvPr/>
            </p:nvSpPr>
            <p:spPr>
              <a:xfrm>
                <a:off x="958680" y="5632560"/>
                <a:ext cx="295200" cy="3808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384" h="506">
                    <a:moveTo>
                      <a:pt x="84" y="0"/>
                    </a:moveTo>
                    <a:lnTo>
                      <a:pt x="130" y="29"/>
                    </a:lnTo>
                    <a:lnTo>
                      <a:pt x="181" y="71"/>
                    </a:lnTo>
                    <a:lnTo>
                      <a:pt x="214" y="82"/>
                    </a:lnTo>
                    <a:lnTo>
                      <a:pt x="264" y="68"/>
                    </a:lnTo>
                    <a:lnTo>
                      <a:pt x="280" y="107"/>
                    </a:lnTo>
                    <a:lnTo>
                      <a:pt x="290" y="140"/>
                    </a:lnTo>
                    <a:lnTo>
                      <a:pt x="319" y="196"/>
                    </a:lnTo>
                    <a:lnTo>
                      <a:pt x="324" y="241"/>
                    </a:lnTo>
                    <a:lnTo>
                      <a:pt x="346" y="297"/>
                    </a:lnTo>
                    <a:lnTo>
                      <a:pt x="379" y="343"/>
                    </a:lnTo>
                    <a:lnTo>
                      <a:pt x="384" y="380"/>
                    </a:lnTo>
                    <a:lnTo>
                      <a:pt x="364" y="409"/>
                    </a:lnTo>
                    <a:lnTo>
                      <a:pt x="333" y="418"/>
                    </a:lnTo>
                    <a:lnTo>
                      <a:pt x="305" y="425"/>
                    </a:lnTo>
                    <a:lnTo>
                      <a:pt x="308" y="456"/>
                    </a:lnTo>
                    <a:lnTo>
                      <a:pt x="275" y="444"/>
                    </a:lnTo>
                    <a:lnTo>
                      <a:pt x="290" y="495"/>
                    </a:lnTo>
                    <a:lnTo>
                      <a:pt x="236" y="503"/>
                    </a:lnTo>
                    <a:lnTo>
                      <a:pt x="200" y="506"/>
                    </a:lnTo>
                    <a:lnTo>
                      <a:pt x="210" y="479"/>
                    </a:lnTo>
                    <a:lnTo>
                      <a:pt x="171" y="451"/>
                    </a:lnTo>
                    <a:lnTo>
                      <a:pt x="145" y="411"/>
                    </a:lnTo>
                    <a:lnTo>
                      <a:pt x="117" y="394"/>
                    </a:lnTo>
                    <a:lnTo>
                      <a:pt x="96" y="369"/>
                    </a:lnTo>
                    <a:lnTo>
                      <a:pt x="31" y="359"/>
                    </a:lnTo>
                    <a:lnTo>
                      <a:pt x="26" y="326"/>
                    </a:lnTo>
                    <a:lnTo>
                      <a:pt x="29" y="294"/>
                    </a:lnTo>
                    <a:lnTo>
                      <a:pt x="52" y="277"/>
                    </a:lnTo>
                    <a:lnTo>
                      <a:pt x="33" y="255"/>
                    </a:lnTo>
                    <a:lnTo>
                      <a:pt x="15" y="222"/>
                    </a:lnTo>
                    <a:lnTo>
                      <a:pt x="0" y="170"/>
                    </a:lnTo>
                    <a:lnTo>
                      <a:pt x="39" y="152"/>
                    </a:lnTo>
                    <a:lnTo>
                      <a:pt x="25" y="121"/>
                    </a:lnTo>
                    <a:lnTo>
                      <a:pt x="21" y="91"/>
                    </a:lnTo>
                    <a:lnTo>
                      <a:pt x="32" y="35"/>
                    </a:lnTo>
                    <a:lnTo>
                      <a:pt x="59" y="24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49"/>
              <p:cNvSpPr/>
              <p:nvPr/>
            </p:nvSpPr>
            <p:spPr>
              <a:xfrm>
                <a:off x="979200" y="5973840"/>
                <a:ext cx="137880" cy="1126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84" h="149">
                    <a:moveTo>
                      <a:pt x="0" y="53"/>
                    </a:moveTo>
                    <a:lnTo>
                      <a:pt x="7" y="57"/>
                    </a:lnTo>
                    <a:lnTo>
                      <a:pt x="41" y="54"/>
                    </a:lnTo>
                    <a:lnTo>
                      <a:pt x="64" y="37"/>
                    </a:lnTo>
                    <a:lnTo>
                      <a:pt x="107" y="35"/>
                    </a:lnTo>
                    <a:lnTo>
                      <a:pt x="125" y="58"/>
                    </a:lnTo>
                    <a:lnTo>
                      <a:pt x="145" y="0"/>
                    </a:lnTo>
                    <a:lnTo>
                      <a:pt x="184" y="28"/>
                    </a:lnTo>
                    <a:lnTo>
                      <a:pt x="174" y="55"/>
                    </a:lnTo>
                    <a:lnTo>
                      <a:pt x="142" y="43"/>
                    </a:lnTo>
                    <a:lnTo>
                      <a:pt x="136" y="90"/>
                    </a:lnTo>
                    <a:lnTo>
                      <a:pt x="142" y="133"/>
                    </a:lnTo>
                    <a:lnTo>
                      <a:pt x="96" y="149"/>
                    </a:lnTo>
                    <a:lnTo>
                      <a:pt x="65" y="139"/>
                    </a:lnTo>
                    <a:lnTo>
                      <a:pt x="35" y="142"/>
                    </a:lnTo>
                    <a:lnTo>
                      <a:pt x="16" y="113"/>
                    </a:lnTo>
                    <a:lnTo>
                      <a:pt x="15" y="7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50"/>
              <p:cNvSpPr/>
              <p:nvPr/>
            </p:nvSpPr>
            <p:spPr>
              <a:xfrm>
                <a:off x="1366560" y="5564520"/>
                <a:ext cx="210960" cy="40320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281" h="539">
                    <a:moveTo>
                      <a:pt x="44" y="27"/>
                    </a:moveTo>
                    <a:lnTo>
                      <a:pt x="72" y="3"/>
                    </a:lnTo>
                    <a:lnTo>
                      <a:pt x="110" y="20"/>
                    </a:lnTo>
                    <a:lnTo>
                      <a:pt x="172" y="0"/>
                    </a:lnTo>
                    <a:lnTo>
                      <a:pt x="191" y="38"/>
                    </a:lnTo>
                    <a:lnTo>
                      <a:pt x="211" y="70"/>
                    </a:lnTo>
                    <a:lnTo>
                      <a:pt x="229" y="148"/>
                    </a:lnTo>
                    <a:lnTo>
                      <a:pt x="202" y="194"/>
                    </a:lnTo>
                    <a:lnTo>
                      <a:pt x="205" y="224"/>
                    </a:lnTo>
                    <a:lnTo>
                      <a:pt x="272" y="267"/>
                    </a:lnTo>
                    <a:lnTo>
                      <a:pt x="279" y="298"/>
                    </a:lnTo>
                    <a:lnTo>
                      <a:pt x="281" y="367"/>
                    </a:lnTo>
                    <a:lnTo>
                      <a:pt x="270" y="435"/>
                    </a:lnTo>
                    <a:lnTo>
                      <a:pt x="244" y="411"/>
                    </a:lnTo>
                    <a:lnTo>
                      <a:pt x="227" y="441"/>
                    </a:lnTo>
                    <a:lnTo>
                      <a:pt x="251" y="485"/>
                    </a:lnTo>
                    <a:lnTo>
                      <a:pt x="229" y="509"/>
                    </a:lnTo>
                    <a:lnTo>
                      <a:pt x="202" y="519"/>
                    </a:lnTo>
                    <a:lnTo>
                      <a:pt x="143" y="518"/>
                    </a:lnTo>
                    <a:lnTo>
                      <a:pt x="114" y="519"/>
                    </a:lnTo>
                    <a:lnTo>
                      <a:pt x="81" y="486"/>
                    </a:lnTo>
                    <a:lnTo>
                      <a:pt x="70" y="515"/>
                    </a:lnTo>
                    <a:lnTo>
                      <a:pt x="44" y="539"/>
                    </a:lnTo>
                    <a:lnTo>
                      <a:pt x="32" y="484"/>
                    </a:lnTo>
                    <a:lnTo>
                      <a:pt x="0" y="462"/>
                    </a:lnTo>
                    <a:lnTo>
                      <a:pt x="32" y="442"/>
                    </a:lnTo>
                    <a:lnTo>
                      <a:pt x="49" y="414"/>
                    </a:lnTo>
                    <a:lnTo>
                      <a:pt x="36" y="382"/>
                    </a:lnTo>
                    <a:lnTo>
                      <a:pt x="16" y="356"/>
                    </a:lnTo>
                    <a:lnTo>
                      <a:pt x="61" y="359"/>
                    </a:lnTo>
                    <a:lnTo>
                      <a:pt x="92" y="350"/>
                    </a:lnTo>
                    <a:lnTo>
                      <a:pt x="105" y="319"/>
                    </a:lnTo>
                    <a:lnTo>
                      <a:pt x="90" y="291"/>
                    </a:lnTo>
                    <a:lnTo>
                      <a:pt x="94" y="221"/>
                    </a:lnTo>
                    <a:lnTo>
                      <a:pt x="131" y="204"/>
                    </a:lnTo>
                    <a:lnTo>
                      <a:pt x="75" y="198"/>
                    </a:lnTo>
                    <a:lnTo>
                      <a:pt x="62" y="141"/>
                    </a:lnTo>
                    <a:lnTo>
                      <a:pt x="81" y="102"/>
                    </a:lnTo>
                    <a:lnTo>
                      <a:pt x="48" y="62"/>
                    </a:lnTo>
                    <a:lnTo>
                      <a:pt x="44" y="2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51"/>
              <p:cNvSpPr/>
              <p:nvPr/>
            </p:nvSpPr>
            <p:spPr>
              <a:xfrm>
                <a:off x="1487160" y="5970960"/>
                <a:ext cx="10800" cy="61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0" y="10"/>
                    </a:moveTo>
                    <a:lnTo>
                      <a:pt x="5" y="0"/>
                    </a:lnTo>
                    <a:lnTo>
                      <a:pt x="14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52"/>
              <p:cNvSpPr/>
              <p:nvPr/>
            </p:nvSpPr>
            <p:spPr>
              <a:xfrm>
                <a:off x="849240" y="5791320"/>
                <a:ext cx="150480" cy="1458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01" h="194">
                    <a:moveTo>
                      <a:pt x="0" y="56"/>
                    </a:moveTo>
                    <a:lnTo>
                      <a:pt x="9" y="34"/>
                    </a:lnTo>
                    <a:lnTo>
                      <a:pt x="32" y="28"/>
                    </a:lnTo>
                    <a:lnTo>
                      <a:pt x="39" y="14"/>
                    </a:lnTo>
                    <a:lnTo>
                      <a:pt x="46" y="19"/>
                    </a:lnTo>
                    <a:lnTo>
                      <a:pt x="56" y="0"/>
                    </a:lnTo>
                    <a:lnTo>
                      <a:pt x="63" y="1"/>
                    </a:lnTo>
                    <a:lnTo>
                      <a:pt x="78" y="24"/>
                    </a:lnTo>
                    <a:lnTo>
                      <a:pt x="80" y="38"/>
                    </a:lnTo>
                    <a:lnTo>
                      <a:pt x="102" y="41"/>
                    </a:lnTo>
                    <a:lnTo>
                      <a:pt x="106" y="34"/>
                    </a:lnTo>
                    <a:lnTo>
                      <a:pt x="126" y="32"/>
                    </a:lnTo>
                    <a:lnTo>
                      <a:pt x="137" y="22"/>
                    </a:lnTo>
                    <a:lnTo>
                      <a:pt x="164" y="11"/>
                    </a:lnTo>
                    <a:lnTo>
                      <a:pt x="182" y="44"/>
                    </a:lnTo>
                    <a:lnTo>
                      <a:pt x="201" y="66"/>
                    </a:lnTo>
                    <a:lnTo>
                      <a:pt x="178" y="83"/>
                    </a:lnTo>
                    <a:lnTo>
                      <a:pt x="175" y="115"/>
                    </a:lnTo>
                    <a:lnTo>
                      <a:pt x="180" y="148"/>
                    </a:lnTo>
                    <a:lnTo>
                      <a:pt x="169" y="158"/>
                    </a:lnTo>
                    <a:lnTo>
                      <a:pt x="145" y="158"/>
                    </a:lnTo>
                    <a:lnTo>
                      <a:pt x="123" y="178"/>
                    </a:lnTo>
                    <a:lnTo>
                      <a:pt x="116" y="194"/>
                    </a:lnTo>
                    <a:lnTo>
                      <a:pt x="91" y="179"/>
                    </a:lnTo>
                    <a:lnTo>
                      <a:pt x="59" y="151"/>
                    </a:lnTo>
                    <a:lnTo>
                      <a:pt x="14" y="92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dbf6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53"/>
              <p:cNvSpPr/>
              <p:nvPr/>
            </p:nvSpPr>
            <p:spPr>
              <a:xfrm>
                <a:off x="819000" y="5612040"/>
                <a:ext cx="110880" cy="1728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148" h="229">
                    <a:moveTo>
                      <a:pt x="67" y="43"/>
                    </a:moveTo>
                    <a:lnTo>
                      <a:pt x="47" y="70"/>
                    </a:lnTo>
                    <a:lnTo>
                      <a:pt x="18" y="43"/>
                    </a:lnTo>
                    <a:lnTo>
                      <a:pt x="0" y="0"/>
                    </a:lnTo>
                    <a:lnTo>
                      <a:pt x="33" y="23"/>
                    </a:lnTo>
                    <a:lnTo>
                      <a:pt x="95" y="28"/>
                    </a:lnTo>
                    <a:lnTo>
                      <a:pt x="142" y="77"/>
                    </a:lnTo>
                    <a:lnTo>
                      <a:pt x="148" y="122"/>
                    </a:lnTo>
                    <a:lnTo>
                      <a:pt x="125" y="192"/>
                    </a:lnTo>
                    <a:lnTo>
                      <a:pt x="135" y="161"/>
                    </a:lnTo>
                    <a:lnTo>
                      <a:pt x="100" y="186"/>
                    </a:lnTo>
                    <a:lnTo>
                      <a:pt x="74" y="200"/>
                    </a:lnTo>
                    <a:lnTo>
                      <a:pt x="61" y="224"/>
                    </a:lnTo>
                    <a:lnTo>
                      <a:pt x="32" y="229"/>
                    </a:lnTo>
                    <a:lnTo>
                      <a:pt x="24" y="198"/>
                    </a:lnTo>
                    <a:lnTo>
                      <a:pt x="26" y="161"/>
                    </a:lnTo>
                    <a:lnTo>
                      <a:pt x="53" y="174"/>
                    </a:lnTo>
                    <a:lnTo>
                      <a:pt x="51" y="137"/>
                    </a:lnTo>
                    <a:lnTo>
                      <a:pt x="71" y="110"/>
                    </a:lnTo>
                    <a:lnTo>
                      <a:pt x="109" y="88"/>
                    </a:lnTo>
                    <a:lnTo>
                      <a:pt x="92" y="61"/>
                    </a:lnTo>
                    <a:lnTo>
                      <a:pt x="67" y="43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54"/>
              <p:cNvSpPr/>
              <p:nvPr/>
            </p:nvSpPr>
            <p:spPr>
              <a:xfrm>
                <a:off x="1052280" y="6004080"/>
                <a:ext cx="66600" cy="102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92" h="136">
                    <a:moveTo>
                      <a:pt x="0" y="106"/>
                    </a:moveTo>
                    <a:lnTo>
                      <a:pt x="46" y="90"/>
                    </a:lnTo>
                    <a:lnTo>
                      <a:pt x="40" y="47"/>
                    </a:lnTo>
                    <a:lnTo>
                      <a:pt x="46" y="0"/>
                    </a:lnTo>
                    <a:lnTo>
                      <a:pt x="78" y="12"/>
                    </a:lnTo>
                    <a:lnTo>
                      <a:pt x="92" y="59"/>
                    </a:lnTo>
                    <a:lnTo>
                      <a:pt x="67" y="97"/>
                    </a:lnTo>
                    <a:lnTo>
                      <a:pt x="39" y="13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655"/>
              <p:cNvSpPr/>
              <p:nvPr/>
            </p:nvSpPr>
            <p:spPr>
              <a:xfrm>
                <a:off x="711000" y="5408640"/>
                <a:ext cx="323640" cy="4251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430" h="568">
                    <a:moveTo>
                      <a:pt x="301" y="38"/>
                    </a:moveTo>
                    <a:lnTo>
                      <a:pt x="300" y="76"/>
                    </a:lnTo>
                    <a:lnTo>
                      <a:pt x="330" y="98"/>
                    </a:lnTo>
                    <a:lnTo>
                      <a:pt x="373" y="114"/>
                    </a:lnTo>
                    <a:lnTo>
                      <a:pt x="396" y="135"/>
                    </a:lnTo>
                    <a:lnTo>
                      <a:pt x="377" y="168"/>
                    </a:lnTo>
                    <a:lnTo>
                      <a:pt x="380" y="199"/>
                    </a:lnTo>
                    <a:lnTo>
                      <a:pt x="409" y="230"/>
                    </a:lnTo>
                    <a:lnTo>
                      <a:pt x="430" y="248"/>
                    </a:lnTo>
                    <a:lnTo>
                      <a:pt x="416" y="301"/>
                    </a:lnTo>
                    <a:lnTo>
                      <a:pt x="391" y="325"/>
                    </a:lnTo>
                    <a:lnTo>
                      <a:pt x="364" y="336"/>
                    </a:lnTo>
                    <a:lnTo>
                      <a:pt x="353" y="392"/>
                    </a:lnTo>
                    <a:lnTo>
                      <a:pt x="357" y="422"/>
                    </a:lnTo>
                    <a:lnTo>
                      <a:pt x="371" y="453"/>
                    </a:lnTo>
                    <a:lnTo>
                      <a:pt x="332" y="471"/>
                    </a:lnTo>
                    <a:lnTo>
                      <a:pt x="347" y="523"/>
                    </a:lnTo>
                    <a:lnTo>
                      <a:pt x="320" y="534"/>
                    </a:lnTo>
                    <a:lnTo>
                      <a:pt x="309" y="544"/>
                    </a:lnTo>
                    <a:lnTo>
                      <a:pt x="289" y="546"/>
                    </a:lnTo>
                    <a:lnTo>
                      <a:pt x="285" y="553"/>
                    </a:lnTo>
                    <a:lnTo>
                      <a:pt x="263" y="550"/>
                    </a:lnTo>
                    <a:lnTo>
                      <a:pt x="261" y="536"/>
                    </a:lnTo>
                    <a:lnTo>
                      <a:pt x="246" y="513"/>
                    </a:lnTo>
                    <a:lnTo>
                      <a:pt x="239" y="512"/>
                    </a:lnTo>
                    <a:lnTo>
                      <a:pt x="229" y="531"/>
                    </a:lnTo>
                    <a:lnTo>
                      <a:pt x="222" y="526"/>
                    </a:lnTo>
                    <a:lnTo>
                      <a:pt x="215" y="540"/>
                    </a:lnTo>
                    <a:lnTo>
                      <a:pt x="192" y="546"/>
                    </a:lnTo>
                    <a:lnTo>
                      <a:pt x="183" y="568"/>
                    </a:lnTo>
                    <a:lnTo>
                      <a:pt x="159" y="539"/>
                    </a:lnTo>
                    <a:lnTo>
                      <a:pt x="109" y="530"/>
                    </a:lnTo>
                    <a:lnTo>
                      <a:pt x="105" y="496"/>
                    </a:lnTo>
                    <a:lnTo>
                      <a:pt x="98" y="448"/>
                    </a:lnTo>
                    <a:lnTo>
                      <a:pt x="91" y="403"/>
                    </a:lnTo>
                    <a:lnTo>
                      <a:pt x="93" y="362"/>
                    </a:lnTo>
                    <a:lnTo>
                      <a:pt x="61" y="312"/>
                    </a:lnTo>
                    <a:lnTo>
                      <a:pt x="55" y="268"/>
                    </a:lnTo>
                    <a:lnTo>
                      <a:pt x="28" y="232"/>
                    </a:lnTo>
                    <a:lnTo>
                      <a:pt x="29" y="192"/>
                    </a:lnTo>
                    <a:lnTo>
                      <a:pt x="21" y="157"/>
                    </a:lnTo>
                    <a:lnTo>
                      <a:pt x="0" y="124"/>
                    </a:lnTo>
                    <a:lnTo>
                      <a:pt x="28" y="124"/>
                    </a:lnTo>
                    <a:lnTo>
                      <a:pt x="24" y="92"/>
                    </a:lnTo>
                    <a:lnTo>
                      <a:pt x="47" y="113"/>
                    </a:lnTo>
                    <a:lnTo>
                      <a:pt x="57" y="154"/>
                    </a:lnTo>
                    <a:lnTo>
                      <a:pt x="105" y="136"/>
                    </a:lnTo>
                    <a:lnTo>
                      <a:pt x="144" y="123"/>
                    </a:lnTo>
                    <a:lnTo>
                      <a:pt x="190" y="92"/>
                    </a:lnTo>
                    <a:lnTo>
                      <a:pt x="220" y="92"/>
                    </a:lnTo>
                    <a:lnTo>
                      <a:pt x="223" y="133"/>
                    </a:lnTo>
                    <a:lnTo>
                      <a:pt x="224" y="98"/>
                    </a:lnTo>
                    <a:lnTo>
                      <a:pt x="222" y="63"/>
                    </a:lnTo>
                    <a:lnTo>
                      <a:pt x="210" y="36"/>
                    </a:lnTo>
                    <a:lnTo>
                      <a:pt x="218" y="0"/>
                    </a:lnTo>
                    <a:lnTo>
                      <a:pt x="253" y="36"/>
                    </a:lnTo>
                    <a:lnTo>
                      <a:pt x="272" y="58"/>
                    </a:lnTo>
                    <a:lnTo>
                      <a:pt x="301" y="38"/>
                    </a:lnTo>
                    <a:lnTo>
                      <a:pt x="211" y="316"/>
                    </a:lnTo>
                    <a:lnTo>
                      <a:pt x="236" y="334"/>
                    </a:lnTo>
                    <a:lnTo>
                      <a:pt x="253" y="361"/>
                    </a:lnTo>
                    <a:lnTo>
                      <a:pt x="215" y="383"/>
                    </a:lnTo>
                    <a:lnTo>
                      <a:pt x="195" y="410"/>
                    </a:lnTo>
                    <a:lnTo>
                      <a:pt x="197" y="447"/>
                    </a:lnTo>
                    <a:lnTo>
                      <a:pt x="170" y="434"/>
                    </a:lnTo>
                    <a:lnTo>
                      <a:pt x="168" y="471"/>
                    </a:lnTo>
                    <a:lnTo>
                      <a:pt x="176" y="502"/>
                    </a:lnTo>
                    <a:lnTo>
                      <a:pt x="205" y="497"/>
                    </a:lnTo>
                    <a:lnTo>
                      <a:pt x="218" y="473"/>
                    </a:lnTo>
                    <a:lnTo>
                      <a:pt x="244" y="459"/>
                    </a:lnTo>
                    <a:lnTo>
                      <a:pt x="279" y="434"/>
                    </a:lnTo>
                    <a:lnTo>
                      <a:pt x="269" y="465"/>
                    </a:lnTo>
                    <a:lnTo>
                      <a:pt x="292" y="395"/>
                    </a:lnTo>
                    <a:lnTo>
                      <a:pt x="286" y="350"/>
                    </a:lnTo>
                    <a:lnTo>
                      <a:pt x="239" y="301"/>
                    </a:lnTo>
                    <a:lnTo>
                      <a:pt x="177" y="296"/>
                    </a:lnTo>
                    <a:lnTo>
                      <a:pt x="144" y="273"/>
                    </a:lnTo>
                    <a:lnTo>
                      <a:pt x="162" y="316"/>
                    </a:lnTo>
                    <a:lnTo>
                      <a:pt x="191" y="343"/>
                    </a:lnTo>
                    <a:lnTo>
                      <a:pt x="211" y="316"/>
                    </a:lnTo>
                    <a:lnTo>
                      <a:pt x="301" y="3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656"/>
              <p:cNvSpPr/>
              <p:nvPr/>
            </p:nvSpPr>
            <p:spPr>
              <a:xfrm>
                <a:off x="711000" y="5408640"/>
                <a:ext cx="323640" cy="4251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430" h="568">
                    <a:moveTo>
                      <a:pt x="301" y="38"/>
                    </a:moveTo>
                    <a:lnTo>
                      <a:pt x="300" y="76"/>
                    </a:lnTo>
                    <a:lnTo>
                      <a:pt x="330" y="98"/>
                    </a:lnTo>
                    <a:lnTo>
                      <a:pt x="373" y="114"/>
                    </a:lnTo>
                    <a:lnTo>
                      <a:pt x="396" y="135"/>
                    </a:lnTo>
                    <a:lnTo>
                      <a:pt x="377" y="168"/>
                    </a:lnTo>
                    <a:lnTo>
                      <a:pt x="380" y="199"/>
                    </a:lnTo>
                    <a:lnTo>
                      <a:pt x="409" y="230"/>
                    </a:lnTo>
                    <a:lnTo>
                      <a:pt x="430" y="248"/>
                    </a:lnTo>
                    <a:lnTo>
                      <a:pt x="416" y="301"/>
                    </a:lnTo>
                    <a:lnTo>
                      <a:pt x="391" y="325"/>
                    </a:lnTo>
                    <a:lnTo>
                      <a:pt x="364" y="336"/>
                    </a:lnTo>
                    <a:lnTo>
                      <a:pt x="353" y="392"/>
                    </a:lnTo>
                    <a:lnTo>
                      <a:pt x="357" y="422"/>
                    </a:lnTo>
                    <a:lnTo>
                      <a:pt x="371" y="453"/>
                    </a:lnTo>
                    <a:lnTo>
                      <a:pt x="332" y="471"/>
                    </a:lnTo>
                    <a:lnTo>
                      <a:pt x="347" y="523"/>
                    </a:lnTo>
                    <a:lnTo>
                      <a:pt x="320" y="534"/>
                    </a:lnTo>
                    <a:lnTo>
                      <a:pt x="309" y="544"/>
                    </a:lnTo>
                    <a:lnTo>
                      <a:pt x="289" y="546"/>
                    </a:lnTo>
                    <a:lnTo>
                      <a:pt x="285" y="553"/>
                    </a:lnTo>
                    <a:lnTo>
                      <a:pt x="263" y="550"/>
                    </a:lnTo>
                    <a:lnTo>
                      <a:pt x="261" y="536"/>
                    </a:lnTo>
                    <a:lnTo>
                      <a:pt x="246" y="513"/>
                    </a:lnTo>
                    <a:lnTo>
                      <a:pt x="239" y="512"/>
                    </a:lnTo>
                    <a:lnTo>
                      <a:pt x="229" y="531"/>
                    </a:lnTo>
                    <a:lnTo>
                      <a:pt x="222" y="526"/>
                    </a:lnTo>
                    <a:lnTo>
                      <a:pt x="215" y="540"/>
                    </a:lnTo>
                    <a:lnTo>
                      <a:pt x="192" y="546"/>
                    </a:lnTo>
                    <a:lnTo>
                      <a:pt x="183" y="568"/>
                    </a:lnTo>
                    <a:lnTo>
                      <a:pt x="159" y="539"/>
                    </a:lnTo>
                    <a:lnTo>
                      <a:pt x="109" y="530"/>
                    </a:lnTo>
                    <a:lnTo>
                      <a:pt x="105" y="496"/>
                    </a:lnTo>
                    <a:lnTo>
                      <a:pt x="98" y="448"/>
                    </a:lnTo>
                    <a:lnTo>
                      <a:pt x="91" y="403"/>
                    </a:lnTo>
                    <a:lnTo>
                      <a:pt x="93" y="362"/>
                    </a:lnTo>
                    <a:lnTo>
                      <a:pt x="61" y="312"/>
                    </a:lnTo>
                    <a:lnTo>
                      <a:pt x="55" y="268"/>
                    </a:lnTo>
                    <a:lnTo>
                      <a:pt x="28" y="232"/>
                    </a:lnTo>
                    <a:lnTo>
                      <a:pt x="29" y="192"/>
                    </a:lnTo>
                    <a:lnTo>
                      <a:pt x="21" y="157"/>
                    </a:lnTo>
                    <a:lnTo>
                      <a:pt x="0" y="124"/>
                    </a:lnTo>
                    <a:lnTo>
                      <a:pt x="28" y="124"/>
                    </a:lnTo>
                    <a:lnTo>
                      <a:pt x="24" y="92"/>
                    </a:lnTo>
                    <a:lnTo>
                      <a:pt x="47" y="113"/>
                    </a:lnTo>
                    <a:lnTo>
                      <a:pt x="57" y="154"/>
                    </a:lnTo>
                    <a:lnTo>
                      <a:pt x="105" y="136"/>
                    </a:lnTo>
                    <a:lnTo>
                      <a:pt x="144" y="123"/>
                    </a:lnTo>
                    <a:lnTo>
                      <a:pt x="190" y="92"/>
                    </a:lnTo>
                    <a:lnTo>
                      <a:pt x="220" y="92"/>
                    </a:lnTo>
                    <a:lnTo>
                      <a:pt x="223" y="133"/>
                    </a:lnTo>
                    <a:lnTo>
                      <a:pt x="224" y="98"/>
                    </a:lnTo>
                    <a:lnTo>
                      <a:pt x="222" y="63"/>
                    </a:lnTo>
                    <a:lnTo>
                      <a:pt x="210" y="36"/>
                    </a:lnTo>
                    <a:lnTo>
                      <a:pt x="218" y="0"/>
                    </a:lnTo>
                    <a:lnTo>
                      <a:pt x="253" y="36"/>
                    </a:lnTo>
                    <a:lnTo>
                      <a:pt x="272" y="58"/>
                    </a:lnTo>
                    <a:lnTo>
                      <a:pt x="301" y="3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657"/>
              <p:cNvSpPr/>
              <p:nvPr/>
            </p:nvSpPr>
            <p:spPr>
              <a:xfrm>
                <a:off x="819000" y="5612040"/>
                <a:ext cx="110880" cy="1728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148" h="229">
                    <a:moveTo>
                      <a:pt x="67" y="43"/>
                    </a:moveTo>
                    <a:lnTo>
                      <a:pt x="92" y="61"/>
                    </a:lnTo>
                    <a:lnTo>
                      <a:pt x="109" y="88"/>
                    </a:lnTo>
                    <a:lnTo>
                      <a:pt x="71" y="110"/>
                    </a:lnTo>
                    <a:lnTo>
                      <a:pt x="51" y="137"/>
                    </a:lnTo>
                    <a:lnTo>
                      <a:pt x="53" y="174"/>
                    </a:lnTo>
                    <a:lnTo>
                      <a:pt x="26" y="161"/>
                    </a:lnTo>
                    <a:lnTo>
                      <a:pt x="24" y="198"/>
                    </a:lnTo>
                    <a:lnTo>
                      <a:pt x="32" y="229"/>
                    </a:lnTo>
                    <a:lnTo>
                      <a:pt x="61" y="224"/>
                    </a:lnTo>
                    <a:lnTo>
                      <a:pt x="74" y="200"/>
                    </a:lnTo>
                    <a:lnTo>
                      <a:pt x="100" y="186"/>
                    </a:lnTo>
                    <a:lnTo>
                      <a:pt x="135" y="161"/>
                    </a:lnTo>
                    <a:lnTo>
                      <a:pt x="125" y="192"/>
                    </a:lnTo>
                    <a:lnTo>
                      <a:pt x="148" y="122"/>
                    </a:lnTo>
                    <a:lnTo>
                      <a:pt x="142" y="77"/>
                    </a:lnTo>
                    <a:lnTo>
                      <a:pt x="95" y="28"/>
                    </a:lnTo>
                    <a:lnTo>
                      <a:pt x="33" y="23"/>
                    </a:lnTo>
                    <a:lnTo>
                      <a:pt x="0" y="0"/>
                    </a:lnTo>
                    <a:lnTo>
                      <a:pt x="18" y="43"/>
                    </a:lnTo>
                    <a:lnTo>
                      <a:pt x="47" y="70"/>
                    </a:lnTo>
                    <a:lnTo>
                      <a:pt x="67" y="43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58"/>
              <p:cNvSpPr/>
              <p:nvPr/>
            </p:nvSpPr>
            <p:spPr>
              <a:xfrm>
                <a:off x="2232000" y="5099040"/>
                <a:ext cx="423720" cy="5889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563" h="786">
                    <a:moveTo>
                      <a:pt x="0" y="271"/>
                    </a:moveTo>
                    <a:lnTo>
                      <a:pt x="14" y="234"/>
                    </a:lnTo>
                    <a:lnTo>
                      <a:pt x="47" y="211"/>
                    </a:lnTo>
                    <a:lnTo>
                      <a:pt x="59" y="159"/>
                    </a:lnTo>
                    <a:lnTo>
                      <a:pt x="55" y="124"/>
                    </a:lnTo>
                    <a:lnTo>
                      <a:pt x="83" y="133"/>
                    </a:lnTo>
                    <a:lnTo>
                      <a:pt x="115" y="119"/>
                    </a:lnTo>
                    <a:lnTo>
                      <a:pt x="138" y="103"/>
                    </a:lnTo>
                    <a:lnTo>
                      <a:pt x="172" y="83"/>
                    </a:lnTo>
                    <a:lnTo>
                      <a:pt x="132" y="52"/>
                    </a:lnTo>
                    <a:lnTo>
                      <a:pt x="181" y="30"/>
                    </a:lnTo>
                    <a:lnTo>
                      <a:pt x="217" y="0"/>
                    </a:lnTo>
                    <a:lnTo>
                      <a:pt x="242" y="19"/>
                    </a:lnTo>
                    <a:lnTo>
                      <a:pt x="278" y="41"/>
                    </a:lnTo>
                    <a:lnTo>
                      <a:pt x="327" y="45"/>
                    </a:lnTo>
                    <a:lnTo>
                      <a:pt x="327" y="81"/>
                    </a:lnTo>
                    <a:lnTo>
                      <a:pt x="365" y="94"/>
                    </a:lnTo>
                    <a:lnTo>
                      <a:pt x="372" y="132"/>
                    </a:lnTo>
                    <a:lnTo>
                      <a:pt x="402" y="141"/>
                    </a:lnTo>
                    <a:lnTo>
                      <a:pt x="426" y="125"/>
                    </a:lnTo>
                    <a:lnTo>
                      <a:pt x="429" y="157"/>
                    </a:lnTo>
                    <a:lnTo>
                      <a:pt x="516" y="197"/>
                    </a:lnTo>
                    <a:lnTo>
                      <a:pt x="562" y="204"/>
                    </a:lnTo>
                    <a:lnTo>
                      <a:pt x="562" y="240"/>
                    </a:lnTo>
                    <a:lnTo>
                      <a:pt x="561" y="269"/>
                    </a:lnTo>
                    <a:lnTo>
                      <a:pt x="563" y="301"/>
                    </a:lnTo>
                    <a:lnTo>
                      <a:pt x="527" y="312"/>
                    </a:lnTo>
                    <a:lnTo>
                      <a:pt x="475" y="338"/>
                    </a:lnTo>
                    <a:lnTo>
                      <a:pt x="445" y="320"/>
                    </a:lnTo>
                    <a:lnTo>
                      <a:pt x="448" y="352"/>
                    </a:lnTo>
                    <a:lnTo>
                      <a:pt x="426" y="381"/>
                    </a:lnTo>
                    <a:lnTo>
                      <a:pt x="409" y="346"/>
                    </a:lnTo>
                    <a:lnTo>
                      <a:pt x="389" y="323"/>
                    </a:lnTo>
                    <a:lnTo>
                      <a:pt x="384" y="354"/>
                    </a:lnTo>
                    <a:lnTo>
                      <a:pt x="390" y="310"/>
                    </a:lnTo>
                    <a:lnTo>
                      <a:pt x="363" y="262"/>
                    </a:lnTo>
                    <a:lnTo>
                      <a:pt x="338" y="274"/>
                    </a:lnTo>
                    <a:lnTo>
                      <a:pt x="334" y="308"/>
                    </a:lnTo>
                    <a:lnTo>
                      <a:pt x="345" y="384"/>
                    </a:lnTo>
                    <a:lnTo>
                      <a:pt x="346" y="426"/>
                    </a:lnTo>
                    <a:lnTo>
                      <a:pt x="374" y="414"/>
                    </a:lnTo>
                    <a:lnTo>
                      <a:pt x="398" y="434"/>
                    </a:lnTo>
                    <a:lnTo>
                      <a:pt x="467" y="430"/>
                    </a:lnTo>
                    <a:lnTo>
                      <a:pt x="491" y="415"/>
                    </a:lnTo>
                    <a:lnTo>
                      <a:pt x="522" y="413"/>
                    </a:lnTo>
                    <a:lnTo>
                      <a:pt x="472" y="483"/>
                    </a:lnTo>
                    <a:lnTo>
                      <a:pt x="472" y="522"/>
                    </a:lnTo>
                    <a:lnTo>
                      <a:pt x="443" y="493"/>
                    </a:lnTo>
                    <a:lnTo>
                      <a:pt x="403" y="515"/>
                    </a:lnTo>
                    <a:lnTo>
                      <a:pt x="358" y="566"/>
                    </a:lnTo>
                    <a:lnTo>
                      <a:pt x="345" y="608"/>
                    </a:lnTo>
                    <a:lnTo>
                      <a:pt x="344" y="637"/>
                    </a:lnTo>
                    <a:lnTo>
                      <a:pt x="317" y="657"/>
                    </a:lnTo>
                    <a:lnTo>
                      <a:pt x="305" y="688"/>
                    </a:lnTo>
                    <a:lnTo>
                      <a:pt x="311" y="736"/>
                    </a:lnTo>
                    <a:lnTo>
                      <a:pt x="282" y="742"/>
                    </a:lnTo>
                    <a:lnTo>
                      <a:pt x="274" y="786"/>
                    </a:lnTo>
                    <a:lnTo>
                      <a:pt x="218" y="783"/>
                    </a:lnTo>
                    <a:lnTo>
                      <a:pt x="200" y="752"/>
                    </a:lnTo>
                    <a:lnTo>
                      <a:pt x="166" y="752"/>
                    </a:lnTo>
                    <a:lnTo>
                      <a:pt x="133" y="759"/>
                    </a:lnTo>
                    <a:lnTo>
                      <a:pt x="130" y="721"/>
                    </a:lnTo>
                    <a:lnTo>
                      <a:pt x="104" y="748"/>
                    </a:lnTo>
                    <a:lnTo>
                      <a:pt x="112" y="700"/>
                    </a:lnTo>
                    <a:lnTo>
                      <a:pt x="128" y="675"/>
                    </a:lnTo>
                    <a:lnTo>
                      <a:pt x="107" y="655"/>
                    </a:lnTo>
                    <a:lnTo>
                      <a:pt x="132" y="610"/>
                    </a:lnTo>
                    <a:lnTo>
                      <a:pt x="109" y="574"/>
                    </a:lnTo>
                    <a:lnTo>
                      <a:pt x="71" y="607"/>
                    </a:lnTo>
                    <a:lnTo>
                      <a:pt x="47" y="591"/>
                    </a:lnTo>
                    <a:lnTo>
                      <a:pt x="65" y="558"/>
                    </a:lnTo>
                    <a:lnTo>
                      <a:pt x="50" y="533"/>
                    </a:lnTo>
                    <a:lnTo>
                      <a:pt x="77" y="514"/>
                    </a:lnTo>
                    <a:lnTo>
                      <a:pt x="52" y="472"/>
                    </a:lnTo>
                    <a:lnTo>
                      <a:pt x="48" y="441"/>
                    </a:lnTo>
                    <a:lnTo>
                      <a:pt x="33" y="415"/>
                    </a:lnTo>
                    <a:lnTo>
                      <a:pt x="9" y="400"/>
                    </a:lnTo>
                    <a:lnTo>
                      <a:pt x="9" y="355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59"/>
              <p:cNvSpPr/>
              <p:nvPr/>
            </p:nvSpPr>
            <p:spPr>
              <a:xfrm>
                <a:off x="1369800" y="4908600"/>
                <a:ext cx="214200" cy="25236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282" h="336">
                    <a:moveTo>
                      <a:pt x="0" y="196"/>
                    </a:moveTo>
                    <a:lnTo>
                      <a:pt x="33" y="176"/>
                    </a:lnTo>
                    <a:lnTo>
                      <a:pt x="30" y="141"/>
                    </a:lnTo>
                    <a:lnTo>
                      <a:pt x="15" y="92"/>
                    </a:lnTo>
                    <a:lnTo>
                      <a:pt x="46" y="62"/>
                    </a:lnTo>
                    <a:lnTo>
                      <a:pt x="71" y="25"/>
                    </a:lnTo>
                    <a:lnTo>
                      <a:pt x="90" y="3"/>
                    </a:lnTo>
                    <a:lnTo>
                      <a:pt x="127" y="0"/>
                    </a:lnTo>
                    <a:lnTo>
                      <a:pt x="149" y="19"/>
                    </a:lnTo>
                    <a:lnTo>
                      <a:pt x="181" y="46"/>
                    </a:lnTo>
                    <a:lnTo>
                      <a:pt x="237" y="27"/>
                    </a:lnTo>
                    <a:lnTo>
                      <a:pt x="282" y="51"/>
                    </a:lnTo>
                    <a:lnTo>
                      <a:pt x="245" y="72"/>
                    </a:lnTo>
                    <a:lnTo>
                      <a:pt x="254" y="99"/>
                    </a:lnTo>
                    <a:lnTo>
                      <a:pt x="254" y="150"/>
                    </a:lnTo>
                    <a:lnTo>
                      <a:pt x="247" y="179"/>
                    </a:lnTo>
                    <a:lnTo>
                      <a:pt x="258" y="255"/>
                    </a:lnTo>
                    <a:lnTo>
                      <a:pt x="223" y="267"/>
                    </a:lnTo>
                    <a:lnTo>
                      <a:pt x="183" y="282"/>
                    </a:lnTo>
                    <a:lnTo>
                      <a:pt x="117" y="336"/>
                    </a:lnTo>
                    <a:lnTo>
                      <a:pt x="98" y="312"/>
                    </a:lnTo>
                    <a:lnTo>
                      <a:pt x="59" y="283"/>
                    </a:lnTo>
                    <a:lnTo>
                      <a:pt x="28" y="252"/>
                    </a:lnTo>
                    <a:lnTo>
                      <a:pt x="20" y="219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660"/>
              <p:cNvSpPr/>
              <p:nvPr/>
            </p:nvSpPr>
            <p:spPr>
              <a:xfrm>
                <a:off x="1536480" y="4530960"/>
                <a:ext cx="237960" cy="27936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315" h="374">
                    <a:moveTo>
                      <a:pt x="46" y="0"/>
                    </a:moveTo>
                    <a:lnTo>
                      <a:pt x="52" y="20"/>
                    </a:lnTo>
                    <a:lnTo>
                      <a:pt x="75" y="43"/>
                    </a:lnTo>
                    <a:lnTo>
                      <a:pt x="98" y="63"/>
                    </a:lnTo>
                    <a:lnTo>
                      <a:pt x="135" y="31"/>
                    </a:lnTo>
                    <a:lnTo>
                      <a:pt x="159" y="44"/>
                    </a:lnTo>
                    <a:lnTo>
                      <a:pt x="146" y="71"/>
                    </a:lnTo>
                    <a:lnTo>
                      <a:pt x="140" y="117"/>
                    </a:lnTo>
                    <a:lnTo>
                      <a:pt x="191" y="124"/>
                    </a:lnTo>
                    <a:lnTo>
                      <a:pt x="212" y="167"/>
                    </a:lnTo>
                    <a:lnTo>
                      <a:pt x="250" y="179"/>
                    </a:lnTo>
                    <a:lnTo>
                      <a:pt x="264" y="221"/>
                    </a:lnTo>
                    <a:lnTo>
                      <a:pt x="303" y="248"/>
                    </a:lnTo>
                    <a:lnTo>
                      <a:pt x="315" y="292"/>
                    </a:lnTo>
                    <a:lnTo>
                      <a:pt x="267" y="306"/>
                    </a:lnTo>
                    <a:lnTo>
                      <a:pt x="228" y="312"/>
                    </a:lnTo>
                    <a:lnTo>
                      <a:pt x="188" y="342"/>
                    </a:lnTo>
                    <a:lnTo>
                      <a:pt x="144" y="374"/>
                    </a:lnTo>
                    <a:lnTo>
                      <a:pt x="112" y="347"/>
                    </a:lnTo>
                    <a:lnTo>
                      <a:pt x="91" y="328"/>
                    </a:lnTo>
                    <a:lnTo>
                      <a:pt x="66" y="302"/>
                    </a:lnTo>
                    <a:lnTo>
                      <a:pt x="51" y="270"/>
                    </a:lnTo>
                    <a:lnTo>
                      <a:pt x="52" y="233"/>
                    </a:lnTo>
                    <a:lnTo>
                      <a:pt x="67" y="182"/>
                    </a:lnTo>
                    <a:lnTo>
                      <a:pt x="40" y="171"/>
                    </a:lnTo>
                    <a:lnTo>
                      <a:pt x="3" y="107"/>
                    </a:lnTo>
                    <a:lnTo>
                      <a:pt x="0" y="64"/>
                    </a:lnTo>
                    <a:lnTo>
                      <a:pt x="27" y="2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61"/>
              <p:cNvSpPr/>
              <p:nvPr/>
            </p:nvSpPr>
            <p:spPr>
              <a:xfrm>
                <a:off x="1538280" y="4945320"/>
                <a:ext cx="264960" cy="28872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352" h="381">
                    <a:moveTo>
                      <a:pt x="0" y="218"/>
                    </a:moveTo>
                    <a:lnTo>
                      <a:pt x="35" y="206"/>
                    </a:lnTo>
                    <a:lnTo>
                      <a:pt x="24" y="130"/>
                    </a:lnTo>
                    <a:lnTo>
                      <a:pt x="31" y="101"/>
                    </a:lnTo>
                    <a:lnTo>
                      <a:pt x="31" y="50"/>
                    </a:lnTo>
                    <a:lnTo>
                      <a:pt x="22" y="23"/>
                    </a:lnTo>
                    <a:lnTo>
                      <a:pt x="59" y="2"/>
                    </a:lnTo>
                    <a:lnTo>
                      <a:pt x="69" y="0"/>
                    </a:lnTo>
                    <a:lnTo>
                      <a:pt x="90" y="29"/>
                    </a:lnTo>
                    <a:lnTo>
                      <a:pt x="122" y="46"/>
                    </a:lnTo>
                    <a:lnTo>
                      <a:pt x="147" y="33"/>
                    </a:lnTo>
                    <a:lnTo>
                      <a:pt x="178" y="67"/>
                    </a:lnTo>
                    <a:lnTo>
                      <a:pt x="211" y="146"/>
                    </a:lnTo>
                    <a:lnTo>
                      <a:pt x="246" y="115"/>
                    </a:lnTo>
                    <a:lnTo>
                      <a:pt x="292" y="149"/>
                    </a:lnTo>
                    <a:lnTo>
                      <a:pt x="334" y="159"/>
                    </a:lnTo>
                    <a:lnTo>
                      <a:pt x="346" y="190"/>
                    </a:lnTo>
                    <a:lnTo>
                      <a:pt x="345" y="229"/>
                    </a:lnTo>
                    <a:lnTo>
                      <a:pt x="345" y="261"/>
                    </a:lnTo>
                    <a:lnTo>
                      <a:pt x="352" y="295"/>
                    </a:lnTo>
                    <a:lnTo>
                      <a:pt x="319" y="358"/>
                    </a:lnTo>
                    <a:lnTo>
                      <a:pt x="297" y="381"/>
                    </a:lnTo>
                    <a:lnTo>
                      <a:pt x="219" y="358"/>
                    </a:lnTo>
                    <a:lnTo>
                      <a:pt x="156" y="338"/>
                    </a:lnTo>
                    <a:lnTo>
                      <a:pt x="129" y="323"/>
                    </a:lnTo>
                    <a:lnTo>
                      <a:pt x="112" y="282"/>
                    </a:lnTo>
                    <a:lnTo>
                      <a:pt x="85" y="300"/>
                    </a:lnTo>
                    <a:lnTo>
                      <a:pt x="57" y="268"/>
                    </a:lnTo>
                    <a:lnTo>
                      <a:pt x="24" y="252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62"/>
              <p:cNvSpPr/>
              <p:nvPr/>
            </p:nvSpPr>
            <p:spPr>
              <a:xfrm>
                <a:off x="1392120" y="4729320"/>
                <a:ext cx="268200" cy="217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358" h="291">
                    <a:moveTo>
                      <a:pt x="0" y="145"/>
                    </a:moveTo>
                    <a:lnTo>
                      <a:pt x="45" y="84"/>
                    </a:lnTo>
                    <a:lnTo>
                      <a:pt x="44" y="46"/>
                    </a:lnTo>
                    <a:lnTo>
                      <a:pt x="72" y="48"/>
                    </a:lnTo>
                    <a:lnTo>
                      <a:pt x="91" y="19"/>
                    </a:lnTo>
                    <a:lnTo>
                      <a:pt x="132" y="25"/>
                    </a:lnTo>
                    <a:lnTo>
                      <a:pt x="178" y="0"/>
                    </a:lnTo>
                    <a:lnTo>
                      <a:pt x="246" y="4"/>
                    </a:lnTo>
                    <a:lnTo>
                      <a:pt x="261" y="36"/>
                    </a:lnTo>
                    <a:lnTo>
                      <a:pt x="286" y="62"/>
                    </a:lnTo>
                    <a:lnTo>
                      <a:pt x="307" y="81"/>
                    </a:lnTo>
                    <a:lnTo>
                      <a:pt x="339" y="108"/>
                    </a:lnTo>
                    <a:lnTo>
                      <a:pt x="358" y="170"/>
                    </a:lnTo>
                    <a:lnTo>
                      <a:pt x="335" y="222"/>
                    </a:lnTo>
                    <a:lnTo>
                      <a:pt x="298" y="236"/>
                    </a:lnTo>
                    <a:lnTo>
                      <a:pt x="304" y="278"/>
                    </a:lnTo>
                    <a:lnTo>
                      <a:pt x="278" y="255"/>
                    </a:lnTo>
                    <a:lnTo>
                      <a:pt x="265" y="289"/>
                    </a:lnTo>
                    <a:lnTo>
                      <a:pt x="255" y="291"/>
                    </a:lnTo>
                    <a:lnTo>
                      <a:pt x="210" y="267"/>
                    </a:lnTo>
                    <a:lnTo>
                      <a:pt x="154" y="286"/>
                    </a:lnTo>
                    <a:lnTo>
                      <a:pt x="122" y="259"/>
                    </a:lnTo>
                    <a:lnTo>
                      <a:pt x="100" y="240"/>
                    </a:lnTo>
                    <a:lnTo>
                      <a:pt x="63" y="243"/>
                    </a:lnTo>
                    <a:lnTo>
                      <a:pt x="52" y="184"/>
                    </a:lnTo>
                    <a:lnTo>
                      <a:pt x="14" y="188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63"/>
              <p:cNvSpPr/>
              <p:nvPr/>
            </p:nvSpPr>
            <p:spPr>
              <a:xfrm>
                <a:off x="1449360" y="4565880"/>
                <a:ext cx="69840" cy="71280"/>
              </a:xfrm>
              <a:custGeom>
                <a:avLst/>
                <a:gdLst>
                  <a:gd name="textAreaLeft" fmla="*/ 0 w 69840"/>
                  <a:gd name="textAreaRight" fmla="*/ 69840 w 698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7" h="50">
                    <a:moveTo>
                      <a:pt x="47" y="12"/>
                    </a:moveTo>
                    <a:lnTo>
                      <a:pt x="46" y="42"/>
                    </a:lnTo>
                    <a:lnTo>
                      <a:pt x="16" y="50"/>
                    </a:lnTo>
                    <a:lnTo>
                      <a:pt x="0" y="27"/>
                    </a:lnTo>
                    <a:lnTo>
                      <a:pt x="15" y="6"/>
                    </a:lnTo>
                    <a:lnTo>
                      <a:pt x="36" y="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7c993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64"/>
              <p:cNvSpPr/>
              <p:nvPr/>
            </p:nvSpPr>
            <p:spPr>
              <a:xfrm>
                <a:off x="1241280" y="4017960"/>
                <a:ext cx="374400" cy="260280"/>
              </a:xfrm>
              <a:custGeom>
                <a:avLst/>
                <a:gdLst>
                  <a:gd name="textAreaLeft" fmla="*/ 0 w 374400"/>
                  <a:gd name="textAreaRight" fmla="*/ 374760 w 37440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501" h="347">
                    <a:moveTo>
                      <a:pt x="0" y="252"/>
                    </a:moveTo>
                    <a:lnTo>
                      <a:pt x="18" y="202"/>
                    </a:lnTo>
                    <a:lnTo>
                      <a:pt x="14" y="166"/>
                    </a:lnTo>
                    <a:lnTo>
                      <a:pt x="40" y="143"/>
                    </a:lnTo>
                    <a:lnTo>
                      <a:pt x="60" y="103"/>
                    </a:lnTo>
                    <a:lnTo>
                      <a:pt x="45" y="74"/>
                    </a:lnTo>
                    <a:lnTo>
                      <a:pt x="40" y="45"/>
                    </a:lnTo>
                    <a:lnTo>
                      <a:pt x="70" y="36"/>
                    </a:lnTo>
                    <a:lnTo>
                      <a:pt x="93" y="17"/>
                    </a:lnTo>
                    <a:lnTo>
                      <a:pt x="100" y="29"/>
                    </a:lnTo>
                    <a:lnTo>
                      <a:pt x="125" y="2"/>
                    </a:lnTo>
                    <a:lnTo>
                      <a:pt x="171" y="25"/>
                    </a:lnTo>
                    <a:lnTo>
                      <a:pt x="216" y="3"/>
                    </a:lnTo>
                    <a:lnTo>
                      <a:pt x="234" y="28"/>
                    </a:lnTo>
                    <a:lnTo>
                      <a:pt x="288" y="0"/>
                    </a:lnTo>
                    <a:lnTo>
                      <a:pt x="308" y="19"/>
                    </a:lnTo>
                    <a:lnTo>
                      <a:pt x="305" y="58"/>
                    </a:lnTo>
                    <a:lnTo>
                      <a:pt x="314" y="89"/>
                    </a:lnTo>
                    <a:lnTo>
                      <a:pt x="356" y="69"/>
                    </a:lnTo>
                    <a:lnTo>
                      <a:pt x="374" y="96"/>
                    </a:lnTo>
                    <a:lnTo>
                      <a:pt x="406" y="110"/>
                    </a:lnTo>
                    <a:lnTo>
                      <a:pt x="394" y="143"/>
                    </a:lnTo>
                    <a:lnTo>
                      <a:pt x="451" y="212"/>
                    </a:lnTo>
                    <a:lnTo>
                      <a:pt x="458" y="262"/>
                    </a:lnTo>
                    <a:lnTo>
                      <a:pt x="493" y="282"/>
                    </a:lnTo>
                    <a:lnTo>
                      <a:pt x="501" y="314"/>
                    </a:lnTo>
                    <a:lnTo>
                      <a:pt x="488" y="347"/>
                    </a:lnTo>
                    <a:lnTo>
                      <a:pt x="451" y="340"/>
                    </a:lnTo>
                    <a:lnTo>
                      <a:pt x="411" y="311"/>
                    </a:lnTo>
                    <a:lnTo>
                      <a:pt x="383" y="323"/>
                    </a:lnTo>
                    <a:lnTo>
                      <a:pt x="343" y="321"/>
                    </a:lnTo>
                    <a:lnTo>
                      <a:pt x="313" y="266"/>
                    </a:lnTo>
                    <a:lnTo>
                      <a:pt x="268" y="261"/>
                    </a:lnTo>
                    <a:lnTo>
                      <a:pt x="228" y="302"/>
                    </a:lnTo>
                    <a:lnTo>
                      <a:pt x="193" y="311"/>
                    </a:lnTo>
                    <a:lnTo>
                      <a:pt x="164" y="289"/>
                    </a:lnTo>
                    <a:lnTo>
                      <a:pt x="132" y="289"/>
                    </a:lnTo>
                    <a:lnTo>
                      <a:pt x="102" y="294"/>
                    </a:lnTo>
                    <a:lnTo>
                      <a:pt x="12" y="256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65"/>
              <p:cNvSpPr/>
              <p:nvPr/>
            </p:nvSpPr>
            <p:spPr>
              <a:xfrm>
                <a:off x="1058760" y="3886200"/>
                <a:ext cx="252360" cy="444240"/>
              </a:xfrm>
              <a:custGeom>
                <a:avLst/>
                <a:gdLst>
                  <a:gd name="textAreaLeft" fmla="*/ 0 w 252360"/>
                  <a:gd name="textAreaRight" fmla="*/ 252360 w 25236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334" h="596">
                    <a:moveTo>
                      <a:pt x="278" y="0"/>
                    </a:moveTo>
                    <a:lnTo>
                      <a:pt x="292" y="29"/>
                    </a:lnTo>
                    <a:lnTo>
                      <a:pt x="291" y="63"/>
                    </a:lnTo>
                    <a:lnTo>
                      <a:pt x="317" y="100"/>
                    </a:lnTo>
                    <a:lnTo>
                      <a:pt x="306" y="133"/>
                    </a:lnTo>
                    <a:lnTo>
                      <a:pt x="334" y="192"/>
                    </a:lnTo>
                    <a:lnTo>
                      <a:pt x="311" y="211"/>
                    </a:lnTo>
                    <a:lnTo>
                      <a:pt x="281" y="220"/>
                    </a:lnTo>
                    <a:lnTo>
                      <a:pt x="286" y="249"/>
                    </a:lnTo>
                    <a:lnTo>
                      <a:pt x="301" y="278"/>
                    </a:lnTo>
                    <a:lnTo>
                      <a:pt x="281" y="318"/>
                    </a:lnTo>
                    <a:lnTo>
                      <a:pt x="255" y="341"/>
                    </a:lnTo>
                    <a:lnTo>
                      <a:pt x="259" y="377"/>
                    </a:lnTo>
                    <a:lnTo>
                      <a:pt x="241" y="427"/>
                    </a:lnTo>
                    <a:lnTo>
                      <a:pt x="220" y="464"/>
                    </a:lnTo>
                    <a:lnTo>
                      <a:pt x="197" y="486"/>
                    </a:lnTo>
                    <a:lnTo>
                      <a:pt x="196" y="546"/>
                    </a:lnTo>
                    <a:lnTo>
                      <a:pt x="175" y="565"/>
                    </a:lnTo>
                    <a:lnTo>
                      <a:pt x="155" y="596"/>
                    </a:lnTo>
                    <a:lnTo>
                      <a:pt x="107" y="579"/>
                    </a:lnTo>
                    <a:lnTo>
                      <a:pt x="111" y="522"/>
                    </a:lnTo>
                    <a:lnTo>
                      <a:pt x="65" y="484"/>
                    </a:lnTo>
                    <a:lnTo>
                      <a:pt x="34" y="474"/>
                    </a:lnTo>
                    <a:lnTo>
                      <a:pt x="53" y="430"/>
                    </a:lnTo>
                    <a:lnTo>
                      <a:pt x="34" y="409"/>
                    </a:lnTo>
                    <a:lnTo>
                      <a:pt x="22" y="371"/>
                    </a:lnTo>
                    <a:lnTo>
                      <a:pt x="0" y="341"/>
                    </a:lnTo>
                    <a:lnTo>
                      <a:pt x="24" y="322"/>
                    </a:lnTo>
                    <a:lnTo>
                      <a:pt x="48" y="285"/>
                    </a:lnTo>
                    <a:lnTo>
                      <a:pt x="59" y="249"/>
                    </a:lnTo>
                    <a:lnTo>
                      <a:pt x="83" y="211"/>
                    </a:lnTo>
                    <a:lnTo>
                      <a:pt x="107" y="188"/>
                    </a:lnTo>
                    <a:lnTo>
                      <a:pt x="110" y="152"/>
                    </a:lnTo>
                    <a:lnTo>
                      <a:pt x="132" y="121"/>
                    </a:lnTo>
                    <a:lnTo>
                      <a:pt x="159" y="128"/>
                    </a:lnTo>
                    <a:lnTo>
                      <a:pt x="183" y="76"/>
                    </a:lnTo>
                    <a:lnTo>
                      <a:pt x="208" y="57"/>
                    </a:lnTo>
                    <a:lnTo>
                      <a:pt x="235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66"/>
              <p:cNvSpPr/>
              <p:nvPr/>
            </p:nvSpPr>
            <p:spPr>
              <a:xfrm>
                <a:off x="1055520" y="4321080"/>
                <a:ext cx="309240" cy="27288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272880"/>
                  <a:gd name="textAreaBottom" fmla="*/ 272880 h 272880"/>
                </a:gdLst>
                <a:ahLst/>
                <a:rect l="textAreaLeft" t="textAreaTop" r="textAreaRight" b="textAreaBottom"/>
                <a:pathLst>
                  <a:path w="412" h="362">
                    <a:moveTo>
                      <a:pt x="113" y="0"/>
                    </a:moveTo>
                    <a:lnTo>
                      <a:pt x="161" y="17"/>
                    </a:lnTo>
                    <a:lnTo>
                      <a:pt x="193" y="47"/>
                    </a:lnTo>
                    <a:lnTo>
                      <a:pt x="221" y="82"/>
                    </a:lnTo>
                    <a:lnTo>
                      <a:pt x="236" y="111"/>
                    </a:lnTo>
                    <a:lnTo>
                      <a:pt x="279" y="127"/>
                    </a:lnTo>
                    <a:lnTo>
                      <a:pt x="313" y="119"/>
                    </a:lnTo>
                    <a:lnTo>
                      <a:pt x="351" y="130"/>
                    </a:lnTo>
                    <a:lnTo>
                      <a:pt x="375" y="149"/>
                    </a:lnTo>
                    <a:lnTo>
                      <a:pt x="412" y="190"/>
                    </a:lnTo>
                    <a:lnTo>
                      <a:pt x="408" y="226"/>
                    </a:lnTo>
                    <a:lnTo>
                      <a:pt x="377" y="257"/>
                    </a:lnTo>
                    <a:lnTo>
                      <a:pt x="359" y="295"/>
                    </a:lnTo>
                    <a:lnTo>
                      <a:pt x="320" y="307"/>
                    </a:lnTo>
                    <a:lnTo>
                      <a:pt x="279" y="323"/>
                    </a:lnTo>
                    <a:lnTo>
                      <a:pt x="249" y="306"/>
                    </a:lnTo>
                    <a:lnTo>
                      <a:pt x="220" y="312"/>
                    </a:lnTo>
                    <a:lnTo>
                      <a:pt x="186" y="279"/>
                    </a:lnTo>
                    <a:lnTo>
                      <a:pt x="165" y="306"/>
                    </a:lnTo>
                    <a:lnTo>
                      <a:pt x="131" y="324"/>
                    </a:lnTo>
                    <a:lnTo>
                      <a:pt x="104" y="325"/>
                    </a:lnTo>
                    <a:lnTo>
                      <a:pt x="75" y="345"/>
                    </a:lnTo>
                    <a:lnTo>
                      <a:pt x="23" y="362"/>
                    </a:lnTo>
                    <a:lnTo>
                      <a:pt x="28" y="313"/>
                    </a:lnTo>
                    <a:lnTo>
                      <a:pt x="19" y="265"/>
                    </a:lnTo>
                    <a:lnTo>
                      <a:pt x="0" y="243"/>
                    </a:lnTo>
                    <a:lnTo>
                      <a:pt x="33" y="232"/>
                    </a:lnTo>
                    <a:lnTo>
                      <a:pt x="15" y="197"/>
                    </a:lnTo>
                    <a:lnTo>
                      <a:pt x="15" y="162"/>
                    </a:lnTo>
                    <a:lnTo>
                      <a:pt x="30" y="124"/>
                    </a:lnTo>
                    <a:lnTo>
                      <a:pt x="34" y="74"/>
                    </a:lnTo>
                    <a:lnTo>
                      <a:pt x="73" y="54"/>
                    </a:lnTo>
                    <a:lnTo>
                      <a:pt x="87" y="25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67"/>
              <p:cNvSpPr/>
              <p:nvPr/>
            </p:nvSpPr>
            <p:spPr>
              <a:xfrm>
                <a:off x="1176120" y="4206960"/>
                <a:ext cx="492120" cy="311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311040"/>
                  <a:gd name="textAreaBottom" fmla="*/ 311040 h 311040"/>
                </a:gdLst>
                <a:ahLst/>
                <a:rect l="textAreaLeft" t="textAreaTop" r="textAreaRight" b="textAreaBottom"/>
                <a:pathLst>
                  <a:path w="655" h="412">
                    <a:moveTo>
                      <a:pt x="0" y="169"/>
                    </a:moveTo>
                    <a:lnTo>
                      <a:pt x="20" y="138"/>
                    </a:lnTo>
                    <a:lnTo>
                      <a:pt x="41" y="119"/>
                    </a:lnTo>
                    <a:lnTo>
                      <a:pt x="42" y="59"/>
                    </a:lnTo>
                    <a:lnTo>
                      <a:pt x="65" y="37"/>
                    </a:lnTo>
                    <a:lnTo>
                      <a:pt x="86" y="0"/>
                    </a:lnTo>
                    <a:lnTo>
                      <a:pt x="98" y="4"/>
                    </a:lnTo>
                    <a:lnTo>
                      <a:pt x="188" y="42"/>
                    </a:lnTo>
                    <a:lnTo>
                      <a:pt x="218" y="37"/>
                    </a:lnTo>
                    <a:lnTo>
                      <a:pt x="250" y="37"/>
                    </a:lnTo>
                    <a:lnTo>
                      <a:pt x="279" y="59"/>
                    </a:lnTo>
                    <a:lnTo>
                      <a:pt x="314" y="50"/>
                    </a:lnTo>
                    <a:lnTo>
                      <a:pt x="354" y="9"/>
                    </a:lnTo>
                    <a:lnTo>
                      <a:pt x="399" y="14"/>
                    </a:lnTo>
                    <a:lnTo>
                      <a:pt x="429" y="69"/>
                    </a:lnTo>
                    <a:lnTo>
                      <a:pt x="469" y="71"/>
                    </a:lnTo>
                    <a:lnTo>
                      <a:pt x="497" y="59"/>
                    </a:lnTo>
                    <a:lnTo>
                      <a:pt x="537" y="88"/>
                    </a:lnTo>
                    <a:lnTo>
                      <a:pt x="574" y="95"/>
                    </a:lnTo>
                    <a:lnTo>
                      <a:pt x="622" y="88"/>
                    </a:lnTo>
                    <a:lnTo>
                      <a:pt x="655" y="165"/>
                    </a:lnTo>
                    <a:lnTo>
                      <a:pt x="607" y="184"/>
                    </a:lnTo>
                    <a:lnTo>
                      <a:pt x="615" y="215"/>
                    </a:lnTo>
                    <a:lnTo>
                      <a:pt x="586" y="212"/>
                    </a:lnTo>
                    <a:lnTo>
                      <a:pt x="577" y="248"/>
                    </a:lnTo>
                    <a:lnTo>
                      <a:pt x="579" y="281"/>
                    </a:lnTo>
                    <a:lnTo>
                      <a:pt x="568" y="320"/>
                    </a:lnTo>
                    <a:lnTo>
                      <a:pt x="587" y="349"/>
                    </a:lnTo>
                    <a:lnTo>
                      <a:pt x="547" y="375"/>
                    </a:lnTo>
                    <a:lnTo>
                      <a:pt x="532" y="412"/>
                    </a:lnTo>
                    <a:lnTo>
                      <a:pt x="510" y="356"/>
                    </a:lnTo>
                    <a:lnTo>
                      <a:pt x="480" y="364"/>
                    </a:lnTo>
                    <a:lnTo>
                      <a:pt x="455" y="355"/>
                    </a:lnTo>
                    <a:lnTo>
                      <a:pt x="423" y="360"/>
                    </a:lnTo>
                    <a:lnTo>
                      <a:pt x="377" y="347"/>
                    </a:lnTo>
                    <a:lnTo>
                      <a:pt x="342" y="328"/>
                    </a:lnTo>
                    <a:lnTo>
                      <a:pt x="319" y="304"/>
                    </a:lnTo>
                    <a:lnTo>
                      <a:pt x="289" y="324"/>
                    </a:lnTo>
                    <a:lnTo>
                      <a:pt x="251" y="342"/>
                    </a:lnTo>
                    <a:lnTo>
                      <a:pt x="214" y="301"/>
                    </a:lnTo>
                    <a:lnTo>
                      <a:pt x="190" y="282"/>
                    </a:lnTo>
                    <a:lnTo>
                      <a:pt x="152" y="271"/>
                    </a:lnTo>
                    <a:lnTo>
                      <a:pt x="118" y="279"/>
                    </a:lnTo>
                    <a:lnTo>
                      <a:pt x="75" y="263"/>
                    </a:lnTo>
                    <a:lnTo>
                      <a:pt x="60" y="234"/>
                    </a:lnTo>
                    <a:lnTo>
                      <a:pt x="32" y="19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68"/>
              <p:cNvSpPr/>
              <p:nvPr/>
            </p:nvSpPr>
            <p:spPr>
              <a:xfrm>
                <a:off x="549000" y="3852720"/>
                <a:ext cx="172800" cy="19368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29" h="258">
                    <a:moveTo>
                      <a:pt x="172" y="258"/>
                    </a:moveTo>
                    <a:lnTo>
                      <a:pt x="148" y="226"/>
                    </a:lnTo>
                    <a:lnTo>
                      <a:pt x="107" y="188"/>
                    </a:lnTo>
                    <a:lnTo>
                      <a:pt x="65" y="130"/>
                    </a:lnTo>
                    <a:lnTo>
                      <a:pt x="0" y="32"/>
                    </a:lnTo>
                    <a:lnTo>
                      <a:pt x="31" y="37"/>
                    </a:lnTo>
                    <a:lnTo>
                      <a:pt x="63" y="50"/>
                    </a:lnTo>
                    <a:lnTo>
                      <a:pt x="38" y="21"/>
                    </a:lnTo>
                    <a:lnTo>
                      <a:pt x="65" y="0"/>
                    </a:lnTo>
                    <a:lnTo>
                      <a:pt x="93" y="9"/>
                    </a:lnTo>
                    <a:lnTo>
                      <a:pt x="135" y="28"/>
                    </a:lnTo>
                    <a:lnTo>
                      <a:pt x="165" y="31"/>
                    </a:lnTo>
                    <a:lnTo>
                      <a:pt x="107" y="36"/>
                    </a:lnTo>
                    <a:lnTo>
                      <a:pt x="126" y="70"/>
                    </a:lnTo>
                    <a:lnTo>
                      <a:pt x="171" y="50"/>
                    </a:lnTo>
                    <a:lnTo>
                      <a:pt x="197" y="91"/>
                    </a:lnTo>
                    <a:lnTo>
                      <a:pt x="204" y="130"/>
                    </a:lnTo>
                    <a:lnTo>
                      <a:pt x="229" y="156"/>
                    </a:lnTo>
                    <a:lnTo>
                      <a:pt x="226" y="185"/>
                    </a:lnTo>
                    <a:lnTo>
                      <a:pt x="178" y="223"/>
                    </a:lnTo>
                    <a:lnTo>
                      <a:pt x="172" y="25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69"/>
              <p:cNvSpPr/>
              <p:nvPr/>
            </p:nvSpPr>
            <p:spPr>
              <a:xfrm>
                <a:off x="1265040" y="3747960"/>
                <a:ext cx="506160" cy="426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672" h="573">
                    <a:moveTo>
                      <a:pt x="0" y="186"/>
                    </a:moveTo>
                    <a:lnTo>
                      <a:pt x="39" y="166"/>
                    </a:lnTo>
                    <a:lnTo>
                      <a:pt x="67" y="170"/>
                    </a:lnTo>
                    <a:lnTo>
                      <a:pt x="92" y="121"/>
                    </a:lnTo>
                    <a:lnTo>
                      <a:pt x="121" y="134"/>
                    </a:lnTo>
                    <a:lnTo>
                      <a:pt x="159" y="161"/>
                    </a:lnTo>
                    <a:lnTo>
                      <a:pt x="206" y="173"/>
                    </a:lnTo>
                    <a:lnTo>
                      <a:pt x="219" y="210"/>
                    </a:lnTo>
                    <a:lnTo>
                      <a:pt x="220" y="244"/>
                    </a:lnTo>
                    <a:lnTo>
                      <a:pt x="264" y="239"/>
                    </a:lnTo>
                    <a:lnTo>
                      <a:pt x="259" y="207"/>
                    </a:lnTo>
                    <a:lnTo>
                      <a:pt x="249" y="170"/>
                    </a:lnTo>
                    <a:lnTo>
                      <a:pt x="212" y="139"/>
                    </a:lnTo>
                    <a:lnTo>
                      <a:pt x="203" y="91"/>
                    </a:lnTo>
                    <a:lnTo>
                      <a:pt x="202" y="51"/>
                    </a:lnTo>
                    <a:lnTo>
                      <a:pt x="237" y="44"/>
                    </a:lnTo>
                    <a:lnTo>
                      <a:pt x="192" y="39"/>
                    </a:lnTo>
                    <a:lnTo>
                      <a:pt x="167" y="12"/>
                    </a:lnTo>
                    <a:lnTo>
                      <a:pt x="216" y="4"/>
                    </a:lnTo>
                    <a:lnTo>
                      <a:pt x="327" y="0"/>
                    </a:lnTo>
                    <a:lnTo>
                      <a:pt x="347" y="47"/>
                    </a:lnTo>
                    <a:lnTo>
                      <a:pt x="466" y="261"/>
                    </a:lnTo>
                    <a:lnTo>
                      <a:pt x="531" y="248"/>
                    </a:lnTo>
                    <a:lnTo>
                      <a:pt x="567" y="256"/>
                    </a:lnTo>
                    <a:lnTo>
                      <a:pt x="557" y="221"/>
                    </a:lnTo>
                    <a:lnTo>
                      <a:pt x="604" y="256"/>
                    </a:lnTo>
                    <a:lnTo>
                      <a:pt x="640" y="269"/>
                    </a:lnTo>
                    <a:lnTo>
                      <a:pt x="666" y="307"/>
                    </a:lnTo>
                    <a:lnTo>
                      <a:pt x="672" y="335"/>
                    </a:lnTo>
                    <a:lnTo>
                      <a:pt x="640" y="370"/>
                    </a:lnTo>
                    <a:lnTo>
                      <a:pt x="603" y="369"/>
                    </a:lnTo>
                    <a:lnTo>
                      <a:pt x="583" y="417"/>
                    </a:lnTo>
                    <a:lnTo>
                      <a:pt x="528" y="456"/>
                    </a:lnTo>
                    <a:lnTo>
                      <a:pt x="548" y="488"/>
                    </a:lnTo>
                    <a:lnTo>
                      <a:pt x="535" y="521"/>
                    </a:lnTo>
                    <a:lnTo>
                      <a:pt x="504" y="542"/>
                    </a:lnTo>
                    <a:lnTo>
                      <a:pt x="477" y="562"/>
                    </a:lnTo>
                    <a:lnTo>
                      <a:pt x="438" y="551"/>
                    </a:lnTo>
                    <a:lnTo>
                      <a:pt x="414" y="573"/>
                    </a:lnTo>
                    <a:lnTo>
                      <a:pt x="357" y="504"/>
                    </a:lnTo>
                    <a:lnTo>
                      <a:pt x="369" y="471"/>
                    </a:lnTo>
                    <a:lnTo>
                      <a:pt x="337" y="457"/>
                    </a:lnTo>
                    <a:lnTo>
                      <a:pt x="319" y="430"/>
                    </a:lnTo>
                    <a:lnTo>
                      <a:pt x="277" y="450"/>
                    </a:lnTo>
                    <a:lnTo>
                      <a:pt x="268" y="419"/>
                    </a:lnTo>
                    <a:lnTo>
                      <a:pt x="271" y="380"/>
                    </a:lnTo>
                    <a:lnTo>
                      <a:pt x="251" y="361"/>
                    </a:lnTo>
                    <a:lnTo>
                      <a:pt x="197" y="389"/>
                    </a:lnTo>
                    <a:lnTo>
                      <a:pt x="179" y="364"/>
                    </a:lnTo>
                    <a:lnTo>
                      <a:pt x="134" y="386"/>
                    </a:lnTo>
                    <a:lnTo>
                      <a:pt x="88" y="363"/>
                    </a:lnTo>
                    <a:lnTo>
                      <a:pt x="63" y="390"/>
                    </a:lnTo>
                    <a:lnTo>
                      <a:pt x="56" y="378"/>
                    </a:lnTo>
                    <a:lnTo>
                      <a:pt x="28" y="319"/>
                    </a:lnTo>
                    <a:lnTo>
                      <a:pt x="39" y="286"/>
                    </a:lnTo>
                    <a:lnTo>
                      <a:pt x="13" y="249"/>
                    </a:lnTo>
                    <a:lnTo>
                      <a:pt x="14" y="21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70"/>
              <p:cNvSpPr/>
              <p:nvPr/>
            </p:nvSpPr>
            <p:spPr>
              <a:xfrm>
                <a:off x="1422360" y="3851280"/>
                <a:ext cx="42840" cy="792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8" h="105">
                    <a:moveTo>
                      <a:pt x="0" y="34"/>
                    </a:moveTo>
                    <a:lnTo>
                      <a:pt x="19" y="72"/>
                    </a:lnTo>
                    <a:lnTo>
                      <a:pt x="35" y="31"/>
                    </a:lnTo>
                    <a:lnTo>
                      <a:pt x="6" y="0"/>
                    </a:lnTo>
                    <a:lnTo>
                      <a:pt x="43" y="31"/>
                    </a:lnTo>
                    <a:lnTo>
                      <a:pt x="53" y="68"/>
                    </a:lnTo>
                    <a:lnTo>
                      <a:pt x="58" y="100"/>
                    </a:lnTo>
                    <a:lnTo>
                      <a:pt x="14" y="105"/>
                    </a:lnTo>
                    <a:lnTo>
                      <a:pt x="13" y="71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adbf6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559"/>
              <p:cNvSpPr/>
              <p:nvPr/>
            </p:nvSpPr>
            <p:spPr>
              <a:xfrm>
                <a:off x="4900680" y="4713480"/>
                <a:ext cx="1369800" cy="1569960"/>
              </a:xfrm>
              <a:custGeom>
                <a:avLst/>
                <a:gdLst>
                  <a:gd name="textAreaLeft" fmla="*/ 0 w 1369800"/>
                  <a:gd name="textAreaRight" fmla="*/ 1370160 w 1369800"/>
                  <a:gd name="textAreaTop" fmla="*/ 0 h 1569960"/>
                  <a:gd name="textAreaBottom" fmla="*/ 1570320 h 1569960"/>
                </a:gdLst>
                <a:ahLst/>
                <a:rect l="textAreaLeft" t="textAreaTop" r="textAreaRight" b="textAreaBottom"/>
                <a:pathLst>
                  <a:path w="1818" h="2091">
                    <a:moveTo>
                      <a:pt x="0" y="1670"/>
                    </a:moveTo>
                    <a:lnTo>
                      <a:pt x="31" y="1625"/>
                    </a:lnTo>
                    <a:lnTo>
                      <a:pt x="72" y="1630"/>
                    </a:lnTo>
                    <a:lnTo>
                      <a:pt x="88" y="1568"/>
                    </a:lnTo>
                    <a:lnTo>
                      <a:pt x="78" y="1515"/>
                    </a:lnTo>
                    <a:lnTo>
                      <a:pt x="96" y="1476"/>
                    </a:lnTo>
                    <a:lnTo>
                      <a:pt x="88" y="1424"/>
                    </a:lnTo>
                    <a:lnTo>
                      <a:pt x="106" y="1394"/>
                    </a:lnTo>
                    <a:lnTo>
                      <a:pt x="150" y="1376"/>
                    </a:lnTo>
                    <a:lnTo>
                      <a:pt x="155" y="1340"/>
                    </a:lnTo>
                    <a:lnTo>
                      <a:pt x="175" y="1308"/>
                    </a:lnTo>
                    <a:lnTo>
                      <a:pt x="161" y="1265"/>
                    </a:lnTo>
                    <a:lnTo>
                      <a:pt x="139" y="1235"/>
                    </a:lnTo>
                    <a:lnTo>
                      <a:pt x="187" y="1116"/>
                    </a:lnTo>
                    <a:lnTo>
                      <a:pt x="259" y="1128"/>
                    </a:lnTo>
                    <a:lnTo>
                      <a:pt x="299" y="1107"/>
                    </a:lnTo>
                    <a:lnTo>
                      <a:pt x="313" y="1063"/>
                    </a:lnTo>
                    <a:lnTo>
                      <a:pt x="346" y="1086"/>
                    </a:lnTo>
                    <a:lnTo>
                      <a:pt x="398" y="1162"/>
                    </a:lnTo>
                    <a:lnTo>
                      <a:pt x="426" y="1137"/>
                    </a:lnTo>
                    <a:lnTo>
                      <a:pt x="426" y="1083"/>
                    </a:lnTo>
                    <a:lnTo>
                      <a:pt x="431" y="1053"/>
                    </a:lnTo>
                    <a:lnTo>
                      <a:pt x="468" y="1030"/>
                    </a:lnTo>
                    <a:lnTo>
                      <a:pt x="487" y="993"/>
                    </a:lnTo>
                    <a:lnTo>
                      <a:pt x="516" y="959"/>
                    </a:lnTo>
                    <a:lnTo>
                      <a:pt x="540" y="935"/>
                    </a:lnTo>
                    <a:lnTo>
                      <a:pt x="520" y="888"/>
                    </a:lnTo>
                    <a:lnTo>
                      <a:pt x="557" y="863"/>
                    </a:lnTo>
                    <a:lnTo>
                      <a:pt x="563" y="848"/>
                    </a:lnTo>
                    <a:lnTo>
                      <a:pt x="591" y="847"/>
                    </a:lnTo>
                    <a:lnTo>
                      <a:pt x="595" y="853"/>
                    </a:lnTo>
                    <a:lnTo>
                      <a:pt x="588" y="862"/>
                    </a:lnTo>
                    <a:lnTo>
                      <a:pt x="605" y="894"/>
                    </a:lnTo>
                    <a:lnTo>
                      <a:pt x="624" y="907"/>
                    </a:lnTo>
                    <a:lnTo>
                      <a:pt x="639" y="901"/>
                    </a:lnTo>
                    <a:lnTo>
                      <a:pt x="657" y="921"/>
                    </a:lnTo>
                    <a:lnTo>
                      <a:pt x="658" y="932"/>
                    </a:lnTo>
                    <a:lnTo>
                      <a:pt x="684" y="928"/>
                    </a:lnTo>
                    <a:lnTo>
                      <a:pt x="698" y="940"/>
                    </a:lnTo>
                    <a:lnTo>
                      <a:pt x="729" y="924"/>
                    </a:lnTo>
                    <a:lnTo>
                      <a:pt x="717" y="903"/>
                    </a:lnTo>
                    <a:lnTo>
                      <a:pt x="761" y="851"/>
                    </a:lnTo>
                    <a:lnTo>
                      <a:pt x="737" y="798"/>
                    </a:lnTo>
                    <a:lnTo>
                      <a:pt x="724" y="805"/>
                    </a:lnTo>
                    <a:lnTo>
                      <a:pt x="707" y="767"/>
                    </a:lnTo>
                    <a:lnTo>
                      <a:pt x="726" y="737"/>
                    </a:lnTo>
                    <a:lnTo>
                      <a:pt x="750" y="745"/>
                    </a:lnTo>
                    <a:lnTo>
                      <a:pt x="762" y="740"/>
                    </a:lnTo>
                    <a:lnTo>
                      <a:pt x="749" y="681"/>
                    </a:lnTo>
                    <a:lnTo>
                      <a:pt x="689" y="668"/>
                    </a:lnTo>
                    <a:lnTo>
                      <a:pt x="660" y="616"/>
                    </a:lnTo>
                    <a:lnTo>
                      <a:pt x="666" y="601"/>
                    </a:lnTo>
                    <a:lnTo>
                      <a:pt x="652" y="598"/>
                    </a:lnTo>
                    <a:lnTo>
                      <a:pt x="658" y="558"/>
                    </a:lnTo>
                    <a:lnTo>
                      <a:pt x="686" y="531"/>
                    </a:lnTo>
                    <a:lnTo>
                      <a:pt x="677" y="505"/>
                    </a:lnTo>
                    <a:lnTo>
                      <a:pt x="707" y="493"/>
                    </a:lnTo>
                    <a:lnTo>
                      <a:pt x="707" y="478"/>
                    </a:lnTo>
                    <a:lnTo>
                      <a:pt x="751" y="435"/>
                    </a:lnTo>
                    <a:lnTo>
                      <a:pt x="751" y="409"/>
                    </a:lnTo>
                    <a:lnTo>
                      <a:pt x="778" y="386"/>
                    </a:lnTo>
                    <a:lnTo>
                      <a:pt x="769" y="339"/>
                    </a:lnTo>
                    <a:lnTo>
                      <a:pt x="790" y="316"/>
                    </a:lnTo>
                    <a:lnTo>
                      <a:pt x="789" y="287"/>
                    </a:lnTo>
                    <a:lnTo>
                      <a:pt x="741" y="233"/>
                    </a:lnTo>
                    <a:lnTo>
                      <a:pt x="739" y="218"/>
                    </a:lnTo>
                    <a:lnTo>
                      <a:pt x="757" y="202"/>
                    </a:lnTo>
                    <a:lnTo>
                      <a:pt x="749" y="184"/>
                    </a:lnTo>
                    <a:lnTo>
                      <a:pt x="756" y="172"/>
                    </a:lnTo>
                    <a:lnTo>
                      <a:pt x="770" y="171"/>
                    </a:lnTo>
                    <a:lnTo>
                      <a:pt x="758" y="138"/>
                    </a:lnTo>
                    <a:lnTo>
                      <a:pt x="767" y="78"/>
                    </a:lnTo>
                    <a:lnTo>
                      <a:pt x="748" y="58"/>
                    </a:lnTo>
                    <a:lnTo>
                      <a:pt x="772" y="54"/>
                    </a:lnTo>
                    <a:lnTo>
                      <a:pt x="808" y="69"/>
                    </a:lnTo>
                    <a:lnTo>
                      <a:pt x="830" y="44"/>
                    </a:lnTo>
                    <a:lnTo>
                      <a:pt x="869" y="35"/>
                    </a:lnTo>
                    <a:lnTo>
                      <a:pt x="855" y="0"/>
                    </a:lnTo>
                    <a:lnTo>
                      <a:pt x="907" y="61"/>
                    </a:lnTo>
                    <a:lnTo>
                      <a:pt x="879" y="69"/>
                    </a:lnTo>
                    <a:lnTo>
                      <a:pt x="887" y="107"/>
                    </a:lnTo>
                    <a:lnTo>
                      <a:pt x="934" y="101"/>
                    </a:lnTo>
                    <a:lnTo>
                      <a:pt x="964" y="134"/>
                    </a:lnTo>
                    <a:lnTo>
                      <a:pt x="994" y="210"/>
                    </a:lnTo>
                    <a:lnTo>
                      <a:pt x="973" y="283"/>
                    </a:lnTo>
                    <a:lnTo>
                      <a:pt x="1016" y="278"/>
                    </a:lnTo>
                    <a:lnTo>
                      <a:pt x="1031" y="322"/>
                    </a:lnTo>
                    <a:lnTo>
                      <a:pt x="1011" y="366"/>
                    </a:lnTo>
                    <a:lnTo>
                      <a:pt x="1032" y="402"/>
                    </a:lnTo>
                    <a:lnTo>
                      <a:pt x="1070" y="456"/>
                    </a:lnTo>
                    <a:lnTo>
                      <a:pt x="1106" y="473"/>
                    </a:lnTo>
                    <a:lnTo>
                      <a:pt x="1089" y="513"/>
                    </a:lnTo>
                    <a:lnTo>
                      <a:pt x="1076" y="550"/>
                    </a:lnTo>
                    <a:lnTo>
                      <a:pt x="1068" y="620"/>
                    </a:lnTo>
                    <a:lnTo>
                      <a:pt x="1069" y="689"/>
                    </a:lnTo>
                    <a:lnTo>
                      <a:pt x="1050" y="750"/>
                    </a:lnTo>
                    <a:lnTo>
                      <a:pt x="1068" y="778"/>
                    </a:lnTo>
                    <a:lnTo>
                      <a:pt x="1108" y="821"/>
                    </a:lnTo>
                    <a:lnTo>
                      <a:pt x="1166" y="798"/>
                    </a:lnTo>
                    <a:lnTo>
                      <a:pt x="1162" y="769"/>
                    </a:lnTo>
                    <a:lnTo>
                      <a:pt x="1234" y="764"/>
                    </a:lnTo>
                    <a:lnTo>
                      <a:pt x="1279" y="712"/>
                    </a:lnTo>
                    <a:lnTo>
                      <a:pt x="1311" y="733"/>
                    </a:lnTo>
                    <a:lnTo>
                      <a:pt x="1300" y="762"/>
                    </a:lnTo>
                    <a:lnTo>
                      <a:pt x="1319" y="805"/>
                    </a:lnTo>
                    <a:lnTo>
                      <a:pt x="1328" y="759"/>
                    </a:lnTo>
                    <a:lnTo>
                      <a:pt x="1355" y="748"/>
                    </a:lnTo>
                    <a:lnTo>
                      <a:pt x="1375" y="672"/>
                    </a:lnTo>
                    <a:lnTo>
                      <a:pt x="1409" y="639"/>
                    </a:lnTo>
                    <a:lnTo>
                      <a:pt x="1433" y="588"/>
                    </a:lnTo>
                    <a:lnTo>
                      <a:pt x="1456" y="548"/>
                    </a:lnTo>
                    <a:lnTo>
                      <a:pt x="1462" y="496"/>
                    </a:lnTo>
                    <a:lnTo>
                      <a:pt x="1491" y="485"/>
                    </a:lnTo>
                    <a:lnTo>
                      <a:pt x="1567" y="500"/>
                    </a:lnTo>
                    <a:lnTo>
                      <a:pt x="1595" y="516"/>
                    </a:lnTo>
                    <a:lnTo>
                      <a:pt x="1613" y="542"/>
                    </a:lnTo>
                    <a:lnTo>
                      <a:pt x="1641" y="528"/>
                    </a:lnTo>
                    <a:lnTo>
                      <a:pt x="1634" y="572"/>
                    </a:lnTo>
                    <a:lnTo>
                      <a:pt x="1641" y="613"/>
                    </a:lnTo>
                    <a:lnTo>
                      <a:pt x="1675" y="602"/>
                    </a:lnTo>
                    <a:lnTo>
                      <a:pt x="1702" y="583"/>
                    </a:lnTo>
                    <a:lnTo>
                      <a:pt x="1730" y="594"/>
                    </a:lnTo>
                    <a:lnTo>
                      <a:pt x="1765" y="592"/>
                    </a:lnTo>
                    <a:lnTo>
                      <a:pt x="1761" y="631"/>
                    </a:lnTo>
                    <a:lnTo>
                      <a:pt x="1785" y="678"/>
                    </a:lnTo>
                    <a:lnTo>
                      <a:pt x="1818" y="715"/>
                    </a:lnTo>
                    <a:lnTo>
                      <a:pt x="1772" y="740"/>
                    </a:lnTo>
                    <a:lnTo>
                      <a:pt x="1742" y="765"/>
                    </a:lnTo>
                    <a:lnTo>
                      <a:pt x="1701" y="786"/>
                    </a:lnTo>
                    <a:lnTo>
                      <a:pt x="1708" y="858"/>
                    </a:lnTo>
                    <a:lnTo>
                      <a:pt x="1701" y="890"/>
                    </a:lnTo>
                    <a:lnTo>
                      <a:pt x="1739" y="943"/>
                    </a:lnTo>
                    <a:lnTo>
                      <a:pt x="1766" y="933"/>
                    </a:lnTo>
                    <a:lnTo>
                      <a:pt x="1755" y="1010"/>
                    </a:lnTo>
                    <a:lnTo>
                      <a:pt x="1712" y="1036"/>
                    </a:lnTo>
                    <a:lnTo>
                      <a:pt x="1663" y="1025"/>
                    </a:lnTo>
                    <a:lnTo>
                      <a:pt x="1636" y="1032"/>
                    </a:lnTo>
                    <a:lnTo>
                      <a:pt x="1651" y="983"/>
                    </a:lnTo>
                    <a:lnTo>
                      <a:pt x="1631" y="1008"/>
                    </a:lnTo>
                    <a:lnTo>
                      <a:pt x="1584" y="1047"/>
                    </a:lnTo>
                    <a:lnTo>
                      <a:pt x="1553" y="1101"/>
                    </a:lnTo>
                    <a:lnTo>
                      <a:pt x="1523" y="1108"/>
                    </a:lnTo>
                    <a:lnTo>
                      <a:pt x="1499" y="1144"/>
                    </a:lnTo>
                    <a:lnTo>
                      <a:pt x="1472" y="1123"/>
                    </a:lnTo>
                    <a:lnTo>
                      <a:pt x="1421" y="1134"/>
                    </a:lnTo>
                    <a:lnTo>
                      <a:pt x="1385" y="1096"/>
                    </a:lnTo>
                    <a:lnTo>
                      <a:pt x="1355" y="1122"/>
                    </a:lnTo>
                    <a:lnTo>
                      <a:pt x="1324" y="1116"/>
                    </a:lnTo>
                    <a:lnTo>
                      <a:pt x="1290" y="1095"/>
                    </a:lnTo>
                    <a:lnTo>
                      <a:pt x="1273" y="1141"/>
                    </a:lnTo>
                    <a:lnTo>
                      <a:pt x="1235" y="1139"/>
                    </a:lnTo>
                    <a:lnTo>
                      <a:pt x="1205" y="1133"/>
                    </a:lnTo>
                    <a:lnTo>
                      <a:pt x="1172" y="1155"/>
                    </a:lnTo>
                    <a:lnTo>
                      <a:pt x="1141" y="1181"/>
                    </a:lnTo>
                    <a:lnTo>
                      <a:pt x="1114" y="1195"/>
                    </a:lnTo>
                    <a:lnTo>
                      <a:pt x="1088" y="1236"/>
                    </a:lnTo>
                    <a:lnTo>
                      <a:pt x="1082" y="1264"/>
                    </a:lnTo>
                    <a:lnTo>
                      <a:pt x="1110" y="1281"/>
                    </a:lnTo>
                    <a:lnTo>
                      <a:pt x="1141" y="1308"/>
                    </a:lnTo>
                    <a:lnTo>
                      <a:pt x="1111" y="1327"/>
                    </a:lnTo>
                    <a:lnTo>
                      <a:pt x="1116" y="1362"/>
                    </a:lnTo>
                    <a:lnTo>
                      <a:pt x="1107" y="1390"/>
                    </a:lnTo>
                    <a:lnTo>
                      <a:pt x="1124" y="1425"/>
                    </a:lnTo>
                    <a:lnTo>
                      <a:pt x="1126" y="1463"/>
                    </a:lnTo>
                    <a:lnTo>
                      <a:pt x="1122" y="1498"/>
                    </a:lnTo>
                    <a:lnTo>
                      <a:pt x="1111" y="1534"/>
                    </a:lnTo>
                    <a:lnTo>
                      <a:pt x="1126" y="1578"/>
                    </a:lnTo>
                    <a:lnTo>
                      <a:pt x="1117" y="1633"/>
                    </a:lnTo>
                    <a:lnTo>
                      <a:pt x="1122" y="1724"/>
                    </a:lnTo>
                    <a:lnTo>
                      <a:pt x="979" y="1869"/>
                    </a:lnTo>
                    <a:lnTo>
                      <a:pt x="841" y="2029"/>
                    </a:lnTo>
                    <a:lnTo>
                      <a:pt x="821" y="2060"/>
                    </a:lnTo>
                    <a:lnTo>
                      <a:pt x="778" y="2076"/>
                    </a:lnTo>
                    <a:lnTo>
                      <a:pt x="752" y="2091"/>
                    </a:lnTo>
                    <a:lnTo>
                      <a:pt x="748" y="2049"/>
                    </a:lnTo>
                    <a:lnTo>
                      <a:pt x="711" y="2051"/>
                    </a:lnTo>
                    <a:lnTo>
                      <a:pt x="686" y="2032"/>
                    </a:lnTo>
                    <a:lnTo>
                      <a:pt x="685" y="1998"/>
                    </a:lnTo>
                    <a:lnTo>
                      <a:pt x="658" y="1982"/>
                    </a:lnTo>
                    <a:lnTo>
                      <a:pt x="599" y="1939"/>
                    </a:lnTo>
                    <a:lnTo>
                      <a:pt x="566" y="1941"/>
                    </a:lnTo>
                    <a:lnTo>
                      <a:pt x="541" y="1921"/>
                    </a:lnTo>
                    <a:lnTo>
                      <a:pt x="505" y="1881"/>
                    </a:lnTo>
                    <a:lnTo>
                      <a:pt x="461" y="1845"/>
                    </a:lnTo>
                    <a:lnTo>
                      <a:pt x="439" y="1826"/>
                    </a:lnTo>
                    <a:lnTo>
                      <a:pt x="422" y="1800"/>
                    </a:lnTo>
                    <a:lnTo>
                      <a:pt x="387" y="1788"/>
                    </a:lnTo>
                    <a:lnTo>
                      <a:pt x="358" y="1814"/>
                    </a:lnTo>
                    <a:lnTo>
                      <a:pt x="328" y="1826"/>
                    </a:lnTo>
                    <a:lnTo>
                      <a:pt x="319" y="1860"/>
                    </a:lnTo>
                    <a:lnTo>
                      <a:pt x="285" y="1826"/>
                    </a:lnTo>
                    <a:lnTo>
                      <a:pt x="233" y="1841"/>
                    </a:lnTo>
                    <a:lnTo>
                      <a:pt x="210" y="1817"/>
                    </a:lnTo>
                    <a:lnTo>
                      <a:pt x="176" y="1802"/>
                    </a:lnTo>
                    <a:lnTo>
                      <a:pt x="153" y="1769"/>
                    </a:lnTo>
                    <a:lnTo>
                      <a:pt x="92" y="1763"/>
                    </a:lnTo>
                    <a:lnTo>
                      <a:pt x="60" y="1730"/>
                    </a:lnTo>
                    <a:lnTo>
                      <a:pt x="37" y="1698"/>
                    </a:lnTo>
                    <a:lnTo>
                      <a:pt x="0" y="167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Freeform 522"/>
              <p:cNvGrpSpPr/>
              <p:nvPr/>
            </p:nvGrpSpPr>
            <p:grpSpPr>
              <a:xfrm>
                <a:off x="7985880" y="3072240"/>
                <a:ext cx="731520" cy="1402200"/>
                <a:chOff x="7985880" y="3072240"/>
                <a:chExt cx="731520" cy="1402200"/>
              </a:xfrm>
            </p:grpSpPr>
            <p:pic>
              <p:nvPicPr>
                <p:cNvPr id="252" name="Freeform 52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85880" y="3072240"/>
                  <a:ext cx="731520" cy="140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"/>
                <p:cNvSpPr/>
                <p:nvPr/>
              </p:nvSpPr>
              <p:spPr>
                <a:xfrm>
                  <a:off x="8008200" y="3092760"/>
                  <a:ext cx="685080" cy="135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Freeform 510"/>
              <p:cNvSpPr/>
              <p:nvPr/>
            </p:nvSpPr>
            <p:spPr>
              <a:xfrm>
                <a:off x="7362720" y="3252600"/>
                <a:ext cx="877680" cy="1192320"/>
              </a:xfrm>
              <a:custGeom>
                <a:avLst/>
                <a:gdLst>
                  <a:gd name="textAreaLeft" fmla="*/ 0 w 877680"/>
                  <a:gd name="textAreaRight" fmla="*/ 878040 w 877680"/>
                  <a:gd name="textAreaTop" fmla="*/ 0 h 1192320"/>
                  <a:gd name="textAreaBottom" fmla="*/ 1192680 h 1192320"/>
                </a:gdLst>
                <a:ahLst/>
                <a:rect l="textAreaLeft" t="textAreaTop" r="textAreaRight" b="textAreaBottom"/>
                <a:pathLst>
                  <a:path w="1171" h="1587">
                    <a:moveTo>
                      <a:pt x="452" y="161"/>
                    </a:moveTo>
                    <a:lnTo>
                      <a:pt x="496" y="141"/>
                    </a:lnTo>
                    <a:lnTo>
                      <a:pt x="478" y="101"/>
                    </a:lnTo>
                    <a:lnTo>
                      <a:pt x="561" y="94"/>
                    </a:lnTo>
                    <a:lnTo>
                      <a:pt x="600" y="100"/>
                    </a:lnTo>
                    <a:lnTo>
                      <a:pt x="687" y="84"/>
                    </a:lnTo>
                    <a:lnTo>
                      <a:pt x="722" y="57"/>
                    </a:lnTo>
                    <a:lnTo>
                      <a:pt x="749" y="36"/>
                    </a:lnTo>
                    <a:lnTo>
                      <a:pt x="799" y="17"/>
                    </a:lnTo>
                    <a:lnTo>
                      <a:pt x="882" y="0"/>
                    </a:lnTo>
                    <a:lnTo>
                      <a:pt x="945" y="44"/>
                    </a:lnTo>
                    <a:lnTo>
                      <a:pt x="885" y="53"/>
                    </a:lnTo>
                    <a:lnTo>
                      <a:pt x="884" y="64"/>
                    </a:lnTo>
                    <a:lnTo>
                      <a:pt x="866" y="81"/>
                    </a:lnTo>
                    <a:lnTo>
                      <a:pt x="852" y="82"/>
                    </a:lnTo>
                    <a:lnTo>
                      <a:pt x="853" y="121"/>
                    </a:lnTo>
                    <a:lnTo>
                      <a:pt x="871" y="124"/>
                    </a:lnTo>
                    <a:lnTo>
                      <a:pt x="879" y="140"/>
                    </a:lnTo>
                    <a:lnTo>
                      <a:pt x="907" y="152"/>
                    </a:lnTo>
                    <a:lnTo>
                      <a:pt x="931" y="187"/>
                    </a:lnTo>
                    <a:lnTo>
                      <a:pt x="913" y="194"/>
                    </a:lnTo>
                    <a:lnTo>
                      <a:pt x="912" y="219"/>
                    </a:lnTo>
                    <a:lnTo>
                      <a:pt x="940" y="222"/>
                    </a:lnTo>
                    <a:lnTo>
                      <a:pt x="956" y="241"/>
                    </a:lnTo>
                    <a:lnTo>
                      <a:pt x="946" y="258"/>
                    </a:lnTo>
                    <a:lnTo>
                      <a:pt x="967" y="265"/>
                    </a:lnTo>
                    <a:lnTo>
                      <a:pt x="979" y="259"/>
                    </a:lnTo>
                    <a:lnTo>
                      <a:pt x="998" y="274"/>
                    </a:lnTo>
                    <a:lnTo>
                      <a:pt x="993" y="303"/>
                    </a:lnTo>
                    <a:lnTo>
                      <a:pt x="1018" y="316"/>
                    </a:lnTo>
                    <a:lnTo>
                      <a:pt x="1019" y="330"/>
                    </a:lnTo>
                    <a:lnTo>
                      <a:pt x="1010" y="340"/>
                    </a:lnTo>
                    <a:lnTo>
                      <a:pt x="1016" y="352"/>
                    </a:lnTo>
                    <a:lnTo>
                      <a:pt x="1003" y="366"/>
                    </a:lnTo>
                    <a:lnTo>
                      <a:pt x="1022" y="387"/>
                    </a:lnTo>
                    <a:lnTo>
                      <a:pt x="1058" y="382"/>
                    </a:lnTo>
                    <a:lnTo>
                      <a:pt x="1068" y="390"/>
                    </a:lnTo>
                    <a:lnTo>
                      <a:pt x="1076" y="384"/>
                    </a:lnTo>
                    <a:lnTo>
                      <a:pt x="1090" y="410"/>
                    </a:lnTo>
                    <a:lnTo>
                      <a:pt x="1119" y="437"/>
                    </a:lnTo>
                    <a:lnTo>
                      <a:pt x="1095" y="477"/>
                    </a:lnTo>
                    <a:lnTo>
                      <a:pt x="1125" y="468"/>
                    </a:lnTo>
                    <a:lnTo>
                      <a:pt x="1140" y="485"/>
                    </a:lnTo>
                    <a:lnTo>
                      <a:pt x="1132" y="495"/>
                    </a:lnTo>
                    <a:lnTo>
                      <a:pt x="1166" y="523"/>
                    </a:lnTo>
                    <a:lnTo>
                      <a:pt x="1168" y="555"/>
                    </a:lnTo>
                    <a:lnTo>
                      <a:pt x="1171" y="590"/>
                    </a:lnTo>
                    <a:lnTo>
                      <a:pt x="1166" y="638"/>
                    </a:lnTo>
                    <a:lnTo>
                      <a:pt x="1166" y="702"/>
                    </a:lnTo>
                    <a:lnTo>
                      <a:pt x="1164" y="744"/>
                    </a:lnTo>
                    <a:lnTo>
                      <a:pt x="1134" y="746"/>
                    </a:lnTo>
                    <a:lnTo>
                      <a:pt x="1129" y="709"/>
                    </a:lnTo>
                    <a:lnTo>
                      <a:pt x="1108" y="751"/>
                    </a:lnTo>
                    <a:lnTo>
                      <a:pt x="1077" y="703"/>
                    </a:lnTo>
                    <a:lnTo>
                      <a:pt x="1069" y="674"/>
                    </a:lnTo>
                    <a:lnTo>
                      <a:pt x="1050" y="634"/>
                    </a:lnTo>
                    <a:lnTo>
                      <a:pt x="1025" y="605"/>
                    </a:lnTo>
                    <a:lnTo>
                      <a:pt x="1023" y="649"/>
                    </a:lnTo>
                    <a:lnTo>
                      <a:pt x="1012" y="677"/>
                    </a:lnTo>
                    <a:lnTo>
                      <a:pt x="973" y="658"/>
                    </a:lnTo>
                    <a:lnTo>
                      <a:pt x="951" y="698"/>
                    </a:lnTo>
                    <a:lnTo>
                      <a:pt x="925" y="720"/>
                    </a:lnTo>
                    <a:lnTo>
                      <a:pt x="900" y="753"/>
                    </a:lnTo>
                    <a:lnTo>
                      <a:pt x="884" y="779"/>
                    </a:lnTo>
                    <a:lnTo>
                      <a:pt x="873" y="806"/>
                    </a:lnTo>
                    <a:lnTo>
                      <a:pt x="869" y="843"/>
                    </a:lnTo>
                    <a:lnTo>
                      <a:pt x="895" y="880"/>
                    </a:lnTo>
                    <a:lnTo>
                      <a:pt x="886" y="956"/>
                    </a:lnTo>
                    <a:lnTo>
                      <a:pt x="902" y="980"/>
                    </a:lnTo>
                    <a:lnTo>
                      <a:pt x="897" y="1023"/>
                    </a:lnTo>
                    <a:lnTo>
                      <a:pt x="881" y="1067"/>
                    </a:lnTo>
                    <a:lnTo>
                      <a:pt x="884" y="1125"/>
                    </a:lnTo>
                    <a:lnTo>
                      <a:pt x="898" y="1153"/>
                    </a:lnTo>
                    <a:lnTo>
                      <a:pt x="920" y="1200"/>
                    </a:lnTo>
                    <a:lnTo>
                      <a:pt x="919" y="1230"/>
                    </a:lnTo>
                    <a:lnTo>
                      <a:pt x="941" y="1211"/>
                    </a:lnTo>
                    <a:lnTo>
                      <a:pt x="962" y="1191"/>
                    </a:lnTo>
                    <a:lnTo>
                      <a:pt x="993" y="1184"/>
                    </a:lnTo>
                    <a:lnTo>
                      <a:pt x="993" y="1221"/>
                    </a:lnTo>
                    <a:lnTo>
                      <a:pt x="958" y="1245"/>
                    </a:lnTo>
                    <a:lnTo>
                      <a:pt x="954" y="1287"/>
                    </a:lnTo>
                    <a:lnTo>
                      <a:pt x="918" y="1283"/>
                    </a:lnTo>
                    <a:lnTo>
                      <a:pt x="895" y="1308"/>
                    </a:lnTo>
                    <a:lnTo>
                      <a:pt x="888" y="1336"/>
                    </a:lnTo>
                    <a:lnTo>
                      <a:pt x="887" y="1369"/>
                    </a:lnTo>
                    <a:lnTo>
                      <a:pt x="850" y="1367"/>
                    </a:lnTo>
                    <a:lnTo>
                      <a:pt x="841" y="1414"/>
                    </a:lnTo>
                    <a:lnTo>
                      <a:pt x="809" y="1435"/>
                    </a:lnTo>
                    <a:lnTo>
                      <a:pt x="762" y="1422"/>
                    </a:lnTo>
                    <a:lnTo>
                      <a:pt x="823" y="1365"/>
                    </a:lnTo>
                    <a:lnTo>
                      <a:pt x="786" y="1363"/>
                    </a:lnTo>
                    <a:lnTo>
                      <a:pt x="739" y="1348"/>
                    </a:lnTo>
                    <a:lnTo>
                      <a:pt x="715" y="1376"/>
                    </a:lnTo>
                    <a:lnTo>
                      <a:pt x="691" y="1400"/>
                    </a:lnTo>
                    <a:lnTo>
                      <a:pt x="644" y="1396"/>
                    </a:lnTo>
                    <a:lnTo>
                      <a:pt x="617" y="1407"/>
                    </a:lnTo>
                    <a:lnTo>
                      <a:pt x="601" y="1430"/>
                    </a:lnTo>
                    <a:lnTo>
                      <a:pt x="600" y="1461"/>
                    </a:lnTo>
                    <a:lnTo>
                      <a:pt x="587" y="1500"/>
                    </a:lnTo>
                    <a:lnTo>
                      <a:pt x="617" y="1510"/>
                    </a:lnTo>
                    <a:lnTo>
                      <a:pt x="576" y="1529"/>
                    </a:lnTo>
                    <a:lnTo>
                      <a:pt x="535" y="1536"/>
                    </a:lnTo>
                    <a:lnTo>
                      <a:pt x="524" y="1576"/>
                    </a:lnTo>
                    <a:lnTo>
                      <a:pt x="496" y="1582"/>
                    </a:lnTo>
                    <a:lnTo>
                      <a:pt x="468" y="1587"/>
                    </a:lnTo>
                    <a:lnTo>
                      <a:pt x="449" y="1527"/>
                    </a:lnTo>
                    <a:lnTo>
                      <a:pt x="418" y="1516"/>
                    </a:lnTo>
                    <a:lnTo>
                      <a:pt x="377" y="1505"/>
                    </a:lnTo>
                    <a:lnTo>
                      <a:pt x="348" y="1502"/>
                    </a:lnTo>
                    <a:lnTo>
                      <a:pt x="301" y="1519"/>
                    </a:lnTo>
                    <a:lnTo>
                      <a:pt x="278" y="1476"/>
                    </a:lnTo>
                    <a:lnTo>
                      <a:pt x="320" y="1437"/>
                    </a:lnTo>
                    <a:lnTo>
                      <a:pt x="299" y="1394"/>
                    </a:lnTo>
                    <a:lnTo>
                      <a:pt x="306" y="1358"/>
                    </a:lnTo>
                    <a:lnTo>
                      <a:pt x="281" y="1322"/>
                    </a:lnTo>
                    <a:lnTo>
                      <a:pt x="252" y="1304"/>
                    </a:lnTo>
                    <a:lnTo>
                      <a:pt x="215" y="1275"/>
                    </a:lnTo>
                    <a:lnTo>
                      <a:pt x="183" y="1271"/>
                    </a:lnTo>
                    <a:lnTo>
                      <a:pt x="163" y="1292"/>
                    </a:lnTo>
                    <a:lnTo>
                      <a:pt x="136" y="1315"/>
                    </a:lnTo>
                    <a:lnTo>
                      <a:pt x="104" y="1315"/>
                    </a:lnTo>
                    <a:lnTo>
                      <a:pt x="109" y="1264"/>
                    </a:lnTo>
                    <a:lnTo>
                      <a:pt x="89" y="1243"/>
                    </a:lnTo>
                    <a:lnTo>
                      <a:pt x="106" y="1215"/>
                    </a:lnTo>
                    <a:lnTo>
                      <a:pt x="76" y="1190"/>
                    </a:lnTo>
                    <a:lnTo>
                      <a:pt x="60" y="1165"/>
                    </a:lnTo>
                    <a:lnTo>
                      <a:pt x="39" y="1147"/>
                    </a:lnTo>
                    <a:lnTo>
                      <a:pt x="33" y="1109"/>
                    </a:lnTo>
                    <a:lnTo>
                      <a:pt x="19" y="1065"/>
                    </a:lnTo>
                    <a:lnTo>
                      <a:pt x="0" y="1043"/>
                    </a:lnTo>
                    <a:lnTo>
                      <a:pt x="25" y="995"/>
                    </a:lnTo>
                    <a:lnTo>
                      <a:pt x="20" y="961"/>
                    </a:lnTo>
                    <a:lnTo>
                      <a:pt x="82" y="939"/>
                    </a:lnTo>
                    <a:lnTo>
                      <a:pt x="85" y="909"/>
                    </a:lnTo>
                    <a:lnTo>
                      <a:pt x="128" y="921"/>
                    </a:lnTo>
                    <a:lnTo>
                      <a:pt x="117" y="875"/>
                    </a:lnTo>
                    <a:lnTo>
                      <a:pt x="86" y="860"/>
                    </a:lnTo>
                    <a:lnTo>
                      <a:pt x="104" y="825"/>
                    </a:lnTo>
                    <a:lnTo>
                      <a:pt x="133" y="827"/>
                    </a:lnTo>
                    <a:lnTo>
                      <a:pt x="158" y="796"/>
                    </a:lnTo>
                    <a:lnTo>
                      <a:pt x="172" y="767"/>
                    </a:lnTo>
                    <a:lnTo>
                      <a:pt x="202" y="763"/>
                    </a:lnTo>
                    <a:lnTo>
                      <a:pt x="214" y="795"/>
                    </a:lnTo>
                    <a:lnTo>
                      <a:pt x="254" y="789"/>
                    </a:lnTo>
                    <a:lnTo>
                      <a:pt x="262" y="748"/>
                    </a:lnTo>
                    <a:lnTo>
                      <a:pt x="287" y="724"/>
                    </a:lnTo>
                    <a:lnTo>
                      <a:pt x="291" y="695"/>
                    </a:lnTo>
                    <a:lnTo>
                      <a:pt x="332" y="681"/>
                    </a:lnTo>
                    <a:lnTo>
                      <a:pt x="324" y="653"/>
                    </a:lnTo>
                    <a:lnTo>
                      <a:pt x="314" y="614"/>
                    </a:lnTo>
                    <a:lnTo>
                      <a:pt x="283" y="595"/>
                    </a:lnTo>
                    <a:lnTo>
                      <a:pt x="262" y="557"/>
                    </a:lnTo>
                    <a:lnTo>
                      <a:pt x="287" y="526"/>
                    </a:lnTo>
                    <a:lnTo>
                      <a:pt x="281" y="491"/>
                    </a:lnTo>
                    <a:lnTo>
                      <a:pt x="249" y="444"/>
                    </a:lnTo>
                    <a:lnTo>
                      <a:pt x="292" y="396"/>
                    </a:lnTo>
                    <a:lnTo>
                      <a:pt x="268" y="382"/>
                    </a:lnTo>
                    <a:lnTo>
                      <a:pt x="266" y="339"/>
                    </a:lnTo>
                    <a:lnTo>
                      <a:pt x="296" y="324"/>
                    </a:lnTo>
                    <a:lnTo>
                      <a:pt x="330" y="298"/>
                    </a:lnTo>
                    <a:lnTo>
                      <a:pt x="376" y="292"/>
                    </a:lnTo>
                    <a:lnTo>
                      <a:pt x="369" y="260"/>
                    </a:lnTo>
                    <a:lnTo>
                      <a:pt x="417" y="284"/>
                    </a:lnTo>
                    <a:lnTo>
                      <a:pt x="432" y="255"/>
                    </a:lnTo>
                    <a:lnTo>
                      <a:pt x="437" y="217"/>
                    </a:lnTo>
                    <a:lnTo>
                      <a:pt x="471" y="188"/>
                    </a:lnTo>
                    <a:lnTo>
                      <a:pt x="452" y="161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520"/>
              <p:cNvSpPr/>
              <p:nvPr/>
            </p:nvSpPr>
            <p:spPr>
              <a:xfrm>
                <a:off x="7550280" y="2108160"/>
                <a:ext cx="1250640" cy="1266840"/>
              </a:xfrm>
              <a:custGeom>
                <a:avLst/>
                <a:gdLst>
                  <a:gd name="textAreaLeft" fmla="*/ 0 w 1250640"/>
                  <a:gd name="textAreaRight" fmla="*/ 1251000 w 1250640"/>
                  <a:gd name="textAreaTop" fmla="*/ 0 h 1266840"/>
                  <a:gd name="textAreaBottom" fmla="*/ 1267200 h 1266840"/>
                </a:gdLst>
                <a:ahLst/>
                <a:rect l="textAreaLeft" t="textAreaTop" r="textAreaRight" b="textAreaBottom"/>
                <a:pathLst>
                  <a:path w="1666" h="1685">
                    <a:moveTo>
                      <a:pt x="1483" y="1351"/>
                    </a:moveTo>
                    <a:lnTo>
                      <a:pt x="1449" y="1335"/>
                    </a:lnTo>
                    <a:lnTo>
                      <a:pt x="1433" y="1339"/>
                    </a:lnTo>
                    <a:lnTo>
                      <a:pt x="1414" y="1324"/>
                    </a:lnTo>
                    <a:lnTo>
                      <a:pt x="1403" y="1329"/>
                    </a:lnTo>
                    <a:lnTo>
                      <a:pt x="1403" y="1311"/>
                    </a:lnTo>
                    <a:lnTo>
                      <a:pt x="1390" y="1304"/>
                    </a:lnTo>
                    <a:lnTo>
                      <a:pt x="1371" y="1307"/>
                    </a:lnTo>
                    <a:lnTo>
                      <a:pt x="1353" y="1323"/>
                    </a:lnTo>
                    <a:lnTo>
                      <a:pt x="1345" y="1389"/>
                    </a:lnTo>
                    <a:lnTo>
                      <a:pt x="1321" y="1396"/>
                    </a:lnTo>
                    <a:lnTo>
                      <a:pt x="1316" y="1425"/>
                    </a:lnTo>
                    <a:lnTo>
                      <a:pt x="1302" y="1423"/>
                    </a:lnTo>
                    <a:lnTo>
                      <a:pt x="1292" y="1462"/>
                    </a:lnTo>
                    <a:lnTo>
                      <a:pt x="1281" y="1481"/>
                    </a:lnTo>
                    <a:lnTo>
                      <a:pt x="1275" y="1473"/>
                    </a:lnTo>
                    <a:lnTo>
                      <a:pt x="1267" y="1495"/>
                    </a:lnTo>
                    <a:lnTo>
                      <a:pt x="1271" y="1511"/>
                    </a:lnTo>
                    <a:lnTo>
                      <a:pt x="1248" y="1524"/>
                    </a:lnTo>
                    <a:lnTo>
                      <a:pt x="1228" y="1555"/>
                    </a:lnTo>
                    <a:lnTo>
                      <a:pt x="1189" y="1524"/>
                    </a:lnTo>
                    <a:lnTo>
                      <a:pt x="1172" y="1522"/>
                    </a:lnTo>
                    <a:lnTo>
                      <a:pt x="1166" y="1528"/>
                    </a:lnTo>
                    <a:lnTo>
                      <a:pt x="1131" y="1526"/>
                    </a:lnTo>
                    <a:lnTo>
                      <a:pt x="1108" y="1532"/>
                    </a:lnTo>
                    <a:lnTo>
                      <a:pt x="1074" y="1560"/>
                    </a:lnTo>
                    <a:lnTo>
                      <a:pt x="1051" y="1567"/>
                    </a:lnTo>
                    <a:lnTo>
                      <a:pt x="1045" y="1539"/>
                    </a:lnTo>
                    <a:lnTo>
                      <a:pt x="1053" y="1537"/>
                    </a:lnTo>
                    <a:lnTo>
                      <a:pt x="1054" y="1526"/>
                    </a:lnTo>
                    <a:lnTo>
                      <a:pt x="1045" y="1521"/>
                    </a:lnTo>
                    <a:lnTo>
                      <a:pt x="1040" y="1459"/>
                    </a:lnTo>
                    <a:lnTo>
                      <a:pt x="1030" y="1431"/>
                    </a:lnTo>
                    <a:lnTo>
                      <a:pt x="996" y="1420"/>
                    </a:lnTo>
                    <a:lnTo>
                      <a:pt x="974" y="1442"/>
                    </a:lnTo>
                    <a:lnTo>
                      <a:pt x="942" y="1434"/>
                    </a:lnTo>
                    <a:lnTo>
                      <a:pt x="902" y="1430"/>
                    </a:lnTo>
                    <a:lnTo>
                      <a:pt x="883" y="1461"/>
                    </a:lnTo>
                    <a:lnTo>
                      <a:pt x="817" y="1456"/>
                    </a:lnTo>
                    <a:lnTo>
                      <a:pt x="807" y="1489"/>
                    </a:lnTo>
                    <a:lnTo>
                      <a:pt x="766" y="1516"/>
                    </a:lnTo>
                    <a:lnTo>
                      <a:pt x="760" y="1534"/>
                    </a:lnTo>
                    <a:lnTo>
                      <a:pt x="728" y="1524"/>
                    </a:lnTo>
                    <a:lnTo>
                      <a:pt x="691" y="1545"/>
                    </a:lnTo>
                    <a:lnTo>
                      <a:pt x="703" y="1562"/>
                    </a:lnTo>
                    <a:lnTo>
                      <a:pt x="695" y="1568"/>
                    </a:lnTo>
                    <a:lnTo>
                      <a:pt x="632" y="1524"/>
                    </a:lnTo>
                    <a:lnTo>
                      <a:pt x="549" y="1541"/>
                    </a:lnTo>
                    <a:lnTo>
                      <a:pt x="499" y="1560"/>
                    </a:lnTo>
                    <a:lnTo>
                      <a:pt x="472" y="1581"/>
                    </a:lnTo>
                    <a:lnTo>
                      <a:pt x="437" y="1608"/>
                    </a:lnTo>
                    <a:lnTo>
                      <a:pt x="350" y="1624"/>
                    </a:lnTo>
                    <a:lnTo>
                      <a:pt x="311" y="1618"/>
                    </a:lnTo>
                    <a:lnTo>
                      <a:pt x="228" y="1625"/>
                    </a:lnTo>
                    <a:lnTo>
                      <a:pt x="246" y="1665"/>
                    </a:lnTo>
                    <a:lnTo>
                      <a:pt x="202" y="1685"/>
                    </a:lnTo>
                    <a:lnTo>
                      <a:pt x="173" y="1676"/>
                    </a:lnTo>
                    <a:lnTo>
                      <a:pt x="168" y="1606"/>
                    </a:lnTo>
                    <a:lnTo>
                      <a:pt x="136" y="1586"/>
                    </a:lnTo>
                    <a:lnTo>
                      <a:pt x="72" y="1588"/>
                    </a:lnTo>
                    <a:lnTo>
                      <a:pt x="71" y="1595"/>
                    </a:lnTo>
                    <a:lnTo>
                      <a:pt x="44" y="1571"/>
                    </a:lnTo>
                    <a:lnTo>
                      <a:pt x="26" y="1568"/>
                    </a:lnTo>
                    <a:lnTo>
                      <a:pt x="15" y="1535"/>
                    </a:lnTo>
                    <a:lnTo>
                      <a:pt x="28" y="1526"/>
                    </a:lnTo>
                    <a:lnTo>
                      <a:pt x="37" y="1512"/>
                    </a:lnTo>
                    <a:lnTo>
                      <a:pt x="11" y="1511"/>
                    </a:lnTo>
                    <a:lnTo>
                      <a:pt x="3" y="1451"/>
                    </a:lnTo>
                    <a:lnTo>
                      <a:pt x="21" y="1434"/>
                    </a:lnTo>
                    <a:lnTo>
                      <a:pt x="32" y="1400"/>
                    </a:lnTo>
                    <a:lnTo>
                      <a:pt x="49" y="1396"/>
                    </a:lnTo>
                    <a:lnTo>
                      <a:pt x="43" y="1378"/>
                    </a:lnTo>
                    <a:lnTo>
                      <a:pt x="69" y="1355"/>
                    </a:lnTo>
                    <a:lnTo>
                      <a:pt x="90" y="1346"/>
                    </a:lnTo>
                    <a:lnTo>
                      <a:pt x="96" y="1328"/>
                    </a:lnTo>
                    <a:lnTo>
                      <a:pt x="93" y="1300"/>
                    </a:lnTo>
                    <a:lnTo>
                      <a:pt x="103" y="1281"/>
                    </a:lnTo>
                    <a:lnTo>
                      <a:pt x="134" y="1279"/>
                    </a:lnTo>
                    <a:lnTo>
                      <a:pt x="147" y="1269"/>
                    </a:lnTo>
                    <a:lnTo>
                      <a:pt x="162" y="1268"/>
                    </a:lnTo>
                    <a:lnTo>
                      <a:pt x="147" y="1237"/>
                    </a:lnTo>
                    <a:lnTo>
                      <a:pt x="140" y="1232"/>
                    </a:lnTo>
                    <a:lnTo>
                      <a:pt x="135" y="1212"/>
                    </a:lnTo>
                    <a:lnTo>
                      <a:pt x="110" y="1203"/>
                    </a:lnTo>
                    <a:lnTo>
                      <a:pt x="107" y="1194"/>
                    </a:lnTo>
                    <a:lnTo>
                      <a:pt x="113" y="1188"/>
                    </a:lnTo>
                    <a:lnTo>
                      <a:pt x="98" y="1174"/>
                    </a:lnTo>
                    <a:lnTo>
                      <a:pt x="87" y="1180"/>
                    </a:lnTo>
                    <a:lnTo>
                      <a:pt x="67" y="1156"/>
                    </a:lnTo>
                    <a:lnTo>
                      <a:pt x="75" y="1129"/>
                    </a:lnTo>
                    <a:lnTo>
                      <a:pt x="37" y="1123"/>
                    </a:lnTo>
                    <a:lnTo>
                      <a:pt x="19" y="1132"/>
                    </a:lnTo>
                    <a:lnTo>
                      <a:pt x="18" y="1120"/>
                    </a:lnTo>
                    <a:lnTo>
                      <a:pt x="0" y="1102"/>
                    </a:lnTo>
                    <a:lnTo>
                      <a:pt x="16" y="1077"/>
                    </a:lnTo>
                    <a:lnTo>
                      <a:pt x="42" y="1044"/>
                    </a:lnTo>
                    <a:lnTo>
                      <a:pt x="65" y="1026"/>
                    </a:lnTo>
                    <a:lnTo>
                      <a:pt x="111" y="1007"/>
                    </a:lnTo>
                    <a:lnTo>
                      <a:pt x="146" y="967"/>
                    </a:lnTo>
                    <a:lnTo>
                      <a:pt x="182" y="940"/>
                    </a:lnTo>
                    <a:lnTo>
                      <a:pt x="206" y="917"/>
                    </a:lnTo>
                    <a:lnTo>
                      <a:pt x="219" y="888"/>
                    </a:lnTo>
                    <a:lnTo>
                      <a:pt x="209" y="857"/>
                    </a:lnTo>
                    <a:lnTo>
                      <a:pt x="232" y="837"/>
                    </a:lnTo>
                    <a:lnTo>
                      <a:pt x="296" y="882"/>
                    </a:lnTo>
                    <a:lnTo>
                      <a:pt x="321" y="868"/>
                    </a:lnTo>
                    <a:lnTo>
                      <a:pt x="348" y="862"/>
                    </a:lnTo>
                    <a:lnTo>
                      <a:pt x="383" y="857"/>
                    </a:lnTo>
                    <a:lnTo>
                      <a:pt x="413" y="873"/>
                    </a:lnTo>
                    <a:lnTo>
                      <a:pt x="437" y="837"/>
                    </a:lnTo>
                    <a:lnTo>
                      <a:pt x="433" y="802"/>
                    </a:lnTo>
                    <a:lnTo>
                      <a:pt x="426" y="768"/>
                    </a:lnTo>
                    <a:lnTo>
                      <a:pt x="387" y="752"/>
                    </a:lnTo>
                    <a:lnTo>
                      <a:pt x="344" y="737"/>
                    </a:lnTo>
                    <a:lnTo>
                      <a:pt x="315" y="736"/>
                    </a:lnTo>
                    <a:lnTo>
                      <a:pt x="284" y="683"/>
                    </a:lnTo>
                    <a:lnTo>
                      <a:pt x="312" y="644"/>
                    </a:lnTo>
                    <a:lnTo>
                      <a:pt x="368" y="606"/>
                    </a:lnTo>
                    <a:lnTo>
                      <a:pt x="394" y="592"/>
                    </a:lnTo>
                    <a:lnTo>
                      <a:pt x="423" y="575"/>
                    </a:lnTo>
                    <a:lnTo>
                      <a:pt x="437" y="532"/>
                    </a:lnTo>
                    <a:lnTo>
                      <a:pt x="482" y="483"/>
                    </a:lnTo>
                    <a:lnTo>
                      <a:pt x="500" y="440"/>
                    </a:lnTo>
                    <a:lnTo>
                      <a:pt x="537" y="436"/>
                    </a:lnTo>
                    <a:lnTo>
                      <a:pt x="606" y="393"/>
                    </a:lnTo>
                    <a:lnTo>
                      <a:pt x="639" y="381"/>
                    </a:lnTo>
                    <a:lnTo>
                      <a:pt x="662" y="353"/>
                    </a:lnTo>
                    <a:lnTo>
                      <a:pt x="695" y="352"/>
                    </a:lnTo>
                    <a:lnTo>
                      <a:pt x="752" y="336"/>
                    </a:lnTo>
                    <a:lnTo>
                      <a:pt x="789" y="325"/>
                    </a:lnTo>
                    <a:lnTo>
                      <a:pt x="838" y="299"/>
                    </a:lnTo>
                    <a:lnTo>
                      <a:pt x="867" y="308"/>
                    </a:lnTo>
                    <a:lnTo>
                      <a:pt x="905" y="284"/>
                    </a:lnTo>
                    <a:lnTo>
                      <a:pt x="930" y="295"/>
                    </a:lnTo>
                    <a:lnTo>
                      <a:pt x="958" y="282"/>
                    </a:lnTo>
                    <a:lnTo>
                      <a:pt x="973" y="256"/>
                    </a:lnTo>
                    <a:lnTo>
                      <a:pt x="1008" y="252"/>
                    </a:lnTo>
                    <a:lnTo>
                      <a:pt x="1039" y="243"/>
                    </a:lnTo>
                    <a:lnTo>
                      <a:pt x="1072" y="238"/>
                    </a:lnTo>
                    <a:lnTo>
                      <a:pt x="1099" y="241"/>
                    </a:lnTo>
                    <a:lnTo>
                      <a:pt x="1072" y="218"/>
                    </a:lnTo>
                    <a:lnTo>
                      <a:pt x="1101" y="201"/>
                    </a:lnTo>
                    <a:lnTo>
                      <a:pt x="1141" y="214"/>
                    </a:lnTo>
                    <a:lnTo>
                      <a:pt x="1176" y="203"/>
                    </a:lnTo>
                    <a:lnTo>
                      <a:pt x="1204" y="234"/>
                    </a:lnTo>
                    <a:lnTo>
                      <a:pt x="1258" y="250"/>
                    </a:lnTo>
                    <a:lnTo>
                      <a:pt x="1300" y="254"/>
                    </a:lnTo>
                    <a:lnTo>
                      <a:pt x="1329" y="268"/>
                    </a:lnTo>
                    <a:lnTo>
                      <a:pt x="1312" y="239"/>
                    </a:lnTo>
                    <a:lnTo>
                      <a:pt x="1340" y="243"/>
                    </a:lnTo>
                    <a:lnTo>
                      <a:pt x="1317" y="219"/>
                    </a:lnTo>
                    <a:lnTo>
                      <a:pt x="1293" y="235"/>
                    </a:lnTo>
                    <a:lnTo>
                      <a:pt x="1250" y="192"/>
                    </a:lnTo>
                    <a:lnTo>
                      <a:pt x="1224" y="211"/>
                    </a:lnTo>
                    <a:lnTo>
                      <a:pt x="1241" y="157"/>
                    </a:lnTo>
                    <a:lnTo>
                      <a:pt x="1260" y="129"/>
                    </a:lnTo>
                    <a:lnTo>
                      <a:pt x="1288" y="158"/>
                    </a:lnTo>
                    <a:lnTo>
                      <a:pt x="1296" y="118"/>
                    </a:lnTo>
                    <a:lnTo>
                      <a:pt x="1322" y="54"/>
                    </a:lnTo>
                    <a:lnTo>
                      <a:pt x="1364" y="54"/>
                    </a:lnTo>
                    <a:lnTo>
                      <a:pt x="1453" y="33"/>
                    </a:lnTo>
                    <a:lnTo>
                      <a:pt x="1484" y="22"/>
                    </a:lnTo>
                    <a:lnTo>
                      <a:pt x="1509" y="0"/>
                    </a:lnTo>
                    <a:lnTo>
                      <a:pt x="1510" y="55"/>
                    </a:lnTo>
                    <a:lnTo>
                      <a:pt x="1548" y="87"/>
                    </a:lnTo>
                    <a:lnTo>
                      <a:pt x="1517" y="126"/>
                    </a:lnTo>
                    <a:lnTo>
                      <a:pt x="1547" y="127"/>
                    </a:lnTo>
                    <a:lnTo>
                      <a:pt x="1510" y="198"/>
                    </a:lnTo>
                    <a:lnTo>
                      <a:pt x="1468" y="227"/>
                    </a:lnTo>
                    <a:lnTo>
                      <a:pt x="1491" y="210"/>
                    </a:lnTo>
                    <a:lnTo>
                      <a:pt x="1525" y="202"/>
                    </a:lnTo>
                    <a:lnTo>
                      <a:pt x="1548" y="227"/>
                    </a:lnTo>
                    <a:lnTo>
                      <a:pt x="1579" y="234"/>
                    </a:lnTo>
                    <a:lnTo>
                      <a:pt x="1587" y="276"/>
                    </a:lnTo>
                    <a:lnTo>
                      <a:pt x="1582" y="320"/>
                    </a:lnTo>
                    <a:lnTo>
                      <a:pt x="1621" y="324"/>
                    </a:lnTo>
                    <a:lnTo>
                      <a:pt x="1636" y="299"/>
                    </a:lnTo>
                    <a:lnTo>
                      <a:pt x="1666" y="297"/>
                    </a:lnTo>
                    <a:lnTo>
                      <a:pt x="1635" y="324"/>
                    </a:lnTo>
                    <a:lnTo>
                      <a:pt x="1661" y="359"/>
                    </a:lnTo>
                    <a:lnTo>
                      <a:pt x="1631" y="355"/>
                    </a:lnTo>
                    <a:lnTo>
                      <a:pt x="1602" y="349"/>
                    </a:lnTo>
                    <a:lnTo>
                      <a:pt x="1628" y="371"/>
                    </a:lnTo>
                    <a:lnTo>
                      <a:pt x="1597" y="403"/>
                    </a:lnTo>
                    <a:lnTo>
                      <a:pt x="1561" y="405"/>
                    </a:lnTo>
                    <a:lnTo>
                      <a:pt x="1511" y="429"/>
                    </a:lnTo>
                    <a:lnTo>
                      <a:pt x="1504" y="463"/>
                    </a:lnTo>
                    <a:lnTo>
                      <a:pt x="1472" y="470"/>
                    </a:lnTo>
                    <a:lnTo>
                      <a:pt x="1406" y="438"/>
                    </a:lnTo>
                    <a:lnTo>
                      <a:pt x="1369" y="457"/>
                    </a:lnTo>
                    <a:lnTo>
                      <a:pt x="1336" y="484"/>
                    </a:lnTo>
                    <a:lnTo>
                      <a:pt x="1333" y="531"/>
                    </a:lnTo>
                    <a:lnTo>
                      <a:pt x="1301" y="580"/>
                    </a:lnTo>
                    <a:lnTo>
                      <a:pt x="1268" y="559"/>
                    </a:lnTo>
                    <a:lnTo>
                      <a:pt x="1228" y="563"/>
                    </a:lnTo>
                    <a:lnTo>
                      <a:pt x="1197" y="510"/>
                    </a:lnTo>
                    <a:lnTo>
                      <a:pt x="1184" y="547"/>
                    </a:lnTo>
                    <a:lnTo>
                      <a:pt x="1153" y="535"/>
                    </a:lnTo>
                    <a:lnTo>
                      <a:pt x="1180" y="562"/>
                    </a:lnTo>
                    <a:lnTo>
                      <a:pt x="1202" y="618"/>
                    </a:lnTo>
                    <a:lnTo>
                      <a:pt x="1247" y="617"/>
                    </a:lnTo>
                    <a:lnTo>
                      <a:pt x="1269" y="641"/>
                    </a:lnTo>
                    <a:lnTo>
                      <a:pt x="1254" y="671"/>
                    </a:lnTo>
                    <a:lnTo>
                      <a:pt x="1271" y="649"/>
                    </a:lnTo>
                    <a:lnTo>
                      <a:pt x="1294" y="669"/>
                    </a:lnTo>
                    <a:lnTo>
                      <a:pt x="1301" y="730"/>
                    </a:lnTo>
                    <a:lnTo>
                      <a:pt x="1312" y="761"/>
                    </a:lnTo>
                    <a:lnTo>
                      <a:pt x="1312" y="825"/>
                    </a:lnTo>
                    <a:lnTo>
                      <a:pt x="1277" y="855"/>
                    </a:lnTo>
                    <a:lnTo>
                      <a:pt x="1250" y="880"/>
                    </a:lnTo>
                    <a:lnTo>
                      <a:pt x="1222" y="869"/>
                    </a:lnTo>
                    <a:lnTo>
                      <a:pt x="1177" y="880"/>
                    </a:lnTo>
                    <a:lnTo>
                      <a:pt x="1153" y="912"/>
                    </a:lnTo>
                    <a:lnTo>
                      <a:pt x="1183" y="884"/>
                    </a:lnTo>
                    <a:lnTo>
                      <a:pt x="1227" y="887"/>
                    </a:lnTo>
                    <a:lnTo>
                      <a:pt x="1201" y="915"/>
                    </a:lnTo>
                    <a:lnTo>
                      <a:pt x="1163" y="950"/>
                    </a:lnTo>
                    <a:lnTo>
                      <a:pt x="1206" y="952"/>
                    </a:lnTo>
                    <a:lnTo>
                      <a:pt x="1212" y="983"/>
                    </a:lnTo>
                    <a:lnTo>
                      <a:pt x="1215" y="945"/>
                    </a:lnTo>
                    <a:lnTo>
                      <a:pt x="1231" y="907"/>
                    </a:lnTo>
                    <a:lnTo>
                      <a:pt x="1269" y="911"/>
                    </a:lnTo>
                    <a:lnTo>
                      <a:pt x="1340" y="911"/>
                    </a:lnTo>
                    <a:lnTo>
                      <a:pt x="1330" y="877"/>
                    </a:lnTo>
                    <a:lnTo>
                      <a:pt x="1379" y="884"/>
                    </a:lnTo>
                    <a:lnTo>
                      <a:pt x="1442" y="910"/>
                    </a:lnTo>
                    <a:lnTo>
                      <a:pt x="1425" y="939"/>
                    </a:lnTo>
                    <a:lnTo>
                      <a:pt x="1456" y="929"/>
                    </a:lnTo>
                    <a:lnTo>
                      <a:pt x="1484" y="927"/>
                    </a:lnTo>
                    <a:lnTo>
                      <a:pt x="1532" y="920"/>
                    </a:lnTo>
                    <a:lnTo>
                      <a:pt x="1531" y="953"/>
                    </a:lnTo>
                    <a:lnTo>
                      <a:pt x="1564" y="940"/>
                    </a:lnTo>
                    <a:lnTo>
                      <a:pt x="1603" y="952"/>
                    </a:lnTo>
                    <a:lnTo>
                      <a:pt x="1613" y="985"/>
                    </a:lnTo>
                    <a:lnTo>
                      <a:pt x="1629" y="1019"/>
                    </a:lnTo>
                    <a:lnTo>
                      <a:pt x="1550" y="1062"/>
                    </a:lnTo>
                    <a:lnTo>
                      <a:pt x="1521" y="1073"/>
                    </a:lnTo>
                    <a:lnTo>
                      <a:pt x="1503" y="1142"/>
                    </a:lnTo>
                    <a:lnTo>
                      <a:pt x="1506" y="1185"/>
                    </a:lnTo>
                    <a:lnTo>
                      <a:pt x="1493" y="1273"/>
                    </a:lnTo>
                    <a:lnTo>
                      <a:pt x="1489" y="1321"/>
                    </a:lnTo>
                    <a:lnTo>
                      <a:pt x="1483" y="1351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Freeform 59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24600" y="4011120"/>
                <a:ext cx="566640" cy="53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Полилиния 200"/>
              <p:cNvSpPr/>
              <p:nvPr/>
            </p:nvSpPr>
            <p:spPr>
              <a:xfrm>
                <a:off x="4556160" y="2884320"/>
                <a:ext cx="917280" cy="392040"/>
              </a:xfrm>
              <a:custGeom>
                <a:avLst/>
                <a:gdLst/>
                <a:ahLst/>
                <a:rect l="l" t="t" r="r" b="b"/>
                <a:pathLst>
                  <a:path w="869950" h="358775">
                    <a:moveTo>
                      <a:pt x="0" y="358775"/>
                    </a:moveTo>
                    <a:cubicBezTo>
                      <a:pt x="28839" y="340783"/>
                      <a:pt x="57679" y="322792"/>
                      <a:pt x="73025" y="317500"/>
                    </a:cubicBezTo>
                    <a:cubicBezTo>
                      <a:pt x="88371" y="312208"/>
                      <a:pt x="86254" y="329142"/>
                      <a:pt x="92075" y="327025"/>
                    </a:cubicBezTo>
                    <a:cubicBezTo>
                      <a:pt x="97896" y="324908"/>
                      <a:pt x="98954" y="309033"/>
                      <a:pt x="107950" y="304800"/>
                    </a:cubicBezTo>
                    <a:cubicBezTo>
                      <a:pt x="116946" y="300567"/>
                      <a:pt x="136525" y="304271"/>
                      <a:pt x="146050" y="301625"/>
                    </a:cubicBezTo>
                    <a:cubicBezTo>
                      <a:pt x="155575" y="298979"/>
                      <a:pt x="152929" y="292100"/>
                      <a:pt x="165100" y="288925"/>
                    </a:cubicBezTo>
                    <a:cubicBezTo>
                      <a:pt x="177271" y="285750"/>
                      <a:pt x="211138" y="286808"/>
                      <a:pt x="219075" y="282575"/>
                    </a:cubicBezTo>
                    <a:cubicBezTo>
                      <a:pt x="227012" y="278342"/>
                      <a:pt x="212725" y="268287"/>
                      <a:pt x="212725" y="263525"/>
                    </a:cubicBezTo>
                    <a:cubicBezTo>
                      <a:pt x="212725" y="258763"/>
                      <a:pt x="212725" y="256646"/>
                      <a:pt x="219075" y="254000"/>
                    </a:cubicBezTo>
                    <a:cubicBezTo>
                      <a:pt x="225425" y="251354"/>
                      <a:pt x="241300" y="251354"/>
                      <a:pt x="250825" y="247650"/>
                    </a:cubicBezTo>
                    <a:cubicBezTo>
                      <a:pt x="260350" y="243946"/>
                      <a:pt x="268817" y="232833"/>
                      <a:pt x="276225" y="231775"/>
                    </a:cubicBezTo>
                    <a:cubicBezTo>
                      <a:pt x="283633" y="230717"/>
                      <a:pt x="289454" y="236008"/>
                      <a:pt x="295275" y="241300"/>
                    </a:cubicBezTo>
                    <a:cubicBezTo>
                      <a:pt x="301096" y="246592"/>
                      <a:pt x="305329" y="259821"/>
                      <a:pt x="311150" y="263525"/>
                    </a:cubicBezTo>
                    <a:cubicBezTo>
                      <a:pt x="316971" y="267229"/>
                      <a:pt x="327025" y="260879"/>
                      <a:pt x="330200" y="263525"/>
                    </a:cubicBezTo>
                    <a:cubicBezTo>
                      <a:pt x="333375" y="266171"/>
                      <a:pt x="326496" y="279929"/>
                      <a:pt x="330200" y="279400"/>
                    </a:cubicBezTo>
                    <a:cubicBezTo>
                      <a:pt x="333904" y="278871"/>
                      <a:pt x="344488" y="264054"/>
                      <a:pt x="352425" y="260350"/>
                    </a:cubicBezTo>
                    <a:cubicBezTo>
                      <a:pt x="360362" y="256646"/>
                      <a:pt x="369358" y="261938"/>
                      <a:pt x="377825" y="257175"/>
                    </a:cubicBezTo>
                    <a:cubicBezTo>
                      <a:pt x="386292" y="252412"/>
                      <a:pt x="397933" y="235479"/>
                      <a:pt x="403225" y="231775"/>
                    </a:cubicBezTo>
                    <a:cubicBezTo>
                      <a:pt x="408517" y="228071"/>
                      <a:pt x="410104" y="241300"/>
                      <a:pt x="409575" y="234950"/>
                    </a:cubicBezTo>
                    <a:cubicBezTo>
                      <a:pt x="409046" y="228600"/>
                      <a:pt x="388408" y="198967"/>
                      <a:pt x="400050" y="193675"/>
                    </a:cubicBezTo>
                    <a:cubicBezTo>
                      <a:pt x="411692" y="188383"/>
                      <a:pt x="467254" y="204258"/>
                      <a:pt x="479425" y="203200"/>
                    </a:cubicBezTo>
                    <a:cubicBezTo>
                      <a:pt x="491596" y="202142"/>
                      <a:pt x="474662" y="195792"/>
                      <a:pt x="473075" y="187325"/>
                    </a:cubicBezTo>
                    <a:cubicBezTo>
                      <a:pt x="471488" y="178858"/>
                      <a:pt x="472546" y="159808"/>
                      <a:pt x="469900" y="152400"/>
                    </a:cubicBezTo>
                    <a:cubicBezTo>
                      <a:pt x="467254" y="144992"/>
                      <a:pt x="455613" y="149754"/>
                      <a:pt x="457200" y="142875"/>
                    </a:cubicBezTo>
                    <a:cubicBezTo>
                      <a:pt x="458787" y="135996"/>
                      <a:pt x="472017" y="126471"/>
                      <a:pt x="479425" y="111125"/>
                    </a:cubicBezTo>
                    <a:cubicBezTo>
                      <a:pt x="486833" y="95779"/>
                      <a:pt x="492125" y="65087"/>
                      <a:pt x="501650" y="50800"/>
                    </a:cubicBezTo>
                    <a:cubicBezTo>
                      <a:pt x="511175" y="36513"/>
                      <a:pt x="527579" y="33867"/>
                      <a:pt x="536575" y="25400"/>
                    </a:cubicBezTo>
                    <a:cubicBezTo>
                      <a:pt x="545571" y="16933"/>
                      <a:pt x="547688" y="0"/>
                      <a:pt x="555625" y="0"/>
                    </a:cubicBezTo>
                    <a:cubicBezTo>
                      <a:pt x="563562" y="0"/>
                      <a:pt x="573617" y="20638"/>
                      <a:pt x="584200" y="25400"/>
                    </a:cubicBezTo>
                    <a:cubicBezTo>
                      <a:pt x="594783" y="30163"/>
                      <a:pt x="611717" y="24871"/>
                      <a:pt x="619125" y="28575"/>
                    </a:cubicBezTo>
                    <a:cubicBezTo>
                      <a:pt x="626533" y="32279"/>
                      <a:pt x="631825" y="35983"/>
                      <a:pt x="628650" y="47625"/>
                    </a:cubicBezTo>
                    <a:cubicBezTo>
                      <a:pt x="625475" y="59267"/>
                      <a:pt x="601133" y="91546"/>
                      <a:pt x="600075" y="98425"/>
                    </a:cubicBezTo>
                    <a:cubicBezTo>
                      <a:pt x="599017" y="105304"/>
                      <a:pt x="618067" y="86783"/>
                      <a:pt x="622300" y="88900"/>
                    </a:cubicBezTo>
                    <a:cubicBezTo>
                      <a:pt x="626533" y="91017"/>
                      <a:pt x="617538" y="108479"/>
                      <a:pt x="625475" y="111125"/>
                    </a:cubicBezTo>
                    <a:cubicBezTo>
                      <a:pt x="633412" y="113771"/>
                      <a:pt x="664104" y="94721"/>
                      <a:pt x="669925" y="104775"/>
                    </a:cubicBezTo>
                    <a:cubicBezTo>
                      <a:pt x="675746" y="114829"/>
                      <a:pt x="657754" y="162454"/>
                      <a:pt x="660400" y="171450"/>
                    </a:cubicBezTo>
                    <a:cubicBezTo>
                      <a:pt x="663046" y="180446"/>
                      <a:pt x="679450" y="164571"/>
                      <a:pt x="685800" y="158750"/>
                    </a:cubicBezTo>
                    <a:cubicBezTo>
                      <a:pt x="692150" y="152929"/>
                      <a:pt x="691621" y="141817"/>
                      <a:pt x="698500" y="136525"/>
                    </a:cubicBezTo>
                    <a:cubicBezTo>
                      <a:pt x="705379" y="131233"/>
                      <a:pt x="714375" y="129646"/>
                      <a:pt x="727075" y="127000"/>
                    </a:cubicBezTo>
                    <a:cubicBezTo>
                      <a:pt x="739775" y="124354"/>
                      <a:pt x="757767" y="118533"/>
                      <a:pt x="774700" y="120650"/>
                    </a:cubicBezTo>
                    <a:cubicBezTo>
                      <a:pt x="791633" y="122767"/>
                      <a:pt x="812800" y="129646"/>
                      <a:pt x="828675" y="139700"/>
                    </a:cubicBezTo>
                    <a:cubicBezTo>
                      <a:pt x="844550" y="149754"/>
                      <a:pt x="862542" y="180446"/>
                      <a:pt x="869950" y="180975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63"/>
              <p:cNvSpPr/>
              <p:nvPr/>
            </p:nvSpPr>
            <p:spPr>
              <a:xfrm>
                <a:off x="5292720" y="2533680"/>
                <a:ext cx="2593800" cy="3013200"/>
              </a:xfrm>
              <a:custGeom>
                <a:avLst/>
                <a:gdLst>
                  <a:gd name="textAreaLeft" fmla="*/ 0 w 2593800"/>
                  <a:gd name="textAreaRight" fmla="*/ 2594160 w 2593800"/>
                  <a:gd name="textAreaTop" fmla="*/ 0 h 3013200"/>
                  <a:gd name="textAreaBottom" fmla="*/ 3013560 h 3013200"/>
                </a:gdLst>
                <a:ahLst/>
                <a:rect l="textAreaLeft" t="textAreaTop" r="textAreaRight" b="textAreaBottom"/>
                <a:pathLst>
                  <a:path w="3145" h="3374">
                    <a:moveTo>
                      <a:pt x="0" y="1548"/>
                    </a:moveTo>
                    <a:lnTo>
                      <a:pt x="10" y="1525"/>
                    </a:lnTo>
                    <a:lnTo>
                      <a:pt x="110" y="1484"/>
                    </a:lnTo>
                    <a:lnTo>
                      <a:pt x="124" y="1452"/>
                    </a:lnTo>
                    <a:lnTo>
                      <a:pt x="153" y="1444"/>
                    </a:lnTo>
                    <a:lnTo>
                      <a:pt x="158" y="1460"/>
                    </a:lnTo>
                    <a:lnTo>
                      <a:pt x="173" y="1462"/>
                    </a:lnTo>
                    <a:lnTo>
                      <a:pt x="184" y="1446"/>
                    </a:lnTo>
                    <a:lnTo>
                      <a:pt x="186" y="1406"/>
                    </a:lnTo>
                    <a:lnTo>
                      <a:pt x="170" y="1374"/>
                    </a:lnTo>
                    <a:lnTo>
                      <a:pt x="182" y="1365"/>
                    </a:lnTo>
                    <a:lnTo>
                      <a:pt x="180" y="1346"/>
                    </a:lnTo>
                    <a:lnTo>
                      <a:pt x="215" y="1332"/>
                    </a:lnTo>
                    <a:lnTo>
                      <a:pt x="218" y="1325"/>
                    </a:lnTo>
                    <a:lnTo>
                      <a:pt x="202" y="1309"/>
                    </a:lnTo>
                    <a:lnTo>
                      <a:pt x="202" y="1288"/>
                    </a:lnTo>
                    <a:lnTo>
                      <a:pt x="321" y="1184"/>
                    </a:lnTo>
                    <a:lnTo>
                      <a:pt x="325" y="1163"/>
                    </a:lnTo>
                    <a:lnTo>
                      <a:pt x="320" y="1151"/>
                    </a:lnTo>
                    <a:lnTo>
                      <a:pt x="304" y="1151"/>
                    </a:lnTo>
                    <a:lnTo>
                      <a:pt x="277" y="1131"/>
                    </a:lnTo>
                    <a:lnTo>
                      <a:pt x="268" y="1073"/>
                    </a:lnTo>
                    <a:lnTo>
                      <a:pt x="250" y="1004"/>
                    </a:lnTo>
                    <a:lnTo>
                      <a:pt x="197" y="977"/>
                    </a:lnTo>
                    <a:lnTo>
                      <a:pt x="198" y="946"/>
                    </a:lnTo>
                    <a:lnTo>
                      <a:pt x="163" y="920"/>
                    </a:lnTo>
                    <a:lnTo>
                      <a:pt x="160" y="845"/>
                    </a:lnTo>
                    <a:lnTo>
                      <a:pt x="156" y="828"/>
                    </a:lnTo>
                    <a:lnTo>
                      <a:pt x="137" y="833"/>
                    </a:lnTo>
                    <a:lnTo>
                      <a:pt x="139" y="807"/>
                    </a:lnTo>
                    <a:lnTo>
                      <a:pt x="112" y="800"/>
                    </a:lnTo>
                    <a:lnTo>
                      <a:pt x="143" y="790"/>
                    </a:lnTo>
                    <a:lnTo>
                      <a:pt x="143" y="773"/>
                    </a:lnTo>
                    <a:lnTo>
                      <a:pt x="162" y="747"/>
                    </a:lnTo>
                    <a:lnTo>
                      <a:pt x="144" y="714"/>
                    </a:lnTo>
                    <a:lnTo>
                      <a:pt x="159" y="701"/>
                    </a:lnTo>
                    <a:lnTo>
                      <a:pt x="191" y="720"/>
                    </a:lnTo>
                    <a:lnTo>
                      <a:pt x="232" y="718"/>
                    </a:lnTo>
                    <a:lnTo>
                      <a:pt x="231" y="664"/>
                    </a:lnTo>
                    <a:lnTo>
                      <a:pt x="256" y="685"/>
                    </a:lnTo>
                    <a:lnTo>
                      <a:pt x="274" y="728"/>
                    </a:lnTo>
                    <a:lnTo>
                      <a:pt x="291" y="779"/>
                    </a:lnTo>
                    <a:lnTo>
                      <a:pt x="286" y="750"/>
                    </a:lnTo>
                    <a:lnTo>
                      <a:pt x="310" y="718"/>
                    </a:lnTo>
                    <a:lnTo>
                      <a:pt x="345" y="709"/>
                    </a:lnTo>
                    <a:lnTo>
                      <a:pt x="373" y="676"/>
                    </a:lnTo>
                    <a:lnTo>
                      <a:pt x="406" y="677"/>
                    </a:lnTo>
                    <a:lnTo>
                      <a:pt x="470" y="676"/>
                    </a:lnTo>
                    <a:lnTo>
                      <a:pt x="524" y="665"/>
                    </a:lnTo>
                    <a:lnTo>
                      <a:pt x="561" y="675"/>
                    </a:lnTo>
                    <a:lnTo>
                      <a:pt x="534" y="683"/>
                    </a:lnTo>
                    <a:lnTo>
                      <a:pt x="535" y="719"/>
                    </a:lnTo>
                    <a:lnTo>
                      <a:pt x="601" y="742"/>
                    </a:lnTo>
                    <a:lnTo>
                      <a:pt x="623" y="759"/>
                    </a:lnTo>
                    <a:lnTo>
                      <a:pt x="679" y="742"/>
                    </a:lnTo>
                    <a:lnTo>
                      <a:pt x="754" y="717"/>
                    </a:lnTo>
                    <a:lnTo>
                      <a:pt x="786" y="709"/>
                    </a:lnTo>
                    <a:lnTo>
                      <a:pt x="796" y="658"/>
                    </a:lnTo>
                    <a:lnTo>
                      <a:pt x="777" y="625"/>
                    </a:lnTo>
                    <a:lnTo>
                      <a:pt x="767" y="594"/>
                    </a:lnTo>
                    <a:lnTo>
                      <a:pt x="769" y="564"/>
                    </a:lnTo>
                    <a:lnTo>
                      <a:pt x="796" y="567"/>
                    </a:lnTo>
                    <a:lnTo>
                      <a:pt x="802" y="536"/>
                    </a:lnTo>
                    <a:lnTo>
                      <a:pt x="847" y="546"/>
                    </a:lnTo>
                    <a:lnTo>
                      <a:pt x="875" y="558"/>
                    </a:lnTo>
                    <a:lnTo>
                      <a:pt x="909" y="540"/>
                    </a:lnTo>
                    <a:lnTo>
                      <a:pt x="935" y="568"/>
                    </a:lnTo>
                    <a:lnTo>
                      <a:pt x="952" y="544"/>
                    </a:lnTo>
                    <a:lnTo>
                      <a:pt x="994" y="526"/>
                    </a:lnTo>
                    <a:lnTo>
                      <a:pt x="1023" y="534"/>
                    </a:lnTo>
                    <a:lnTo>
                      <a:pt x="1062" y="547"/>
                    </a:lnTo>
                    <a:lnTo>
                      <a:pt x="1064" y="578"/>
                    </a:lnTo>
                    <a:lnTo>
                      <a:pt x="1110" y="600"/>
                    </a:lnTo>
                    <a:lnTo>
                      <a:pt x="1117" y="631"/>
                    </a:lnTo>
                    <a:lnTo>
                      <a:pt x="1108" y="680"/>
                    </a:lnTo>
                    <a:lnTo>
                      <a:pt x="1147" y="680"/>
                    </a:lnTo>
                    <a:lnTo>
                      <a:pt x="1163" y="715"/>
                    </a:lnTo>
                    <a:lnTo>
                      <a:pt x="1128" y="742"/>
                    </a:lnTo>
                    <a:lnTo>
                      <a:pt x="1058" y="717"/>
                    </a:lnTo>
                    <a:lnTo>
                      <a:pt x="1109" y="752"/>
                    </a:lnTo>
                    <a:lnTo>
                      <a:pt x="1151" y="795"/>
                    </a:lnTo>
                    <a:lnTo>
                      <a:pt x="1153" y="753"/>
                    </a:lnTo>
                    <a:lnTo>
                      <a:pt x="1195" y="788"/>
                    </a:lnTo>
                    <a:lnTo>
                      <a:pt x="1162" y="807"/>
                    </a:lnTo>
                    <a:lnTo>
                      <a:pt x="1242" y="872"/>
                    </a:lnTo>
                    <a:lnTo>
                      <a:pt x="1268" y="885"/>
                    </a:lnTo>
                    <a:lnTo>
                      <a:pt x="1304" y="908"/>
                    </a:lnTo>
                    <a:lnTo>
                      <a:pt x="1312" y="878"/>
                    </a:lnTo>
                    <a:lnTo>
                      <a:pt x="1332" y="916"/>
                    </a:lnTo>
                    <a:lnTo>
                      <a:pt x="1357" y="901"/>
                    </a:lnTo>
                    <a:lnTo>
                      <a:pt x="1334" y="720"/>
                    </a:lnTo>
                    <a:lnTo>
                      <a:pt x="1340" y="681"/>
                    </a:lnTo>
                    <a:lnTo>
                      <a:pt x="1417" y="737"/>
                    </a:lnTo>
                    <a:lnTo>
                      <a:pt x="1474" y="718"/>
                    </a:lnTo>
                    <a:lnTo>
                      <a:pt x="1479" y="686"/>
                    </a:lnTo>
                    <a:lnTo>
                      <a:pt x="1514" y="643"/>
                    </a:lnTo>
                    <a:lnTo>
                      <a:pt x="1547" y="647"/>
                    </a:lnTo>
                    <a:lnTo>
                      <a:pt x="1604" y="658"/>
                    </a:lnTo>
                    <a:lnTo>
                      <a:pt x="1637" y="672"/>
                    </a:lnTo>
                    <a:lnTo>
                      <a:pt x="1668" y="672"/>
                    </a:lnTo>
                    <a:lnTo>
                      <a:pt x="1639" y="660"/>
                    </a:lnTo>
                    <a:lnTo>
                      <a:pt x="1656" y="636"/>
                    </a:lnTo>
                    <a:lnTo>
                      <a:pt x="1630" y="599"/>
                    </a:lnTo>
                    <a:lnTo>
                      <a:pt x="1652" y="574"/>
                    </a:lnTo>
                    <a:lnTo>
                      <a:pt x="1688" y="585"/>
                    </a:lnTo>
                    <a:lnTo>
                      <a:pt x="1722" y="568"/>
                    </a:lnTo>
                    <a:lnTo>
                      <a:pt x="1688" y="515"/>
                    </a:lnTo>
                    <a:lnTo>
                      <a:pt x="1655" y="498"/>
                    </a:lnTo>
                    <a:lnTo>
                      <a:pt x="1668" y="455"/>
                    </a:lnTo>
                    <a:lnTo>
                      <a:pt x="1624" y="471"/>
                    </a:lnTo>
                    <a:lnTo>
                      <a:pt x="1619" y="410"/>
                    </a:lnTo>
                    <a:lnTo>
                      <a:pt x="1676" y="377"/>
                    </a:lnTo>
                    <a:lnTo>
                      <a:pt x="1673" y="344"/>
                    </a:lnTo>
                    <a:lnTo>
                      <a:pt x="1645" y="329"/>
                    </a:lnTo>
                    <a:lnTo>
                      <a:pt x="1697" y="309"/>
                    </a:lnTo>
                    <a:lnTo>
                      <a:pt x="1760" y="276"/>
                    </a:lnTo>
                    <a:lnTo>
                      <a:pt x="1839" y="244"/>
                    </a:lnTo>
                    <a:lnTo>
                      <a:pt x="1917" y="225"/>
                    </a:lnTo>
                    <a:lnTo>
                      <a:pt x="1966" y="222"/>
                    </a:lnTo>
                    <a:lnTo>
                      <a:pt x="1898" y="268"/>
                    </a:lnTo>
                    <a:lnTo>
                      <a:pt x="1868" y="268"/>
                    </a:lnTo>
                    <a:lnTo>
                      <a:pt x="1867" y="304"/>
                    </a:lnTo>
                    <a:lnTo>
                      <a:pt x="1926" y="258"/>
                    </a:lnTo>
                    <a:lnTo>
                      <a:pt x="1968" y="231"/>
                    </a:lnTo>
                    <a:lnTo>
                      <a:pt x="1972" y="302"/>
                    </a:lnTo>
                    <a:lnTo>
                      <a:pt x="1961" y="275"/>
                    </a:lnTo>
                    <a:lnTo>
                      <a:pt x="1930" y="274"/>
                    </a:lnTo>
                    <a:lnTo>
                      <a:pt x="1933" y="304"/>
                    </a:lnTo>
                    <a:lnTo>
                      <a:pt x="1955" y="324"/>
                    </a:lnTo>
                    <a:lnTo>
                      <a:pt x="1922" y="344"/>
                    </a:lnTo>
                    <a:lnTo>
                      <a:pt x="1933" y="373"/>
                    </a:lnTo>
                    <a:lnTo>
                      <a:pt x="1965" y="377"/>
                    </a:lnTo>
                    <a:lnTo>
                      <a:pt x="1987" y="323"/>
                    </a:lnTo>
                    <a:lnTo>
                      <a:pt x="1979" y="219"/>
                    </a:lnTo>
                    <a:lnTo>
                      <a:pt x="2043" y="177"/>
                    </a:lnTo>
                    <a:lnTo>
                      <a:pt x="2119" y="166"/>
                    </a:lnTo>
                    <a:lnTo>
                      <a:pt x="2148" y="178"/>
                    </a:lnTo>
                    <a:lnTo>
                      <a:pt x="2154" y="210"/>
                    </a:lnTo>
                    <a:lnTo>
                      <a:pt x="2125" y="230"/>
                    </a:lnTo>
                    <a:lnTo>
                      <a:pt x="2119" y="262"/>
                    </a:lnTo>
                    <a:lnTo>
                      <a:pt x="2154" y="243"/>
                    </a:lnTo>
                    <a:lnTo>
                      <a:pt x="2183" y="231"/>
                    </a:lnTo>
                    <a:lnTo>
                      <a:pt x="2213" y="225"/>
                    </a:lnTo>
                    <a:lnTo>
                      <a:pt x="2219" y="270"/>
                    </a:lnTo>
                    <a:lnTo>
                      <a:pt x="2225" y="236"/>
                    </a:lnTo>
                    <a:lnTo>
                      <a:pt x="2252" y="226"/>
                    </a:lnTo>
                    <a:lnTo>
                      <a:pt x="2301" y="236"/>
                    </a:lnTo>
                    <a:lnTo>
                      <a:pt x="2331" y="246"/>
                    </a:lnTo>
                    <a:lnTo>
                      <a:pt x="2362" y="258"/>
                    </a:lnTo>
                    <a:lnTo>
                      <a:pt x="2402" y="227"/>
                    </a:lnTo>
                    <a:lnTo>
                      <a:pt x="2427" y="193"/>
                    </a:lnTo>
                    <a:lnTo>
                      <a:pt x="2463" y="135"/>
                    </a:lnTo>
                    <a:lnTo>
                      <a:pt x="2483" y="108"/>
                    </a:lnTo>
                    <a:lnTo>
                      <a:pt x="2539" y="51"/>
                    </a:lnTo>
                    <a:lnTo>
                      <a:pt x="2598" y="15"/>
                    </a:lnTo>
                    <a:lnTo>
                      <a:pt x="2654" y="3"/>
                    </a:lnTo>
                    <a:lnTo>
                      <a:pt x="2699" y="0"/>
                    </a:lnTo>
                    <a:lnTo>
                      <a:pt x="2727" y="15"/>
                    </a:lnTo>
                    <a:lnTo>
                      <a:pt x="2758" y="38"/>
                    </a:lnTo>
                    <a:lnTo>
                      <a:pt x="2764" y="75"/>
                    </a:lnTo>
                    <a:lnTo>
                      <a:pt x="2786" y="100"/>
                    </a:lnTo>
                    <a:lnTo>
                      <a:pt x="2811" y="132"/>
                    </a:lnTo>
                    <a:lnTo>
                      <a:pt x="2837" y="107"/>
                    </a:lnTo>
                    <a:lnTo>
                      <a:pt x="2880" y="84"/>
                    </a:lnTo>
                    <a:lnTo>
                      <a:pt x="2897" y="112"/>
                    </a:lnTo>
                    <a:lnTo>
                      <a:pt x="2924" y="132"/>
                    </a:lnTo>
                    <a:lnTo>
                      <a:pt x="2901" y="105"/>
                    </a:lnTo>
                    <a:lnTo>
                      <a:pt x="2939" y="117"/>
                    </a:lnTo>
                    <a:lnTo>
                      <a:pt x="2928" y="89"/>
                    </a:lnTo>
                    <a:lnTo>
                      <a:pt x="2924" y="33"/>
                    </a:lnTo>
                    <a:lnTo>
                      <a:pt x="2942" y="51"/>
                    </a:lnTo>
                    <a:lnTo>
                      <a:pt x="2943" y="63"/>
                    </a:lnTo>
                    <a:lnTo>
                      <a:pt x="2961" y="54"/>
                    </a:lnTo>
                    <a:lnTo>
                      <a:pt x="2999" y="60"/>
                    </a:lnTo>
                    <a:lnTo>
                      <a:pt x="2991" y="87"/>
                    </a:lnTo>
                    <a:lnTo>
                      <a:pt x="3011" y="111"/>
                    </a:lnTo>
                    <a:lnTo>
                      <a:pt x="3022" y="105"/>
                    </a:lnTo>
                    <a:lnTo>
                      <a:pt x="3037" y="119"/>
                    </a:lnTo>
                    <a:lnTo>
                      <a:pt x="3031" y="125"/>
                    </a:lnTo>
                    <a:lnTo>
                      <a:pt x="3034" y="134"/>
                    </a:lnTo>
                    <a:lnTo>
                      <a:pt x="3059" y="143"/>
                    </a:lnTo>
                    <a:lnTo>
                      <a:pt x="3064" y="163"/>
                    </a:lnTo>
                    <a:lnTo>
                      <a:pt x="3071" y="168"/>
                    </a:lnTo>
                    <a:lnTo>
                      <a:pt x="3086" y="199"/>
                    </a:lnTo>
                    <a:lnTo>
                      <a:pt x="3071" y="200"/>
                    </a:lnTo>
                    <a:lnTo>
                      <a:pt x="3058" y="210"/>
                    </a:lnTo>
                    <a:lnTo>
                      <a:pt x="3027" y="212"/>
                    </a:lnTo>
                    <a:lnTo>
                      <a:pt x="3017" y="231"/>
                    </a:lnTo>
                    <a:lnTo>
                      <a:pt x="3020" y="259"/>
                    </a:lnTo>
                    <a:lnTo>
                      <a:pt x="3014" y="277"/>
                    </a:lnTo>
                    <a:lnTo>
                      <a:pt x="2993" y="286"/>
                    </a:lnTo>
                    <a:lnTo>
                      <a:pt x="2967" y="309"/>
                    </a:lnTo>
                    <a:lnTo>
                      <a:pt x="2973" y="327"/>
                    </a:lnTo>
                    <a:lnTo>
                      <a:pt x="2956" y="331"/>
                    </a:lnTo>
                    <a:lnTo>
                      <a:pt x="2945" y="365"/>
                    </a:lnTo>
                    <a:lnTo>
                      <a:pt x="2927" y="382"/>
                    </a:lnTo>
                    <a:lnTo>
                      <a:pt x="2935" y="442"/>
                    </a:lnTo>
                    <a:lnTo>
                      <a:pt x="2961" y="443"/>
                    </a:lnTo>
                    <a:lnTo>
                      <a:pt x="2952" y="457"/>
                    </a:lnTo>
                    <a:lnTo>
                      <a:pt x="2939" y="466"/>
                    </a:lnTo>
                    <a:lnTo>
                      <a:pt x="2950" y="499"/>
                    </a:lnTo>
                    <a:lnTo>
                      <a:pt x="2968" y="502"/>
                    </a:lnTo>
                    <a:lnTo>
                      <a:pt x="2995" y="526"/>
                    </a:lnTo>
                    <a:lnTo>
                      <a:pt x="2996" y="519"/>
                    </a:lnTo>
                    <a:lnTo>
                      <a:pt x="3060" y="517"/>
                    </a:lnTo>
                    <a:lnTo>
                      <a:pt x="3092" y="537"/>
                    </a:lnTo>
                    <a:lnTo>
                      <a:pt x="3097" y="607"/>
                    </a:lnTo>
                    <a:lnTo>
                      <a:pt x="3126" y="616"/>
                    </a:lnTo>
                    <a:lnTo>
                      <a:pt x="3145" y="643"/>
                    </a:lnTo>
                    <a:lnTo>
                      <a:pt x="3111" y="672"/>
                    </a:lnTo>
                    <a:lnTo>
                      <a:pt x="3106" y="710"/>
                    </a:lnTo>
                    <a:lnTo>
                      <a:pt x="3091" y="739"/>
                    </a:lnTo>
                    <a:lnTo>
                      <a:pt x="3043" y="715"/>
                    </a:lnTo>
                    <a:lnTo>
                      <a:pt x="3050" y="747"/>
                    </a:lnTo>
                    <a:lnTo>
                      <a:pt x="3004" y="753"/>
                    </a:lnTo>
                    <a:lnTo>
                      <a:pt x="2970" y="779"/>
                    </a:lnTo>
                    <a:lnTo>
                      <a:pt x="2940" y="794"/>
                    </a:lnTo>
                    <a:lnTo>
                      <a:pt x="2942" y="837"/>
                    </a:lnTo>
                    <a:lnTo>
                      <a:pt x="2966" y="851"/>
                    </a:lnTo>
                    <a:lnTo>
                      <a:pt x="2923" y="899"/>
                    </a:lnTo>
                    <a:lnTo>
                      <a:pt x="2955" y="946"/>
                    </a:lnTo>
                    <a:lnTo>
                      <a:pt x="2961" y="981"/>
                    </a:lnTo>
                    <a:lnTo>
                      <a:pt x="2936" y="1012"/>
                    </a:lnTo>
                    <a:lnTo>
                      <a:pt x="2957" y="1050"/>
                    </a:lnTo>
                    <a:lnTo>
                      <a:pt x="2988" y="1069"/>
                    </a:lnTo>
                    <a:lnTo>
                      <a:pt x="2998" y="1108"/>
                    </a:lnTo>
                    <a:lnTo>
                      <a:pt x="3006" y="1136"/>
                    </a:lnTo>
                    <a:lnTo>
                      <a:pt x="2965" y="1150"/>
                    </a:lnTo>
                    <a:lnTo>
                      <a:pt x="2961" y="1179"/>
                    </a:lnTo>
                    <a:lnTo>
                      <a:pt x="2936" y="1203"/>
                    </a:lnTo>
                    <a:lnTo>
                      <a:pt x="2928" y="1244"/>
                    </a:lnTo>
                    <a:lnTo>
                      <a:pt x="2888" y="1250"/>
                    </a:lnTo>
                    <a:lnTo>
                      <a:pt x="2876" y="1218"/>
                    </a:lnTo>
                    <a:lnTo>
                      <a:pt x="2846" y="1222"/>
                    </a:lnTo>
                    <a:lnTo>
                      <a:pt x="2832" y="1251"/>
                    </a:lnTo>
                    <a:lnTo>
                      <a:pt x="2807" y="1282"/>
                    </a:lnTo>
                    <a:lnTo>
                      <a:pt x="2778" y="1280"/>
                    </a:lnTo>
                    <a:lnTo>
                      <a:pt x="2760" y="1315"/>
                    </a:lnTo>
                    <a:lnTo>
                      <a:pt x="2791" y="1330"/>
                    </a:lnTo>
                    <a:lnTo>
                      <a:pt x="2802" y="1376"/>
                    </a:lnTo>
                    <a:lnTo>
                      <a:pt x="2759" y="1364"/>
                    </a:lnTo>
                    <a:lnTo>
                      <a:pt x="2756" y="1394"/>
                    </a:lnTo>
                    <a:lnTo>
                      <a:pt x="2694" y="1416"/>
                    </a:lnTo>
                    <a:lnTo>
                      <a:pt x="2699" y="1450"/>
                    </a:lnTo>
                    <a:lnTo>
                      <a:pt x="2674" y="1498"/>
                    </a:lnTo>
                    <a:lnTo>
                      <a:pt x="2693" y="1520"/>
                    </a:lnTo>
                    <a:lnTo>
                      <a:pt x="2707" y="1564"/>
                    </a:lnTo>
                    <a:lnTo>
                      <a:pt x="2713" y="1602"/>
                    </a:lnTo>
                    <a:lnTo>
                      <a:pt x="2734" y="1620"/>
                    </a:lnTo>
                    <a:lnTo>
                      <a:pt x="2750" y="1645"/>
                    </a:lnTo>
                    <a:lnTo>
                      <a:pt x="2780" y="1670"/>
                    </a:lnTo>
                    <a:lnTo>
                      <a:pt x="2763" y="1698"/>
                    </a:lnTo>
                    <a:lnTo>
                      <a:pt x="2783" y="1719"/>
                    </a:lnTo>
                    <a:lnTo>
                      <a:pt x="2778" y="1770"/>
                    </a:lnTo>
                    <a:lnTo>
                      <a:pt x="2778" y="1814"/>
                    </a:lnTo>
                    <a:lnTo>
                      <a:pt x="2772" y="1846"/>
                    </a:lnTo>
                    <a:lnTo>
                      <a:pt x="2733" y="1842"/>
                    </a:lnTo>
                    <a:lnTo>
                      <a:pt x="2706" y="1829"/>
                    </a:lnTo>
                    <a:lnTo>
                      <a:pt x="2676" y="1834"/>
                    </a:lnTo>
                    <a:lnTo>
                      <a:pt x="2685" y="1872"/>
                    </a:lnTo>
                    <a:lnTo>
                      <a:pt x="2654" y="1895"/>
                    </a:lnTo>
                    <a:lnTo>
                      <a:pt x="2627" y="1881"/>
                    </a:lnTo>
                    <a:lnTo>
                      <a:pt x="2607" y="1901"/>
                    </a:lnTo>
                    <a:lnTo>
                      <a:pt x="2539" y="1858"/>
                    </a:lnTo>
                    <a:lnTo>
                      <a:pt x="2503" y="1863"/>
                    </a:lnTo>
                    <a:lnTo>
                      <a:pt x="2486" y="1899"/>
                    </a:lnTo>
                    <a:lnTo>
                      <a:pt x="2487" y="1976"/>
                    </a:lnTo>
                    <a:lnTo>
                      <a:pt x="2494" y="2020"/>
                    </a:lnTo>
                    <a:lnTo>
                      <a:pt x="2497" y="2062"/>
                    </a:lnTo>
                    <a:lnTo>
                      <a:pt x="2473" y="2105"/>
                    </a:lnTo>
                    <a:lnTo>
                      <a:pt x="2464" y="2137"/>
                    </a:lnTo>
                    <a:lnTo>
                      <a:pt x="2440" y="2164"/>
                    </a:lnTo>
                    <a:lnTo>
                      <a:pt x="2448" y="2194"/>
                    </a:lnTo>
                    <a:lnTo>
                      <a:pt x="2494" y="2237"/>
                    </a:lnTo>
                    <a:lnTo>
                      <a:pt x="2505" y="2298"/>
                    </a:lnTo>
                    <a:lnTo>
                      <a:pt x="2541" y="2332"/>
                    </a:lnTo>
                    <a:lnTo>
                      <a:pt x="2549" y="2366"/>
                    </a:lnTo>
                    <a:lnTo>
                      <a:pt x="2520" y="2354"/>
                    </a:lnTo>
                    <a:lnTo>
                      <a:pt x="2498" y="2374"/>
                    </a:lnTo>
                    <a:lnTo>
                      <a:pt x="2502" y="2413"/>
                    </a:lnTo>
                    <a:lnTo>
                      <a:pt x="2470" y="2474"/>
                    </a:lnTo>
                    <a:lnTo>
                      <a:pt x="2378" y="2494"/>
                    </a:lnTo>
                    <a:lnTo>
                      <a:pt x="2376" y="2537"/>
                    </a:lnTo>
                    <a:lnTo>
                      <a:pt x="2383" y="2569"/>
                    </a:lnTo>
                    <a:lnTo>
                      <a:pt x="2316" y="2583"/>
                    </a:lnTo>
                    <a:lnTo>
                      <a:pt x="2277" y="2588"/>
                    </a:lnTo>
                    <a:lnTo>
                      <a:pt x="2242" y="2597"/>
                    </a:lnTo>
                    <a:lnTo>
                      <a:pt x="2226" y="2621"/>
                    </a:lnTo>
                    <a:lnTo>
                      <a:pt x="2229" y="2661"/>
                    </a:lnTo>
                    <a:lnTo>
                      <a:pt x="2209" y="2692"/>
                    </a:lnTo>
                    <a:lnTo>
                      <a:pt x="2222" y="2728"/>
                    </a:lnTo>
                    <a:lnTo>
                      <a:pt x="2206" y="2760"/>
                    </a:lnTo>
                    <a:lnTo>
                      <a:pt x="2215" y="2789"/>
                    </a:lnTo>
                    <a:lnTo>
                      <a:pt x="2227" y="2819"/>
                    </a:lnTo>
                    <a:lnTo>
                      <a:pt x="2185" y="2831"/>
                    </a:lnTo>
                    <a:lnTo>
                      <a:pt x="2218" y="2858"/>
                    </a:lnTo>
                    <a:lnTo>
                      <a:pt x="2242" y="2880"/>
                    </a:lnTo>
                    <a:lnTo>
                      <a:pt x="2237" y="2908"/>
                    </a:lnTo>
                    <a:lnTo>
                      <a:pt x="2233" y="2948"/>
                    </a:lnTo>
                    <a:lnTo>
                      <a:pt x="2204" y="2972"/>
                    </a:lnTo>
                    <a:lnTo>
                      <a:pt x="2235" y="2972"/>
                    </a:lnTo>
                    <a:lnTo>
                      <a:pt x="2287" y="3006"/>
                    </a:lnTo>
                    <a:lnTo>
                      <a:pt x="2292" y="3053"/>
                    </a:lnTo>
                    <a:lnTo>
                      <a:pt x="2258" y="3068"/>
                    </a:lnTo>
                    <a:lnTo>
                      <a:pt x="2262" y="3135"/>
                    </a:lnTo>
                    <a:lnTo>
                      <a:pt x="2282" y="3199"/>
                    </a:lnTo>
                    <a:lnTo>
                      <a:pt x="2213" y="3227"/>
                    </a:lnTo>
                    <a:lnTo>
                      <a:pt x="2172" y="3236"/>
                    </a:lnTo>
                    <a:lnTo>
                      <a:pt x="2137" y="3266"/>
                    </a:lnTo>
                    <a:lnTo>
                      <a:pt x="2121" y="3301"/>
                    </a:lnTo>
                    <a:lnTo>
                      <a:pt x="2075" y="3285"/>
                    </a:lnTo>
                    <a:lnTo>
                      <a:pt x="2047" y="3308"/>
                    </a:lnTo>
                    <a:lnTo>
                      <a:pt x="2026" y="3329"/>
                    </a:lnTo>
                    <a:lnTo>
                      <a:pt x="1978" y="3327"/>
                    </a:lnTo>
                    <a:lnTo>
                      <a:pt x="1946" y="3351"/>
                    </a:lnTo>
                    <a:lnTo>
                      <a:pt x="1916" y="3374"/>
                    </a:lnTo>
                    <a:lnTo>
                      <a:pt x="1872" y="3352"/>
                    </a:lnTo>
                    <a:lnTo>
                      <a:pt x="1825" y="3355"/>
                    </a:lnTo>
                    <a:lnTo>
                      <a:pt x="1780" y="3367"/>
                    </a:lnTo>
                    <a:lnTo>
                      <a:pt x="1707" y="3334"/>
                    </a:lnTo>
                    <a:lnTo>
                      <a:pt x="1627" y="3340"/>
                    </a:lnTo>
                    <a:lnTo>
                      <a:pt x="1583" y="3346"/>
                    </a:lnTo>
                    <a:lnTo>
                      <a:pt x="1542" y="3328"/>
                    </a:lnTo>
                    <a:lnTo>
                      <a:pt x="1505" y="3338"/>
                    </a:lnTo>
                    <a:lnTo>
                      <a:pt x="1488" y="3313"/>
                    </a:lnTo>
                    <a:lnTo>
                      <a:pt x="1454" y="3312"/>
                    </a:lnTo>
                    <a:lnTo>
                      <a:pt x="1391" y="3322"/>
                    </a:lnTo>
                    <a:lnTo>
                      <a:pt x="1359" y="3355"/>
                    </a:lnTo>
                    <a:lnTo>
                      <a:pt x="1330" y="3351"/>
                    </a:lnTo>
                    <a:lnTo>
                      <a:pt x="1311" y="3324"/>
                    </a:lnTo>
                    <a:lnTo>
                      <a:pt x="1305" y="3296"/>
                    </a:lnTo>
                    <a:lnTo>
                      <a:pt x="1264" y="3266"/>
                    </a:lnTo>
                    <a:lnTo>
                      <a:pt x="1236" y="3235"/>
                    </a:lnTo>
                    <a:lnTo>
                      <a:pt x="1238" y="3188"/>
                    </a:lnTo>
                    <a:lnTo>
                      <a:pt x="1216" y="3145"/>
                    </a:lnTo>
                    <a:lnTo>
                      <a:pt x="1213" y="3116"/>
                    </a:lnTo>
                    <a:lnTo>
                      <a:pt x="1180" y="3079"/>
                    </a:lnTo>
                    <a:lnTo>
                      <a:pt x="1156" y="3032"/>
                    </a:lnTo>
                    <a:lnTo>
                      <a:pt x="1160" y="2993"/>
                    </a:lnTo>
                    <a:lnTo>
                      <a:pt x="1125" y="2995"/>
                    </a:lnTo>
                    <a:lnTo>
                      <a:pt x="1097" y="2984"/>
                    </a:lnTo>
                    <a:lnTo>
                      <a:pt x="1070" y="3003"/>
                    </a:lnTo>
                    <a:lnTo>
                      <a:pt x="1036" y="3014"/>
                    </a:lnTo>
                    <a:lnTo>
                      <a:pt x="1029" y="2973"/>
                    </a:lnTo>
                    <a:lnTo>
                      <a:pt x="1036" y="2929"/>
                    </a:lnTo>
                    <a:lnTo>
                      <a:pt x="1008" y="2943"/>
                    </a:lnTo>
                    <a:lnTo>
                      <a:pt x="990" y="2917"/>
                    </a:lnTo>
                    <a:lnTo>
                      <a:pt x="962" y="2901"/>
                    </a:lnTo>
                    <a:lnTo>
                      <a:pt x="886" y="2886"/>
                    </a:lnTo>
                    <a:lnTo>
                      <a:pt x="857" y="2897"/>
                    </a:lnTo>
                    <a:lnTo>
                      <a:pt x="851" y="2949"/>
                    </a:lnTo>
                    <a:lnTo>
                      <a:pt x="828" y="2989"/>
                    </a:lnTo>
                    <a:lnTo>
                      <a:pt x="804" y="3040"/>
                    </a:lnTo>
                    <a:lnTo>
                      <a:pt x="770" y="3073"/>
                    </a:lnTo>
                    <a:lnTo>
                      <a:pt x="750" y="3149"/>
                    </a:lnTo>
                    <a:lnTo>
                      <a:pt x="723" y="3160"/>
                    </a:lnTo>
                    <a:lnTo>
                      <a:pt x="714" y="3206"/>
                    </a:lnTo>
                    <a:lnTo>
                      <a:pt x="695" y="3163"/>
                    </a:lnTo>
                    <a:lnTo>
                      <a:pt x="706" y="3134"/>
                    </a:lnTo>
                    <a:lnTo>
                      <a:pt x="674" y="3113"/>
                    </a:lnTo>
                    <a:lnTo>
                      <a:pt x="629" y="3165"/>
                    </a:lnTo>
                    <a:lnTo>
                      <a:pt x="557" y="3170"/>
                    </a:lnTo>
                    <a:lnTo>
                      <a:pt x="561" y="3199"/>
                    </a:lnTo>
                    <a:lnTo>
                      <a:pt x="503" y="3222"/>
                    </a:lnTo>
                    <a:lnTo>
                      <a:pt x="463" y="3179"/>
                    </a:lnTo>
                    <a:lnTo>
                      <a:pt x="445" y="3151"/>
                    </a:lnTo>
                    <a:lnTo>
                      <a:pt x="464" y="3090"/>
                    </a:lnTo>
                    <a:lnTo>
                      <a:pt x="463" y="3021"/>
                    </a:lnTo>
                    <a:lnTo>
                      <a:pt x="471" y="2951"/>
                    </a:lnTo>
                    <a:lnTo>
                      <a:pt x="484" y="2914"/>
                    </a:lnTo>
                    <a:lnTo>
                      <a:pt x="501" y="2874"/>
                    </a:lnTo>
                    <a:lnTo>
                      <a:pt x="465" y="2857"/>
                    </a:lnTo>
                    <a:lnTo>
                      <a:pt x="427" y="2803"/>
                    </a:lnTo>
                    <a:lnTo>
                      <a:pt x="406" y="2767"/>
                    </a:lnTo>
                    <a:lnTo>
                      <a:pt x="426" y="2723"/>
                    </a:lnTo>
                    <a:lnTo>
                      <a:pt x="411" y="2679"/>
                    </a:lnTo>
                    <a:lnTo>
                      <a:pt x="368" y="2684"/>
                    </a:lnTo>
                    <a:lnTo>
                      <a:pt x="389" y="2611"/>
                    </a:lnTo>
                    <a:lnTo>
                      <a:pt x="359" y="2535"/>
                    </a:lnTo>
                    <a:lnTo>
                      <a:pt x="329" y="2502"/>
                    </a:lnTo>
                    <a:lnTo>
                      <a:pt x="282" y="2508"/>
                    </a:lnTo>
                    <a:lnTo>
                      <a:pt x="274" y="2470"/>
                    </a:lnTo>
                    <a:lnTo>
                      <a:pt x="302" y="2462"/>
                    </a:lnTo>
                    <a:lnTo>
                      <a:pt x="250" y="2401"/>
                    </a:lnTo>
                    <a:lnTo>
                      <a:pt x="239" y="2415"/>
                    </a:lnTo>
                    <a:lnTo>
                      <a:pt x="189" y="2410"/>
                    </a:lnTo>
                    <a:lnTo>
                      <a:pt x="140" y="2378"/>
                    </a:lnTo>
                    <a:lnTo>
                      <a:pt x="101" y="2399"/>
                    </a:lnTo>
                    <a:lnTo>
                      <a:pt x="105" y="2383"/>
                    </a:lnTo>
                    <a:lnTo>
                      <a:pt x="87" y="2392"/>
                    </a:lnTo>
                    <a:lnTo>
                      <a:pt x="71" y="2363"/>
                    </a:lnTo>
                    <a:lnTo>
                      <a:pt x="85" y="2358"/>
                    </a:lnTo>
                    <a:lnTo>
                      <a:pt x="101" y="2320"/>
                    </a:lnTo>
                    <a:lnTo>
                      <a:pt x="82" y="2298"/>
                    </a:lnTo>
                    <a:lnTo>
                      <a:pt x="114" y="2262"/>
                    </a:lnTo>
                    <a:lnTo>
                      <a:pt x="110" y="2251"/>
                    </a:lnTo>
                    <a:lnTo>
                      <a:pt x="120" y="2235"/>
                    </a:lnTo>
                    <a:lnTo>
                      <a:pt x="132" y="2239"/>
                    </a:lnTo>
                    <a:lnTo>
                      <a:pt x="138" y="2215"/>
                    </a:lnTo>
                    <a:lnTo>
                      <a:pt x="102" y="2183"/>
                    </a:lnTo>
                    <a:lnTo>
                      <a:pt x="97" y="2131"/>
                    </a:lnTo>
                    <a:lnTo>
                      <a:pt x="66" y="2095"/>
                    </a:lnTo>
                    <a:lnTo>
                      <a:pt x="63" y="2033"/>
                    </a:lnTo>
                    <a:lnTo>
                      <a:pt x="79" y="2022"/>
                    </a:lnTo>
                    <a:lnTo>
                      <a:pt x="69" y="1991"/>
                    </a:lnTo>
                    <a:lnTo>
                      <a:pt x="59" y="1995"/>
                    </a:lnTo>
                    <a:lnTo>
                      <a:pt x="54" y="1972"/>
                    </a:lnTo>
                    <a:lnTo>
                      <a:pt x="17" y="1966"/>
                    </a:lnTo>
                    <a:lnTo>
                      <a:pt x="46" y="1946"/>
                    </a:lnTo>
                    <a:lnTo>
                      <a:pt x="52" y="1921"/>
                    </a:lnTo>
                    <a:lnTo>
                      <a:pt x="92" y="1909"/>
                    </a:lnTo>
                    <a:lnTo>
                      <a:pt x="75" y="1779"/>
                    </a:lnTo>
                    <a:lnTo>
                      <a:pt x="76" y="1712"/>
                    </a:lnTo>
                    <a:lnTo>
                      <a:pt x="66" y="1638"/>
                    </a:lnTo>
                    <a:lnTo>
                      <a:pt x="54" y="1611"/>
                    </a:lnTo>
                    <a:lnTo>
                      <a:pt x="0" y="154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Полилиния 204"/>
              <p:cNvSpPr/>
              <p:nvPr/>
            </p:nvSpPr>
            <p:spPr>
              <a:xfrm>
                <a:off x="4171680" y="3278160"/>
                <a:ext cx="384120" cy="662040"/>
              </a:xfrm>
              <a:custGeom>
                <a:avLst/>
                <a:gdLst/>
                <a:ahLst/>
                <a:rect l="l" t="t" r="r" b="b"/>
                <a:pathLst>
                  <a:path w="365760" h="603160">
                    <a:moveTo>
                      <a:pt x="0" y="321972"/>
                    </a:moveTo>
                    <a:cubicBezTo>
                      <a:pt x="19318" y="313386"/>
                      <a:pt x="38637" y="304800"/>
                      <a:pt x="56667" y="319396"/>
                    </a:cubicBezTo>
                    <a:cubicBezTo>
                      <a:pt x="74697" y="333992"/>
                      <a:pt x="91011" y="393664"/>
                      <a:pt x="108183" y="409548"/>
                    </a:cubicBezTo>
                    <a:cubicBezTo>
                      <a:pt x="125355" y="425432"/>
                      <a:pt x="150254" y="409978"/>
                      <a:pt x="159698" y="414700"/>
                    </a:cubicBezTo>
                    <a:cubicBezTo>
                      <a:pt x="169142" y="419422"/>
                      <a:pt x="165709" y="427579"/>
                      <a:pt x="164850" y="437882"/>
                    </a:cubicBezTo>
                    <a:cubicBezTo>
                      <a:pt x="163991" y="448185"/>
                      <a:pt x="160128" y="467932"/>
                      <a:pt x="154547" y="476518"/>
                    </a:cubicBezTo>
                    <a:cubicBezTo>
                      <a:pt x="148966" y="485104"/>
                      <a:pt x="135658" y="479953"/>
                      <a:pt x="131365" y="489397"/>
                    </a:cubicBezTo>
                    <a:cubicBezTo>
                      <a:pt x="127072" y="498842"/>
                      <a:pt x="126643" y="528463"/>
                      <a:pt x="128789" y="533185"/>
                    </a:cubicBezTo>
                    <a:cubicBezTo>
                      <a:pt x="130935" y="537907"/>
                      <a:pt x="140380" y="517731"/>
                      <a:pt x="144244" y="517731"/>
                    </a:cubicBezTo>
                    <a:cubicBezTo>
                      <a:pt x="148108" y="517731"/>
                      <a:pt x="151971" y="520736"/>
                      <a:pt x="151971" y="533185"/>
                    </a:cubicBezTo>
                    <a:cubicBezTo>
                      <a:pt x="151971" y="545634"/>
                      <a:pt x="143815" y="581696"/>
                      <a:pt x="144244" y="592428"/>
                    </a:cubicBezTo>
                    <a:cubicBezTo>
                      <a:pt x="144673" y="603160"/>
                      <a:pt x="150683" y="598868"/>
                      <a:pt x="154547" y="597580"/>
                    </a:cubicBezTo>
                    <a:cubicBezTo>
                      <a:pt x="158411" y="596292"/>
                      <a:pt x="165709" y="595863"/>
                      <a:pt x="167426" y="584701"/>
                    </a:cubicBezTo>
                    <a:cubicBezTo>
                      <a:pt x="169143" y="573539"/>
                      <a:pt x="167426" y="543918"/>
                      <a:pt x="164850" y="530610"/>
                    </a:cubicBezTo>
                    <a:cubicBezTo>
                      <a:pt x="162274" y="517302"/>
                      <a:pt x="151542" y="512579"/>
                      <a:pt x="151971" y="504852"/>
                    </a:cubicBezTo>
                    <a:cubicBezTo>
                      <a:pt x="152400" y="497125"/>
                      <a:pt x="162275" y="495837"/>
                      <a:pt x="167426" y="484246"/>
                    </a:cubicBezTo>
                    <a:cubicBezTo>
                      <a:pt x="172577" y="472655"/>
                      <a:pt x="182880" y="446897"/>
                      <a:pt x="182880" y="435306"/>
                    </a:cubicBezTo>
                    <a:cubicBezTo>
                      <a:pt x="182880" y="423715"/>
                      <a:pt x="173865" y="420710"/>
                      <a:pt x="167426" y="414700"/>
                    </a:cubicBezTo>
                    <a:cubicBezTo>
                      <a:pt x="160987" y="408690"/>
                      <a:pt x="149825" y="406114"/>
                      <a:pt x="144244" y="399245"/>
                    </a:cubicBezTo>
                    <a:cubicBezTo>
                      <a:pt x="138663" y="392376"/>
                      <a:pt x="134800" y="381214"/>
                      <a:pt x="133941" y="373487"/>
                    </a:cubicBezTo>
                    <a:cubicBezTo>
                      <a:pt x="133082" y="365760"/>
                      <a:pt x="146390" y="360608"/>
                      <a:pt x="139092" y="352881"/>
                    </a:cubicBezTo>
                    <a:cubicBezTo>
                      <a:pt x="131794" y="345154"/>
                      <a:pt x="98738" y="338285"/>
                      <a:pt x="90152" y="327123"/>
                    </a:cubicBezTo>
                    <a:cubicBezTo>
                      <a:pt x="81566" y="315961"/>
                      <a:pt x="86289" y="296643"/>
                      <a:pt x="87577" y="285911"/>
                    </a:cubicBezTo>
                    <a:cubicBezTo>
                      <a:pt x="88865" y="275179"/>
                      <a:pt x="97880" y="270886"/>
                      <a:pt x="97880" y="262729"/>
                    </a:cubicBezTo>
                    <a:cubicBezTo>
                      <a:pt x="97880" y="254572"/>
                      <a:pt x="87148" y="251567"/>
                      <a:pt x="87577" y="236971"/>
                    </a:cubicBezTo>
                    <a:cubicBezTo>
                      <a:pt x="88006" y="222375"/>
                      <a:pt x="97451" y="186315"/>
                      <a:pt x="100456" y="175153"/>
                    </a:cubicBezTo>
                    <a:cubicBezTo>
                      <a:pt x="103461" y="163991"/>
                      <a:pt x="89294" y="169143"/>
                      <a:pt x="105607" y="170001"/>
                    </a:cubicBezTo>
                    <a:cubicBezTo>
                      <a:pt x="121920" y="170859"/>
                      <a:pt x="168714" y="179445"/>
                      <a:pt x="198335" y="180304"/>
                    </a:cubicBezTo>
                    <a:cubicBezTo>
                      <a:pt x="227956" y="181163"/>
                      <a:pt x="260583" y="177300"/>
                      <a:pt x="283336" y="175153"/>
                    </a:cubicBezTo>
                    <a:cubicBezTo>
                      <a:pt x="306089" y="173006"/>
                      <a:pt x="324548" y="167854"/>
                      <a:pt x="334851" y="167425"/>
                    </a:cubicBezTo>
                    <a:cubicBezTo>
                      <a:pt x="345154" y="166996"/>
                      <a:pt x="346871" y="167426"/>
                      <a:pt x="345154" y="172577"/>
                    </a:cubicBezTo>
                    <a:cubicBezTo>
                      <a:pt x="343437" y="177728"/>
                      <a:pt x="326694" y="192754"/>
                      <a:pt x="324548" y="198335"/>
                    </a:cubicBezTo>
                    <a:cubicBezTo>
                      <a:pt x="322402" y="203916"/>
                      <a:pt x="328841" y="204774"/>
                      <a:pt x="332275" y="206062"/>
                    </a:cubicBezTo>
                    <a:cubicBezTo>
                      <a:pt x="335709" y="207350"/>
                      <a:pt x="341720" y="208208"/>
                      <a:pt x="345154" y="206062"/>
                    </a:cubicBezTo>
                    <a:cubicBezTo>
                      <a:pt x="348588" y="203916"/>
                      <a:pt x="352881" y="201340"/>
                      <a:pt x="352881" y="193183"/>
                    </a:cubicBezTo>
                    <a:cubicBezTo>
                      <a:pt x="352881" y="185026"/>
                      <a:pt x="348159" y="167425"/>
                      <a:pt x="345154" y="157122"/>
                    </a:cubicBezTo>
                    <a:cubicBezTo>
                      <a:pt x="342149" y="146819"/>
                      <a:pt x="340861" y="139521"/>
                      <a:pt x="334851" y="131365"/>
                    </a:cubicBezTo>
                    <a:cubicBezTo>
                      <a:pt x="328841" y="123209"/>
                      <a:pt x="309951" y="115052"/>
                      <a:pt x="309093" y="108183"/>
                    </a:cubicBezTo>
                    <a:cubicBezTo>
                      <a:pt x="308235" y="101314"/>
                      <a:pt x="324549" y="91011"/>
                      <a:pt x="329700" y="90152"/>
                    </a:cubicBezTo>
                    <a:cubicBezTo>
                      <a:pt x="334851" y="89293"/>
                      <a:pt x="336569" y="102172"/>
                      <a:pt x="340003" y="103031"/>
                    </a:cubicBezTo>
                    <a:cubicBezTo>
                      <a:pt x="343437" y="103890"/>
                      <a:pt x="352882" y="99597"/>
                      <a:pt x="350306" y="95304"/>
                    </a:cubicBezTo>
                    <a:cubicBezTo>
                      <a:pt x="347730" y="91011"/>
                      <a:pt x="329270" y="83283"/>
                      <a:pt x="324548" y="77273"/>
                    </a:cubicBezTo>
                    <a:cubicBezTo>
                      <a:pt x="319826" y="71263"/>
                      <a:pt x="322401" y="65682"/>
                      <a:pt x="321972" y="59243"/>
                    </a:cubicBezTo>
                    <a:cubicBezTo>
                      <a:pt x="321543" y="52804"/>
                      <a:pt x="320684" y="41642"/>
                      <a:pt x="321972" y="38637"/>
                    </a:cubicBezTo>
                    <a:cubicBezTo>
                      <a:pt x="323260" y="35632"/>
                      <a:pt x="326266" y="37779"/>
                      <a:pt x="329700" y="41213"/>
                    </a:cubicBezTo>
                    <a:cubicBezTo>
                      <a:pt x="333134" y="44647"/>
                      <a:pt x="339573" y="55809"/>
                      <a:pt x="342578" y="59243"/>
                    </a:cubicBezTo>
                    <a:cubicBezTo>
                      <a:pt x="345583" y="62677"/>
                      <a:pt x="346871" y="63536"/>
                      <a:pt x="347730" y="61819"/>
                    </a:cubicBezTo>
                    <a:cubicBezTo>
                      <a:pt x="348589" y="60102"/>
                      <a:pt x="345154" y="55809"/>
                      <a:pt x="347730" y="48940"/>
                    </a:cubicBezTo>
                    <a:cubicBezTo>
                      <a:pt x="350306" y="42071"/>
                      <a:pt x="361897" y="27475"/>
                      <a:pt x="363185" y="20606"/>
                    </a:cubicBezTo>
                    <a:cubicBezTo>
                      <a:pt x="364473" y="13737"/>
                      <a:pt x="355028" y="11161"/>
                      <a:pt x="355457" y="7727"/>
                    </a:cubicBezTo>
                    <a:cubicBezTo>
                      <a:pt x="355886" y="4293"/>
                      <a:pt x="360179" y="4293"/>
                      <a:pt x="365760" y="0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Полилиния 206"/>
              <p:cNvSpPr/>
              <p:nvPr/>
            </p:nvSpPr>
            <p:spPr>
              <a:xfrm>
                <a:off x="5281560" y="3343320"/>
                <a:ext cx="203040" cy="261720"/>
              </a:xfrm>
              <a:custGeom>
                <a:avLst/>
                <a:gdLst/>
                <a:ahLst/>
                <a:rect l="l" t="t" r="r" b="b"/>
                <a:pathLst>
                  <a:path w="191895" h="239547">
                    <a:moveTo>
                      <a:pt x="158410" y="0"/>
                    </a:moveTo>
                    <a:cubicBezTo>
                      <a:pt x="139306" y="13523"/>
                      <a:pt x="120203" y="27046"/>
                      <a:pt x="112046" y="38637"/>
                    </a:cubicBezTo>
                    <a:cubicBezTo>
                      <a:pt x="103890" y="50228"/>
                      <a:pt x="116769" y="53233"/>
                      <a:pt x="109471" y="69546"/>
                    </a:cubicBezTo>
                    <a:cubicBezTo>
                      <a:pt x="102173" y="85859"/>
                      <a:pt x="80708" y="124067"/>
                      <a:pt x="68258" y="136516"/>
                    </a:cubicBezTo>
                    <a:cubicBezTo>
                      <a:pt x="55808" y="148965"/>
                      <a:pt x="40354" y="138662"/>
                      <a:pt x="34773" y="144243"/>
                    </a:cubicBezTo>
                    <a:cubicBezTo>
                      <a:pt x="29192" y="149824"/>
                      <a:pt x="39495" y="161415"/>
                      <a:pt x="34773" y="170001"/>
                    </a:cubicBezTo>
                    <a:cubicBezTo>
                      <a:pt x="30051" y="178587"/>
                      <a:pt x="12021" y="187173"/>
                      <a:pt x="6440" y="195759"/>
                    </a:cubicBezTo>
                    <a:cubicBezTo>
                      <a:pt x="859" y="204345"/>
                      <a:pt x="0" y="221517"/>
                      <a:pt x="1288" y="221517"/>
                    </a:cubicBezTo>
                    <a:cubicBezTo>
                      <a:pt x="2576" y="221517"/>
                      <a:pt x="8157" y="199623"/>
                      <a:pt x="14167" y="195759"/>
                    </a:cubicBezTo>
                    <a:cubicBezTo>
                      <a:pt x="20177" y="191895"/>
                      <a:pt x="22324" y="203916"/>
                      <a:pt x="37349" y="198335"/>
                    </a:cubicBezTo>
                    <a:cubicBezTo>
                      <a:pt x="52374" y="192754"/>
                      <a:pt x="87147" y="175153"/>
                      <a:pt x="104319" y="162274"/>
                    </a:cubicBezTo>
                    <a:cubicBezTo>
                      <a:pt x="121491" y="149395"/>
                      <a:pt x="140380" y="129647"/>
                      <a:pt x="140380" y="121061"/>
                    </a:cubicBezTo>
                    <a:cubicBezTo>
                      <a:pt x="140380" y="112475"/>
                      <a:pt x="105607" y="119773"/>
                      <a:pt x="104319" y="110758"/>
                    </a:cubicBezTo>
                    <a:cubicBezTo>
                      <a:pt x="103031" y="101743"/>
                      <a:pt x="123637" y="72980"/>
                      <a:pt x="132652" y="66970"/>
                    </a:cubicBezTo>
                    <a:cubicBezTo>
                      <a:pt x="141667" y="60960"/>
                      <a:pt x="151112" y="76414"/>
                      <a:pt x="158410" y="74697"/>
                    </a:cubicBezTo>
                    <a:cubicBezTo>
                      <a:pt x="165708" y="72980"/>
                      <a:pt x="171719" y="55379"/>
                      <a:pt x="176441" y="56667"/>
                    </a:cubicBezTo>
                    <a:cubicBezTo>
                      <a:pt x="181163" y="57955"/>
                      <a:pt x="186744" y="76415"/>
                      <a:pt x="186744" y="82425"/>
                    </a:cubicBezTo>
                    <a:cubicBezTo>
                      <a:pt x="186744" y="88435"/>
                      <a:pt x="176012" y="87577"/>
                      <a:pt x="176441" y="92728"/>
                    </a:cubicBezTo>
                    <a:cubicBezTo>
                      <a:pt x="176870" y="97879"/>
                      <a:pt x="189320" y="106895"/>
                      <a:pt x="189320" y="113334"/>
                    </a:cubicBezTo>
                    <a:cubicBezTo>
                      <a:pt x="189320" y="119773"/>
                      <a:pt x="178587" y="126213"/>
                      <a:pt x="176441" y="131364"/>
                    </a:cubicBezTo>
                    <a:cubicBezTo>
                      <a:pt x="174295" y="136515"/>
                      <a:pt x="177729" y="140379"/>
                      <a:pt x="176441" y="144243"/>
                    </a:cubicBezTo>
                    <a:cubicBezTo>
                      <a:pt x="175153" y="148107"/>
                      <a:pt x="169142" y="150253"/>
                      <a:pt x="168713" y="154546"/>
                    </a:cubicBezTo>
                    <a:cubicBezTo>
                      <a:pt x="168284" y="158839"/>
                      <a:pt x="171289" y="166567"/>
                      <a:pt x="173865" y="170001"/>
                    </a:cubicBezTo>
                    <a:cubicBezTo>
                      <a:pt x="176441" y="173435"/>
                      <a:pt x="181163" y="163562"/>
                      <a:pt x="184168" y="175153"/>
                    </a:cubicBezTo>
                    <a:cubicBezTo>
                      <a:pt x="187173" y="186744"/>
                      <a:pt x="182451" y="232249"/>
                      <a:pt x="191895" y="239547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Полилиния 208"/>
              <p:cNvSpPr/>
              <p:nvPr/>
            </p:nvSpPr>
            <p:spPr>
              <a:xfrm>
                <a:off x="5456160" y="3573360"/>
                <a:ext cx="83880" cy="52200"/>
              </a:xfrm>
              <a:custGeom>
                <a:avLst/>
                <a:gdLst/>
                <a:ahLst/>
                <a:rect l="l" t="t" r="r" b="b"/>
                <a:pathLst>
                  <a:path w="79394" h="46542">
                    <a:moveTo>
                      <a:pt x="79394" y="46542"/>
                    </a:moveTo>
                    <a:cubicBezTo>
                      <a:pt x="57264" y="36047"/>
                      <a:pt x="35134" y="25552"/>
                      <a:pt x="21902" y="21902"/>
                    </a:cubicBezTo>
                    <a:cubicBezTo>
                      <a:pt x="8670" y="18252"/>
                      <a:pt x="0" y="28290"/>
                      <a:pt x="0" y="24640"/>
                    </a:cubicBezTo>
                    <a:cubicBezTo>
                      <a:pt x="0" y="20990"/>
                      <a:pt x="15514" y="4563"/>
                      <a:pt x="21902" y="0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Полилиния 210"/>
              <p:cNvSpPr/>
              <p:nvPr/>
            </p:nvSpPr>
            <p:spPr>
              <a:xfrm>
                <a:off x="8207280" y="3459240"/>
                <a:ext cx="585720" cy="1374840"/>
              </a:xfrm>
              <a:custGeom>
                <a:avLst/>
                <a:gdLst/>
                <a:ahLst/>
                <a:rect l="l" t="t" r="r" b="b"/>
                <a:pathLst>
                  <a:path w="557270" h="1256841">
                    <a:moveTo>
                      <a:pt x="557270" y="1256841"/>
                    </a:moveTo>
                    <a:cubicBezTo>
                      <a:pt x="532252" y="1235037"/>
                      <a:pt x="507235" y="1213233"/>
                      <a:pt x="466381" y="1179723"/>
                    </a:cubicBezTo>
                    <a:cubicBezTo>
                      <a:pt x="425527" y="1146213"/>
                      <a:pt x="358508" y="1094342"/>
                      <a:pt x="312145" y="1055783"/>
                    </a:cubicBezTo>
                    <a:cubicBezTo>
                      <a:pt x="265782" y="1017224"/>
                      <a:pt x="221256" y="991059"/>
                      <a:pt x="188205" y="948369"/>
                    </a:cubicBezTo>
                    <a:cubicBezTo>
                      <a:pt x="155154" y="905679"/>
                      <a:pt x="123940" y="828560"/>
                      <a:pt x="113841" y="799641"/>
                    </a:cubicBezTo>
                    <a:cubicBezTo>
                      <a:pt x="103742" y="770722"/>
                      <a:pt x="126694" y="785411"/>
                      <a:pt x="127612" y="774853"/>
                    </a:cubicBezTo>
                    <a:cubicBezTo>
                      <a:pt x="128530" y="764295"/>
                      <a:pt x="125317" y="748229"/>
                      <a:pt x="119350" y="736294"/>
                    </a:cubicBezTo>
                    <a:cubicBezTo>
                      <a:pt x="113383" y="724359"/>
                      <a:pt x="98693" y="710128"/>
                      <a:pt x="91807" y="703243"/>
                    </a:cubicBezTo>
                    <a:cubicBezTo>
                      <a:pt x="84921" y="696358"/>
                      <a:pt x="77118" y="700030"/>
                      <a:pt x="78036" y="694981"/>
                    </a:cubicBezTo>
                    <a:cubicBezTo>
                      <a:pt x="78954" y="689932"/>
                      <a:pt x="92267" y="682128"/>
                      <a:pt x="97316" y="672947"/>
                    </a:cubicBezTo>
                    <a:cubicBezTo>
                      <a:pt x="102365" y="663766"/>
                      <a:pt x="103743" y="648159"/>
                      <a:pt x="108333" y="639896"/>
                    </a:cubicBezTo>
                    <a:cubicBezTo>
                      <a:pt x="112923" y="631633"/>
                      <a:pt x="119350" y="627043"/>
                      <a:pt x="124858" y="623371"/>
                    </a:cubicBezTo>
                    <a:cubicBezTo>
                      <a:pt x="130366" y="619699"/>
                      <a:pt x="140924" y="628880"/>
                      <a:pt x="141383" y="617863"/>
                    </a:cubicBezTo>
                    <a:cubicBezTo>
                      <a:pt x="141842" y="606846"/>
                      <a:pt x="130825" y="579763"/>
                      <a:pt x="127612" y="557270"/>
                    </a:cubicBezTo>
                    <a:cubicBezTo>
                      <a:pt x="124399" y="534777"/>
                      <a:pt x="125317" y="505858"/>
                      <a:pt x="122104" y="482906"/>
                    </a:cubicBezTo>
                    <a:cubicBezTo>
                      <a:pt x="118891" y="459954"/>
                      <a:pt x="110169" y="434248"/>
                      <a:pt x="108333" y="419559"/>
                    </a:cubicBezTo>
                    <a:cubicBezTo>
                      <a:pt x="106497" y="404870"/>
                      <a:pt x="111087" y="405329"/>
                      <a:pt x="111087" y="394771"/>
                    </a:cubicBezTo>
                    <a:cubicBezTo>
                      <a:pt x="111087" y="384213"/>
                      <a:pt x="108333" y="371819"/>
                      <a:pt x="108333" y="356212"/>
                    </a:cubicBezTo>
                    <a:cubicBezTo>
                      <a:pt x="108333" y="340605"/>
                      <a:pt x="112923" y="314440"/>
                      <a:pt x="111087" y="301128"/>
                    </a:cubicBezTo>
                    <a:cubicBezTo>
                      <a:pt x="109251" y="287816"/>
                      <a:pt x="98234" y="285062"/>
                      <a:pt x="97316" y="276340"/>
                    </a:cubicBezTo>
                    <a:cubicBezTo>
                      <a:pt x="96398" y="267618"/>
                      <a:pt x="104201" y="257061"/>
                      <a:pt x="105578" y="248798"/>
                    </a:cubicBezTo>
                    <a:cubicBezTo>
                      <a:pt x="106955" y="240535"/>
                      <a:pt x="101906" y="237781"/>
                      <a:pt x="105578" y="226764"/>
                    </a:cubicBezTo>
                    <a:cubicBezTo>
                      <a:pt x="109250" y="215747"/>
                      <a:pt x="127153" y="190500"/>
                      <a:pt x="127612" y="182696"/>
                    </a:cubicBezTo>
                    <a:cubicBezTo>
                      <a:pt x="128071" y="174892"/>
                      <a:pt x="112464" y="185909"/>
                      <a:pt x="108333" y="179942"/>
                    </a:cubicBezTo>
                    <a:cubicBezTo>
                      <a:pt x="104202" y="173975"/>
                      <a:pt x="107874" y="156532"/>
                      <a:pt x="102824" y="146892"/>
                    </a:cubicBezTo>
                    <a:cubicBezTo>
                      <a:pt x="97775" y="137252"/>
                      <a:pt x="88135" y="133580"/>
                      <a:pt x="78036" y="122104"/>
                    </a:cubicBezTo>
                    <a:cubicBezTo>
                      <a:pt x="67937" y="110628"/>
                      <a:pt x="48657" y="94102"/>
                      <a:pt x="42231" y="78036"/>
                    </a:cubicBezTo>
                    <a:cubicBezTo>
                      <a:pt x="35805" y="61970"/>
                      <a:pt x="35805" y="37641"/>
                      <a:pt x="39477" y="25706"/>
                    </a:cubicBezTo>
                    <a:cubicBezTo>
                      <a:pt x="43149" y="13771"/>
                      <a:pt x="66101" y="8722"/>
                      <a:pt x="64265" y="6427"/>
                    </a:cubicBezTo>
                    <a:cubicBezTo>
                      <a:pt x="62429" y="4132"/>
                      <a:pt x="39018" y="0"/>
                      <a:pt x="28460" y="11935"/>
                    </a:cubicBezTo>
                    <a:cubicBezTo>
                      <a:pt x="17902" y="23870"/>
                      <a:pt x="0" y="57379"/>
                      <a:pt x="918" y="78036"/>
                    </a:cubicBezTo>
                    <a:cubicBezTo>
                      <a:pt x="1836" y="98693"/>
                      <a:pt x="23411" y="126694"/>
                      <a:pt x="33969" y="135875"/>
                    </a:cubicBezTo>
                    <a:cubicBezTo>
                      <a:pt x="44527" y="145056"/>
                      <a:pt x="59675" y="127613"/>
                      <a:pt x="64265" y="133121"/>
                    </a:cubicBezTo>
                    <a:cubicBezTo>
                      <a:pt x="68855" y="138629"/>
                      <a:pt x="64724" y="164335"/>
                      <a:pt x="61511" y="168925"/>
                    </a:cubicBezTo>
                    <a:cubicBezTo>
                      <a:pt x="58298" y="173515"/>
                      <a:pt x="50494" y="160204"/>
                      <a:pt x="44986" y="160663"/>
                    </a:cubicBezTo>
                    <a:cubicBezTo>
                      <a:pt x="39478" y="161122"/>
                      <a:pt x="6885" y="143220"/>
                      <a:pt x="28460" y="171680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Полилиния 211"/>
              <p:cNvSpPr/>
              <p:nvPr/>
            </p:nvSpPr>
            <p:spPr>
              <a:xfrm>
                <a:off x="8423280" y="3128760"/>
                <a:ext cx="384120" cy="1704960"/>
              </a:xfrm>
              <a:custGeom>
                <a:avLst/>
                <a:gdLst/>
                <a:ahLst/>
                <a:rect l="l" t="t" r="r" b="b"/>
                <a:pathLst>
                  <a:path w="364474" h="1558887">
                    <a:moveTo>
                      <a:pt x="359884" y="1558887"/>
                    </a:moveTo>
                    <a:cubicBezTo>
                      <a:pt x="362179" y="1496229"/>
                      <a:pt x="364474" y="1433571"/>
                      <a:pt x="362638" y="1401897"/>
                    </a:cubicBezTo>
                    <a:cubicBezTo>
                      <a:pt x="360802" y="1370223"/>
                      <a:pt x="358507" y="1383076"/>
                      <a:pt x="348867" y="1368846"/>
                    </a:cubicBezTo>
                    <a:cubicBezTo>
                      <a:pt x="339227" y="1354616"/>
                      <a:pt x="309389" y="1325697"/>
                      <a:pt x="304799" y="1316516"/>
                    </a:cubicBezTo>
                    <a:cubicBezTo>
                      <a:pt x="300209" y="1307335"/>
                      <a:pt x="318571" y="1318352"/>
                      <a:pt x="321325" y="1313762"/>
                    </a:cubicBezTo>
                    <a:cubicBezTo>
                      <a:pt x="324079" y="1309172"/>
                      <a:pt x="319948" y="1299073"/>
                      <a:pt x="321325" y="1288974"/>
                    </a:cubicBezTo>
                    <a:cubicBezTo>
                      <a:pt x="322702" y="1278875"/>
                      <a:pt x="324997" y="1261432"/>
                      <a:pt x="329587" y="1253169"/>
                    </a:cubicBezTo>
                    <a:cubicBezTo>
                      <a:pt x="334177" y="1244906"/>
                      <a:pt x="348408" y="1245824"/>
                      <a:pt x="348867" y="1239398"/>
                    </a:cubicBezTo>
                    <a:cubicBezTo>
                      <a:pt x="349326" y="1232972"/>
                      <a:pt x="338309" y="1221037"/>
                      <a:pt x="332341" y="1214610"/>
                    </a:cubicBezTo>
                    <a:cubicBezTo>
                      <a:pt x="326373" y="1208183"/>
                      <a:pt x="320866" y="1210020"/>
                      <a:pt x="313062" y="1200839"/>
                    </a:cubicBezTo>
                    <a:cubicBezTo>
                      <a:pt x="305259" y="1191658"/>
                      <a:pt x="289192" y="1177888"/>
                      <a:pt x="285520" y="1159526"/>
                    </a:cubicBezTo>
                    <a:cubicBezTo>
                      <a:pt x="281848" y="1141165"/>
                      <a:pt x="285061" y="1103523"/>
                      <a:pt x="291028" y="1090670"/>
                    </a:cubicBezTo>
                    <a:cubicBezTo>
                      <a:pt x="296996" y="1077817"/>
                      <a:pt x="313062" y="1089752"/>
                      <a:pt x="321325" y="1082408"/>
                    </a:cubicBezTo>
                    <a:cubicBezTo>
                      <a:pt x="329588" y="1075064"/>
                      <a:pt x="339686" y="1058997"/>
                      <a:pt x="340604" y="1046603"/>
                    </a:cubicBezTo>
                    <a:cubicBezTo>
                      <a:pt x="341522" y="1034209"/>
                      <a:pt x="334178" y="1014930"/>
                      <a:pt x="326833" y="1008044"/>
                    </a:cubicBezTo>
                    <a:cubicBezTo>
                      <a:pt x="319488" y="1001158"/>
                      <a:pt x="308472" y="1010338"/>
                      <a:pt x="296537" y="1005289"/>
                    </a:cubicBezTo>
                    <a:cubicBezTo>
                      <a:pt x="284602" y="1000240"/>
                      <a:pt x="265322" y="991977"/>
                      <a:pt x="255223" y="977747"/>
                    </a:cubicBezTo>
                    <a:cubicBezTo>
                      <a:pt x="245124" y="963517"/>
                      <a:pt x="240534" y="934598"/>
                      <a:pt x="235944" y="919909"/>
                    </a:cubicBezTo>
                    <a:cubicBezTo>
                      <a:pt x="231354" y="905220"/>
                      <a:pt x="227681" y="899711"/>
                      <a:pt x="227681" y="889612"/>
                    </a:cubicBezTo>
                    <a:cubicBezTo>
                      <a:pt x="227681" y="879513"/>
                      <a:pt x="234108" y="859316"/>
                      <a:pt x="235944" y="859316"/>
                    </a:cubicBezTo>
                    <a:cubicBezTo>
                      <a:pt x="237780" y="859316"/>
                      <a:pt x="232272" y="885481"/>
                      <a:pt x="238698" y="889612"/>
                    </a:cubicBezTo>
                    <a:cubicBezTo>
                      <a:pt x="245124" y="893743"/>
                      <a:pt x="268536" y="889153"/>
                      <a:pt x="274503" y="884104"/>
                    </a:cubicBezTo>
                    <a:cubicBezTo>
                      <a:pt x="280470" y="879055"/>
                      <a:pt x="277716" y="865283"/>
                      <a:pt x="274503" y="859316"/>
                    </a:cubicBezTo>
                    <a:cubicBezTo>
                      <a:pt x="271290" y="853349"/>
                      <a:pt x="262108" y="855184"/>
                      <a:pt x="255223" y="848299"/>
                    </a:cubicBezTo>
                    <a:cubicBezTo>
                      <a:pt x="248338" y="841414"/>
                      <a:pt x="240075" y="820757"/>
                      <a:pt x="233190" y="818003"/>
                    </a:cubicBezTo>
                    <a:cubicBezTo>
                      <a:pt x="226305" y="815249"/>
                      <a:pt x="225386" y="835905"/>
                      <a:pt x="213910" y="831774"/>
                    </a:cubicBezTo>
                    <a:cubicBezTo>
                      <a:pt x="202434" y="827643"/>
                      <a:pt x="173974" y="808363"/>
                      <a:pt x="164334" y="793215"/>
                    </a:cubicBezTo>
                    <a:cubicBezTo>
                      <a:pt x="154694" y="778067"/>
                      <a:pt x="162957" y="748230"/>
                      <a:pt x="156072" y="740885"/>
                    </a:cubicBezTo>
                    <a:cubicBezTo>
                      <a:pt x="149187" y="733540"/>
                      <a:pt x="130825" y="746852"/>
                      <a:pt x="123021" y="749147"/>
                    </a:cubicBezTo>
                    <a:cubicBezTo>
                      <a:pt x="115217" y="751442"/>
                      <a:pt x="112004" y="749607"/>
                      <a:pt x="109250" y="754656"/>
                    </a:cubicBezTo>
                    <a:cubicBezTo>
                      <a:pt x="106496" y="759705"/>
                      <a:pt x="109709" y="775313"/>
                      <a:pt x="106496" y="779444"/>
                    </a:cubicBezTo>
                    <a:cubicBezTo>
                      <a:pt x="103283" y="783575"/>
                      <a:pt x="97315" y="785411"/>
                      <a:pt x="89970" y="779444"/>
                    </a:cubicBezTo>
                    <a:cubicBezTo>
                      <a:pt x="82625" y="773477"/>
                      <a:pt x="68395" y="761082"/>
                      <a:pt x="62428" y="743639"/>
                    </a:cubicBezTo>
                    <a:cubicBezTo>
                      <a:pt x="56461" y="726196"/>
                      <a:pt x="57838" y="688554"/>
                      <a:pt x="54166" y="674783"/>
                    </a:cubicBezTo>
                    <a:cubicBezTo>
                      <a:pt x="50494" y="661012"/>
                      <a:pt x="39017" y="664225"/>
                      <a:pt x="40394" y="661012"/>
                    </a:cubicBezTo>
                    <a:cubicBezTo>
                      <a:pt x="41771" y="657799"/>
                      <a:pt x="64264" y="662848"/>
                      <a:pt x="62428" y="655504"/>
                    </a:cubicBezTo>
                    <a:cubicBezTo>
                      <a:pt x="60592" y="648160"/>
                      <a:pt x="39018" y="630257"/>
                      <a:pt x="29378" y="616945"/>
                    </a:cubicBezTo>
                    <a:cubicBezTo>
                      <a:pt x="19738" y="603633"/>
                      <a:pt x="8721" y="586190"/>
                      <a:pt x="4590" y="575632"/>
                    </a:cubicBezTo>
                    <a:cubicBezTo>
                      <a:pt x="459" y="565074"/>
                      <a:pt x="0" y="558647"/>
                      <a:pt x="4590" y="553598"/>
                    </a:cubicBezTo>
                    <a:cubicBezTo>
                      <a:pt x="9180" y="548549"/>
                      <a:pt x="28919" y="550384"/>
                      <a:pt x="32132" y="545335"/>
                    </a:cubicBezTo>
                    <a:cubicBezTo>
                      <a:pt x="35345" y="540286"/>
                      <a:pt x="18820" y="527892"/>
                      <a:pt x="23869" y="523302"/>
                    </a:cubicBezTo>
                    <a:cubicBezTo>
                      <a:pt x="28918" y="518712"/>
                      <a:pt x="58756" y="522843"/>
                      <a:pt x="62428" y="517793"/>
                    </a:cubicBezTo>
                    <a:cubicBezTo>
                      <a:pt x="66100" y="512744"/>
                      <a:pt x="46362" y="500809"/>
                      <a:pt x="45903" y="493005"/>
                    </a:cubicBezTo>
                    <a:cubicBezTo>
                      <a:pt x="45444" y="485201"/>
                      <a:pt x="56920" y="481529"/>
                      <a:pt x="59674" y="470971"/>
                    </a:cubicBezTo>
                    <a:cubicBezTo>
                      <a:pt x="62428" y="460413"/>
                      <a:pt x="57838" y="431035"/>
                      <a:pt x="62428" y="429658"/>
                    </a:cubicBezTo>
                    <a:cubicBezTo>
                      <a:pt x="67018" y="428281"/>
                      <a:pt x="78494" y="455824"/>
                      <a:pt x="87216" y="462709"/>
                    </a:cubicBezTo>
                    <a:cubicBezTo>
                      <a:pt x="95938" y="469594"/>
                      <a:pt x="111086" y="483824"/>
                      <a:pt x="114758" y="470971"/>
                    </a:cubicBezTo>
                    <a:cubicBezTo>
                      <a:pt x="118430" y="458118"/>
                      <a:pt x="101905" y="414051"/>
                      <a:pt x="109250" y="385591"/>
                    </a:cubicBezTo>
                    <a:cubicBezTo>
                      <a:pt x="116595" y="357131"/>
                      <a:pt x="144596" y="314899"/>
                      <a:pt x="158826" y="300210"/>
                    </a:cubicBezTo>
                    <a:cubicBezTo>
                      <a:pt x="173056" y="285521"/>
                      <a:pt x="183614" y="296538"/>
                      <a:pt x="194631" y="297456"/>
                    </a:cubicBezTo>
                    <a:cubicBezTo>
                      <a:pt x="205648" y="298374"/>
                      <a:pt x="215746" y="308472"/>
                      <a:pt x="224927" y="305718"/>
                    </a:cubicBezTo>
                    <a:cubicBezTo>
                      <a:pt x="234108" y="302964"/>
                      <a:pt x="249256" y="290111"/>
                      <a:pt x="249715" y="280930"/>
                    </a:cubicBezTo>
                    <a:cubicBezTo>
                      <a:pt x="250174" y="271749"/>
                      <a:pt x="230894" y="272668"/>
                      <a:pt x="227681" y="250634"/>
                    </a:cubicBezTo>
                    <a:cubicBezTo>
                      <a:pt x="224468" y="228600"/>
                      <a:pt x="232271" y="166630"/>
                      <a:pt x="230435" y="148728"/>
                    </a:cubicBezTo>
                    <a:cubicBezTo>
                      <a:pt x="228599" y="130826"/>
                      <a:pt x="218500" y="150106"/>
                      <a:pt x="216664" y="143220"/>
                    </a:cubicBezTo>
                    <a:cubicBezTo>
                      <a:pt x="214828" y="136335"/>
                      <a:pt x="218042" y="119350"/>
                      <a:pt x="219419" y="107415"/>
                    </a:cubicBezTo>
                    <a:cubicBezTo>
                      <a:pt x="220796" y="95480"/>
                      <a:pt x="226304" y="82627"/>
                      <a:pt x="224927" y="71610"/>
                    </a:cubicBezTo>
                    <a:cubicBezTo>
                      <a:pt x="223550" y="60593"/>
                      <a:pt x="210238" y="53249"/>
                      <a:pt x="211156" y="41314"/>
                    </a:cubicBezTo>
                    <a:cubicBezTo>
                      <a:pt x="212074" y="29379"/>
                      <a:pt x="227222" y="9181"/>
                      <a:pt x="230435" y="0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87"/>
              <p:cNvSpPr/>
              <p:nvPr/>
            </p:nvSpPr>
            <p:spPr>
              <a:xfrm>
                <a:off x="1122120" y="4399200"/>
                <a:ext cx="757080" cy="1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" bIns="36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1e1c11"/>
                    </a:solidFill>
                    <a:latin typeface="Arial"/>
                  </a:rPr>
                  <a:t>г. Москв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66"/>
              <p:cNvSpPr/>
              <p:nvPr/>
            </p:nvSpPr>
            <p:spPr>
              <a:xfrm>
                <a:off x="-360" y="157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67"/>
              <p:cNvSpPr/>
              <p:nvPr/>
            </p:nvSpPr>
            <p:spPr>
              <a:xfrm>
                <a:off x="33120" y="1500120"/>
                <a:ext cx="2541600" cy="85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68"/>
              <p:cNvSpPr/>
              <p:nvPr/>
            </p:nvSpPr>
            <p:spPr>
              <a:xfrm>
                <a:off x="110880" y="1661760"/>
                <a:ext cx="1201680" cy="1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69"/>
              <p:cNvSpPr/>
              <p:nvPr/>
            </p:nvSpPr>
            <p:spPr>
              <a:xfrm>
                <a:off x="111600" y="1663560"/>
                <a:ext cx="48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Прирос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70"/>
              <p:cNvSpPr/>
              <p:nvPr/>
            </p:nvSpPr>
            <p:spPr>
              <a:xfrm>
                <a:off x="591840" y="166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72"/>
              <p:cNvSpPr/>
              <p:nvPr/>
            </p:nvSpPr>
            <p:spPr>
              <a:xfrm>
                <a:off x="1728720" y="2344680"/>
                <a:ext cx="782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74"/>
              <p:cNvSpPr/>
              <p:nvPr/>
            </p:nvSpPr>
            <p:spPr>
              <a:xfrm>
                <a:off x="2320560" y="2346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75"/>
              <p:cNvSpPr/>
              <p:nvPr/>
            </p:nvSpPr>
            <p:spPr>
              <a:xfrm>
                <a:off x="1387440" y="2160360"/>
                <a:ext cx="285480" cy="129960"/>
              </a:xfrm>
              <a:prstGeom prst="rect">
                <a:avLst/>
              </a:prstGeom>
              <a:solidFill>
                <a:srgbClr val="c76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76"/>
              <p:cNvSpPr/>
              <p:nvPr/>
            </p:nvSpPr>
            <p:spPr>
              <a:xfrm>
                <a:off x="1728720" y="2168280"/>
                <a:ext cx="78264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77"/>
              <p:cNvSpPr/>
              <p:nvPr/>
            </p:nvSpPr>
            <p:spPr>
              <a:xfrm>
                <a:off x="1729440" y="2170080"/>
                <a:ext cx="701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от 10 до 1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78"/>
              <p:cNvSpPr/>
              <p:nvPr/>
            </p:nvSpPr>
            <p:spPr>
              <a:xfrm>
                <a:off x="2358360" y="2170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79"/>
              <p:cNvSpPr/>
              <p:nvPr/>
            </p:nvSpPr>
            <p:spPr>
              <a:xfrm>
                <a:off x="1387440" y="1992240"/>
                <a:ext cx="285480" cy="123480"/>
              </a:xfrm>
              <a:prstGeom prst="rect">
                <a:avLst/>
              </a:prstGeom>
              <a:solidFill>
                <a:srgbClr val="dea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80"/>
              <p:cNvSpPr/>
              <p:nvPr/>
            </p:nvSpPr>
            <p:spPr>
              <a:xfrm>
                <a:off x="1728720" y="2000160"/>
                <a:ext cx="78264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81"/>
              <p:cNvSpPr/>
              <p:nvPr/>
            </p:nvSpPr>
            <p:spPr>
              <a:xfrm>
                <a:off x="1729440" y="2001600"/>
                <a:ext cx="637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от 5 до 10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82"/>
              <p:cNvSpPr/>
              <p:nvPr/>
            </p:nvSpPr>
            <p:spPr>
              <a:xfrm>
                <a:off x="2301480" y="2001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83"/>
              <p:cNvSpPr/>
              <p:nvPr/>
            </p:nvSpPr>
            <p:spPr>
              <a:xfrm>
                <a:off x="1387440" y="1823760"/>
                <a:ext cx="285480" cy="131760"/>
              </a:xfrm>
              <a:prstGeom prst="rect">
                <a:avLst/>
              </a:prstGeom>
              <a:solidFill>
                <a:srgbClr val="f0d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84"/>
              <p:cNvSpPr/>
              <p:nvPr/>
            </p:nvSpPr>
            <p:spPr>
              <a:xfrm>
                <a:off x="1728720" y="1831680"/>
                <a:ext cx="59508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85"/>
              <p:cNvSpPr/>
              <p:nvPr/>
            </p:nvSpPr>
            <p:spPr>
              <a:xfrm>
                <a:off x="1728720" y="1833480"/>
                <a:ext cx="329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до 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86"/>
              <p:cNvSpPr/>
              <p:nvPr/>
            </p:nvSpPr>
            <p:spPr>
              <a:xfrm>
                <a:off x="2023920" y="1833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87"/>
              <p:cNvSpPr/>
              <p:nvPr/>
            </p:nvSpPr>
            <p:spPr>
              <a:xfrm>
                <a:off x="93600" y="1823760"/>
                <a:ext cx="284040" cy="131760"/>
              </a:xfrm>
              <a:prstGeom prst="rect">
                <a:avLst/>
              </a:prstGeom>
              <a:solidFill>
                <a:srgbClr val="e5e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88"/>
              <p:cNvSpPr/>
              <p:nvPr/>
            </p:nvSpPr>
            <p:spPr>
              <a:xfrm>
                <a:off x="433080" y="1831680"/>
                <a:ext cx="69192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89"/>
              <p:cNvSpPr/>
              <p:nvPr/>
            </p:nvSpPr>
            <p:spPr>
              <a:xfrm>
                <a:off x="432360" y="1834920"/>
                <a:ext cx="329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до 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90"/>
              <p:cNvSpPr/>
              <p:nvPr/>
            </p:nvSpPr>
            <p:spPr>
              <a:xfrm>
                <a:off x="728640" y="1834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91"/>
              <p:cNvSpPr/>
              <p:nvPr/>
            </p:nvSpPr>
            <p:spPr>
              <a:xfrm>
                <a:off x="93600" y="1996920"/>
                <a:ext cx="284040" cy="131760"/>
              </a:xfrm>
              <a:prstGeom prst="rect">
                <a:avLst/>
              </a:prstGeom>
              <a:solidFill>
                <a:srgbClr val="ad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92"/>
              <p:cNvSpPr/>
              <p:nvPr/>
            </p:nvSpPr>
            <p:spPr>
              <a:xfrm>
                <a:off x="433080" y="2012760"/>
                <a:ext cx="7855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93"/>
              <p:cNvSpPr/>
              <p:nvPr/>
            </p:nvSpPr>
            <p:spPr>
              <a:xfrm>
                <a:off x="433800" y="2014200"/>
                <a:ext cx="637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от 5 до 10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94"/>
              <p:cNvSpPr/>
              <p:nvPr/>
            </p:nvSpPr>
            <p:spPr>
              <a:xfrm>
                <a:off x="1006200" y="20142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95"/>
              <p:cNvSpPr/>
              <p:nvPr/>
            </p:nvSpPr>
            <p:spPr>
              <a:xfrm>
                <a:off x="93600" y="2178000"/>
                <a:ext cx="284040" cy="131760"/>
              </a:xfrm>
              <a:prstGeom prst="rect">
                <a:avLst/>
              </a:prstGeom>
              <a:solidFill>
                <a:srgbClr val="7c9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96"/>
              <p:cNvSpPr/>
              <p:nvPr/>
            </p:nvSpPr>
            <p:spPr>
              <a:xfrm>
                <a:off x="433080" y="2185920"/>
                <a:ext cx="78552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97"/>
              <p:cNvSpPr/>
              <p:nvPr/>
            </p:nvSpPr>
            <p:spPr>
              <a:xfrm>
                <a:off x="433800" y="2187360"/>
                <a:ext cx="701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от 10 до 1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98"/>
              <p:cNvSpPr/>
              <p:nvPr/>
            </p:nvSpPr>
            <p:spPr>
              <a:xfrm>
                <a:off x="1063440" y="2187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00"/>
              <p:cNvSpPr/>
              <p:nvPr/>
            </p:nvSpPr>
            <p:spPr>
              <a:xfrm>
                <a:off x="433080" y="2366640"/>
                <a:ext cx="7855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02"/>
              <p:cNvSpPr/>
              <p:nvPr/>
            </p:nvSpPr>
            <p:spPr>
              <a:xfrm>
                <a:off x="1026720" y="2368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03"/>
              <p:cNvSpPr/>
              <p:nvPr/>
            </p:nvSpPr>
            <p:spPr>
              <a:xfrm>
                <a:off x="1404720" y="1655640"/>
                <a:ext cx="110628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04"/>
              <p:cNvSpPr/>
              <p:nvPr/>
            </p:nvSpPr>
            <p:spPr>
              <a:xfrm>
                <a:off x="1406520" y="1658880"/>
                <a:ext cx="569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Снижение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05"/>
              <p:cNvSpPr/>
              <p:nvPr/>
            </p:nvSpPr>
            <p:spPr>
              <a:xfrm>
                <a:off x="1977480" y="165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09"/>
              <p:cNvSpPr/>
              <p:nvPr/>
            </p:nvSpPr>
            <p:spPr>
              <a:xfrm>
                <a:off x="873000" y="2614320"/>
                <a:ext cx="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10"/>
              <p:cNvSpPr/>
              <p:nvPr/>
            </p:nvSpPr>
            <p:spPr>
              <a:xfrm>
                <a:off x="1873080" y="2614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16"/>
              <p:cNvSpPr/>
              <p:nvPr/>
            </p:nvSpPr>
            <p:spPr>
              <a:xfrm>
                <a:off x="2381040" y="2746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Полилиния 242"/>
              <p:cNvSpPr/>
              <p:nvPr/>
            </p:nvSpPr>
            <p:spPr>
              <a:xfrm>
                <a:off x="930240" y="4206960"/>
                <a:ext cx="1276200" cy="1077840"/>
              </a:xfrm>
              <a:custGeom>
                <a:avLst/>
                <a:gdLst/>
                <a:ahLst/>
                <a:rect l="l" t="t" r="r" b="b"/>
                <a:pathLst>
                  <a:path w="1276350" h="1077468">
                    <a:moveTo>
                      <a:pt x="212598" y="115824"/>
                    </a:moveTo>
                    <a:cubicBezTo>
                      <a:pt x="239268" y="112395"/>
                      <a:pt x="265938" y="108966"/>
                      <a:pt x="276606" y="97536"/>
                    </a:cubicBezTo>
                    <a:cubicBezTo>
                      <a:pt x="287274" y="86106"/>
                      <a:pt x="269748" y="61722"/>
                      <a:pt x="276606" y="47244"/>
                    </a:cubicBezTo>
                    <a:cubicBezTo>
                      <a:pt x="283464" y="32766"/>
                      <a:pt x="297942" y="12192"/>
                      <a:pt x="317754" y="10668"/>
                    </a:cubicBezTo>
                    <a:cubicBezTo>
                      <a:pt x="337566" y="9144"/>
                      <a:pt x="374904" y="35814"/>
                      <a:pt x="395478" y="38100"/>
                    </a:cubicBezTo>
                    <a:cubicBezTo>
                      <a:pt x="416052" y="40386"/>
                      <a:pt x="429768" y="22860"/>
                      <a:pt x="441198" y="24384"/>
                    </a:cubicBezTo>
                    <a:cubicBezTo>
                      <a:pt x="452628" y="25908"/>
                      <a:pt x="451104" y="50292"/>
                      <a:pt x="464058" y="47244"/>
                    </a:cubicBezTo>
                    <a:cubicBezTo>
                      <a:pt x="477012" y="44196"/>
                      <a:pt x="505206" y="12192"/>
                      <a:pt x="518922" y="6096"/>
                    </a:cubicBezTo>
                    <a:cubicBezTo>
                      <a:pt x="532638" y="0"/>
                      <a:pt x="537972" y="3048"/>
                      <a:pt x="546354" y="10668"/>
                    </a:cubicBezTo>
                    <a:cubicBezTo>
                      <a:pt x="554736" y="18288"/>
                      <a:pt x="560832" y="43434"/>
                      <a:pt x="569214" y="51816"/>
                    </a:cubicBezTo>
                    <a:cubicBezTo>
                      <a:pt x="577596" y="60198"/>
                      <a:pt x="587502" y="62484"/>
                      <a:pt x="596646" y="60960"/>
                    </a:cubicBezTo>
                    <a:cubicBezTo>
                      <a:pt x="605790" y="59436"/>
                      <a:pt x="615696" y="41910"/>
                      <a:pt x="624078" y="42672"/>
                    </a:cubicBezTo>
                    <a:cubicBezTo>
                      <a:pt x="632460" y="43434"/>
                      <a:pt x="637794" y="60198"/>
                      <a:pt x="646938" y="65532"/>
                    </a:cubicBezTo>
                    <a:cubicBezTo>
                      <a:pt x="656082" y="70866"/>
                      <a:pt x="667512" y="74676"/>
                      <a:pt x="678942" y="74676"/>
                    </a:cubicBezTo>
                    <a:cubicBezTo>
                      <a:pt x="690372" y="74676"/>
                      <a:pt x="706374" y="57912"/>
                      <a:pt x="715518" y="65532"/>
                    </a:cubicBezTo>
                    <a:cubicBezTo>
                      <a:pt x="724662" y="73152"/>
                      <a:pt x="726186" y="110490"/>
                      <a:pt x="733806" y="120396"/>
                    </a:cubicBezTo>
                    <a:cubicBezTo>
                      <a:pt x="741426" y="130302"/>
                      <a:pt x="748284" y="120396"/>
                      <a:pt x="761238" y="124968"/>
                    </a:cubicBezTo>
                    <a:cubicBezTo>
                      <a:pt x="774192" y="129540"/>
                      <a:pt x="800100" y="146304"/>
                      <a:pt x="811530" y="147828"/>
                    </a:cubicBezTo>
                    <a:cubicBezTo>
                      <a:pt x="822960" y="149352"/>
                      <a:pt x="822198" y="131826"/>
                      <a:pt x="829818" y="134112"/>
                    </a:cubicBezTo>
                    <a:cubicBezTo>
                      <a:pt x="837438" y="136398"/>
                      <a:pt x="848106" y="142494"/>
                      <a:pt x="857250" y="161544"/>
                    </a:cubicBezTo>
                    <a:cubicBezTo>
                      <a:pt x="866394" y="180594"/>
                      <a:pt x="869442" y="239268"/>
                      <a:pt x="884682" y="248412"/>
                    </a:cubicBezTo>
                    <a:cubicBezTo>
                      <a:pt x="899922" y="257556"/>
                      <a:pt x="932688" y="220980"/>
                      <a:pt x="948690" y="216408"/>
                    </a:cubicBezTo>
                    <a:cubicBezTo>
                      <a:pt x="964692" y="211836"/>
                      <a:pt x="970026" y="224028"/>
                      <a:pt x="980694" y="220980"/>
                    </a:cubicBezTo>
                    <a:cubicBezTo>
                      <a:pt x="991362" y="217932"/>
                      <a:pt x="1005840" y="194310"/>
                      <a:pt x="1012698" y="198120"/>
                    </a:cubicBezTo>
                    <a:cubicBezTo>
                      <a:pt x="1019556" y="201930"/>
                      <a:pt x="1014222" y="233934"/>
                      <a:pt x="1021842" y="243840"/>
                    </a:cubicBezTo>
                    <a:cubicBezTo>
                      <a:pt x="1029462" y="253746"/>
                      <a:pt x="1046988" y="250698"/>
                      <a:pt x="1058418" y="257556"/>
                    </a:cubicBezTo>
                    <a:cubicBezTo>
                      <a:pt x="1069848" y="264414"/>
                      <a:pt x="1078230" y="274320"/>
                      <a:pt x="1090422" y="284988"/>
                    </a:cubicBezTo>
                    <a:cubicBezTo>
                      <a:pt x="1102614" y="295656"/>
                      <a:pt x="1119378" y="313182"/>
                      <a:pt x="1131570" y="321564"/>
                    </a:cubicBezTo>
                    <a:cubicBezTo>
                      <a:pt x="1143762" y="329946"/>
                      <a:pt x="1155192" y="330708"/>
                      <a:pt x="1163574" y="335280"/>
                    </a:cubicBezTo>
                    <a:cubicBezTo>
                      <a:pt x="1171956" y="339852"/>
                      <a:pt x="1173480" y="348234"/>
                      <a:pt x="1181862" y="348996"/>
                    </a:cubicBezTo>
                    <a:cubicBezTo>
                      <a:pt x="1190244" y="349758"/>
                      <a:pt x="1204722" y="342900"/>
                      <a:pt x="1213866" y="339852"/>
                    </a:cubicBezTo>
                    <a:cubicBezTo>
                      <a:pt x="1223010" y="336804"/>
                      <a:pt x="1226820" y="329184"/>
                      <a:pt x="1236726" y="330708"/>
                    </a:cubicBezTo>
                    <a:cubicBezTo>
                      <a:pt x="1246632" y="332232"/>
                      <a:pt x="1270254" y="334518"/>
                      <a:pt x="1273302" y="348996"/>
                    </a:cubicBezTo>
                    <a:cubicBezTo>
                      <a:pt x="1276350" y="363474"/>
                      <a:pt x="1264158" y="402336"/>
                      <a:pt x="1255014" y="417576"/>
                    </a:cubicBezTo>
                    <a:cubicBezTo>
                      <a:pt x="1245870" y="432816"/>
                      <a:pt x="1230630" y="438150"/>
                      <a:pt x="1218438" y="440436"/>
                    </a:cubicBezTo>
                    <a:cubicBezTo>
                      <a:pt x="1206246" y="442722"/>
                      <a:pt x="1193292" y="426720"/>
                      <a:pt x="1181862" y="431292"/>
                    </a:cubicBezTo>
                    <a:cubicBezTo>
                      <a:pt x="1170432" y="435864"/>
                      <a:pt x="1162050" y="462534"/>
                      <a:pt x="1149858" y="467868"/>
                    </a:cubicBezTo>
                    <a:cubicBezTo>
                      <a:pt x="1137666" y="473202"/>
                      <a:pt x="1123188" y="466344"/>
                      <a:pt x="1108710" y="463296"/>
                    </a:cubicBezTo>
                    <a:cubicBezTo>
                      <a:pt x="1094232" y="460248"/>
                      <a:pt x="1068324" y="456438"/>
                      <a:pt x="1062990" y="449580"/>
                    </a:cubicBezTo>
                    <a:cubicBezTo>
                      <a:pt x="1057656" y="442722"/>
                      <a:pt x="1079754" y="426720"/>
                      <a:pt x="1076706" y="422148"/>
                    </a:cubicBezTo>
                    <a:cubicBezTo>
                      <a:pt x="1073658" y="417576"/>
                      <a:pt x="1054608" y="416052"/>
                      <a:pt x="1044702" y="422148"/>
                    </a:cubicBezTo>
                    <a:cubicBezTo>
                      <a:pt x="1034796" y="428244"/>
                      <a:pt x="1030986" y="454152"/>
                      <a:pt x="1017270" y="458724"/>
                    </a:cubicBezTo>
                    <a:cubicBezTo>
                      <a:pt x="1003554" y="463296"/>
                      <a:pt x="972312" y="452628"/>
                      <a:pt x="962406" y="449580"/>
                    </a:cubicBezTo>
                    <a:cubicBezTo>
                      <a:pt x="952500" y="446532"/>
                      <a:pt x="962406" y="439674"/>
                      <a:pt x="957834" y="440436"/>
                    </a:cubicBezTo>
                    <a:cubicBezTo>
                      <a:pt x="953262" y="441198"/>
                      <a:pt x="940308" y="448056"/>
                      <a:pt x="934974" y="454152"/>
                    </a:cubicBezTo>
                    <a:cubicBezTo>
                      <a:pt x="929640" y="460248"/>
                      <a:pt x="934974" y="470916"/>
                      <a:pt x="925830" y="477012"/>
                    </a:cubicBezTo>
                    <a:cubicBezTo>
                      <a:pt x="916686" y="483108"/>
                      <a:pt x="894588" y="486156"/>
                      <a:pt x="880110" y="490728"/>
                    </a:cubicBezTo>
                    <a:cubicBezTo>
                      <a:pt x="865632" y="495300"/>
                      <a:pt x="844296" y="496062"/>
                      <a:pt x="838962" y="504444"/>
                    </a:cubicBezTo>
                    <a:cubicBezTo>
                      <a:pt x="833628" y="512826"/>
                      <a:pt x="855726" y="532638"/>
                      <a:pt x="848106" y="541020"/>
                    </a:cubicBezTo>
                    <a:cubicBezTo>
                      <a:pt x="840486" y="549402"/>
                      <a:pt x="814578" y="546354"/>
                      <a:pt x="793242" y="554736"/>
                    </a:cubicBezTo>
                    <a:cubicBezTo>
                      <a:pt x="771906" y="563118"/>
                      <a:pt x="730758" y="575310"/>
                      <a:pt x="720090" y="591312"/>
                    </a:cubicBezTo>
                    <a:cubicBezTo>
                      <a:pt x="709422" y="607314"/>
                      <a:pt x="730758" y="633984"/>
                      <a:pt x="729234" y="650748"/>
                    </a:cubicBezTo>
                    <a:cubicBezTo>
                      <a:pt x="727710" y="667512"/>
                      <a:pt x="718566" y="681990"/>
                      <a:pt x="710946" y="691896"/>
                    </a:cubicBezTo>
                    <a:cubicBezTo>
                      <a:pt x="703326" y="701802"/>
                      <a:pt x="685800" y="703326"/>
                      <a:pt x="683514" y="710184"/>
                    </a:cubicBezTo>
                    <a:cubicBezTo>
                      <a:pt x="681228" y="717042"/>
                      <a:pt x="701802" y="732282"/>
                      <a:pt x="697230" y="733044"/>
                    </a:cubicBezTo>
                    <a:cubicBezTo>
                      <a:pt x="692658" y="733806"/>
                      <a:pt x="665226" y="713232"/>
                      <a:pt x="656082" y="714756"/>
                    </a:cubicBezTo>
                    <a:cubicBezTo>
                      <a:pt x="646938" y="716280"/>
                      <a:pt x="642366" y="742188"/>
                      <a:pt x="642366" y="742188"/>
                    </a:cubicBezTo>
                    <a:cubicBezTo>
                      <a:pt x="638556" y="749808"/>
                      <a:pt x="635508" y="752094"/>
                      <a:pt x="633222" y="760476"/>
                    </a:cubicBezTo>
                    <a:cubicBezTo>
                      <a:pt x="630936" y="768858"/>
                      <a:pt x="629412" y="779526"/>
                      <a:pt x="628650" y="792480"/>
                    </a:cubicBezTo>
                    <a:cubicBezTo>
                      <a:pt x="627888" y="805434"/>
                      <a:pt x="627126" y="820674"/>
                      <a:pt x="628650" y="838200"/>
                    </a:cubicBezTo>
                    <a:cubicBezTo>
                      <a:pt x="630174" y="855726"/>
                      <a:pt x="640842" y="886206"/>
                      <a:pt x="637794" y="897636"/>
                    </a:cubicBezTo>
                    <a:cubicBezTo>
                      <a:pt x="634746" y="909066"/>
                      <a:pt x="627126" y="898398"/>
                      <a:pt x="610362" y="906780"/>
                    </a:cubicBezTo>
                    <a:cubicBezTo>
                      <a:pt x="593598" y="915162"/>
                      <a:pt x="549402" y="927354"/>
                      <a:pt x="537210" y="947928"/>
                    </a:cubicBezTo>
                    <a:cubicBezTo>
                      <a:pt x="525018" y="968502"/>
                      <a:pt x="544068" y="1019556"/>
                      <a:pt x="537210" y="1030224"/>
                    </a:cubicBezTo>
                    <a:cubicBezTo>
                      <a:pt x="530352" y="1040892"/>
                      <a:pt x="505206" y="1020318"/>
                      <a:pt x="496062" y="1011936"/>
                    </a:cubicBezTo>
                    <a:cubicBezTo>
                      <a:pt x="486918" y="1003554"/>
                      <a:pt x="496824" y="984504"/>
                      <a:pt x="482346" y="979932"/>
                    </a:cubicBezTo>
                    <a:cubicBezTo>
                      <a:pt x="467868" y="975360"/>
                      <a:pt x="420624" y="979170"/>
                      <a:pt x="409194" y="984504"/>
                    </a:cubicBezTo>
                    <a:cubicBezTo>
                      <a:pt x="397764" y="989838"/>
                      <a:pt x="419100" y="1001268"/>
                      <a:pt x="413766" y="1011936"/>
                    </a:cubicBezTo>
                    <a:cubicBezTo>
                      <a:pt x="408432" y="1022604"/>
                      <a:pt x="390906" y="1039368"/>
                      <a:pt x="377190" y="1048512"/>
                    </a:cubicBezTo>
                    <a:cubicBezTo>
                      <a:pt x="363474" y="1057656"/>
                      <a:pt x="349758" y="1064514"/>
                      <a:pt x="331470" y="1066800"/>
                    </a:cubicBezTo>
                    <a:cubicBezTo>
                      <a:pt x="313182" y="1069086"/>
                      <a:pt x="284226" y="1077468"/>
                      <a:pt x="267462" y="1062228"/>
                    </a:cubicBezTo>
                    <a:cubicBezTo>
                      <a:pt x="250698" y="1046988"/>
                      <a:pt x="241554" y="998982"/>
                      <a:pt x="230886" y="975360"/>
                    </a:cubicBezTo>
                    <a:cubicBezTo>
                      <a:pt x="220218" y="951738"/>
                      <a:pt x="211836" y="931926"/>
                      <a:pt x="203454" y="920496"/>
                    </a:cubicBezTo>
                    <a:cubicBezTo>
                      <a:pt x="195072" y="909066"/>
                      <a:pt x="184404" y="915924"/>
                      <a:pt x="180594" y="906780"/>
                    </a:cubicBezTo>
                    <a:cubicBezTo>
                      <a:pt x="176784" y="897636"/>
                      <a:pt x="188976" y="876300"/>
                      <a:pt x="180594" y="865632"/>
                    </a:cubicBezTo>
                    <a:cubicBezTo>
                      <a:pt x="172212" y="854964"/>
                      <a:pt x="146304" y="859536"/>
                      <a:pt x="130302" y="842772"/>
                    </a:cubicBezTo>
                    <a:cubicBezTo>
                      <a:pt x="114300" y="826008"/>
                      <a:pt x="93726" y="778002"/>
                      <a:pt x="84582" y="765048"/>
                    </a:cubicBezTo>
                    <a:cubicBezTo>
                      <a:pt x="75438" y="752094"/>
                      <a:pt x="71628" y="777240"/>
                      <a:pt x="75438" y="765048"/>
                    </a:cubicBezTo>
                    <a:cubicBezTo>
                      <a:pt x="79248" y="752856"/>
                      <a:pt x="104394" y="706374"/>
                      <a:pt x="107442" y="691896"/>
                    </a:cubicBezTo>
                    <a:cubicBezTo>
                      <a:pt x="110490" y="677418"/>
                      <a:pt x="99060" y="685038"/>
                      <a:pt x="93726" y="678180"/>
                    </a:cubicBezTo>
                    <a:cubicBezTo>
                      <a:pt x="88392" y="671322"/>
                      <a:pt x="79248" y="658368"/>
                      <a:pt x="75438" y="650748"/>
                    </a:cubicBezTo>
                    <a:cubicBezTo>
                      <a:pt x="71628" y="643128"/>
                      <a:pt x="67818" y="639318"/>
                      <a:pt x="70866" y="632460"/>
                    </a:cubicBezTo>
                    <a:cubicBezTo>
                      <a:pt x="73914" y="625602"/>
                      <a:pt x="93726" y="609600"/>
                      <a:pt x="93726" y="609600"/>
                    </a:cubicBezTo>
                    <a:cubicBezTo>
                      <a:pt x="100584" y="602742"/>
                      <a:pt x="108204" y="601980"/>
                      <a:pt x="112014" y="591312"/>
                    </a:cubicBezTo>
                    <a:cubicBezTo>
                      <a:pt x="115824" y="580644"/>
                      <a:pt x="114300" y="556260"/>
                      <a:pt x="116586" y="545592"/>
                    </a:cubicBezTo>
                    <a:cubicBezTo>
                      <a:pt x="118872" y="534924"/>
                      <a:pt x="137922" y="541020"/>
                      <a:pt x="125730" y="527304"/>
                    </a:cubicBezTo>
                    <a:cubicBezTo>
                      <a:pt x="113538" y="513588"/>
                      <a:pt x="60198" y="472440"/>
                      <a:pt x="43434" y="463296"/>
                    </a:cubicBezTo>
                    <a:cubicBezTo>
                      <a:pt x="26670" y="454152"/>
                      <a:pt x="32004" y="474726"/>
                      <a:pt x="25146" y="472440"/>
                    </a:cubicBezTo>
                    <a:cubicBezTo>
                      <a:pt x="18288" y="470154"/>
                      <a:pt x="0" y="469392"/>
                      <a:pt x="2286" y="449580"/>
                    </a:cubicBezTo>
                    <a:cubicBezTo>
                      <a:pt x="4572" y="429768"/>
                      <a:pt x="25908" y="371094"/>
                      <a:pt x="38862" y="353568"/>
                    </a:cubicBezTo>
                    <a:cubicBezTo>
                      <a:pt x="51816" y="336042"/>
                      <a:pt x="75438" y="342138"/>
                      <a:pt x="80010" y="344424"/>
                    </a:cubicBezTo>
                    <a:cubicBezTo>
                      <a:pt x="84582" y="346710"/>
                      <a:pt x="54102" y="359664"/>
                      <a:pt x="66294" y="367284"/>
                    </a:cubicBezTo>
                    <a:cubicBezTo>
                      <a:pt x="78486" y="374904"/>
                      <a:pt x="120396" y="406146"/>
                      <a:pt x="153162" y="390144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Полилиния 243"/>
              <p:cNvSpPr/>
              <p:nvPr/>
            </p:nvSpPr>
            <p:spPr>
              <a:xfrm>
                <a:off x="1056960" y="4321080"/>
                <a:ext cx="96840" cy="280800"/>
              </a:xfrm>
              <a:custGeom>
                <a:avLst/>
                <a:gdLst/>
                <a:ahLst/>
                <a:rect l="l" t="t" r="r" b="b"/>
                <a:pathLst>
                  <a:path w="96012" h="281178">
                    <a:moveTo>
                      <a:pt x="25908" y="281178"/>
                    </a:moveTo>
                    <a:cubicBezTo>
                      <a:pt x="23241" y="248793"/>
                      <a:pt x="20574" y="216408"/>
                      <a:pt x="16764" y="198882"/>
                    </a:cubicBezTo>
                    <a:cubicBezTo>
                      <a:pt x="12954" y="181356"/>
                      <a:pt x="1524" y="179832"/>
                      <a:pt x="3048" y="176022"/>
                    </a:cubicBezTo>
                    <a:cubicBezTo>
                      <a:pt x="4572" y="172212"/>
                      <a:pt x="25908" y="181356"/>
                      <a:pt x="25908" y="176022"/>
                    </a:cubicBezTo>
                    <a:cubicBezTo>
                      <a:pt x="25908" y="170688"/>
                      <a:pt x="6096" y="152400"/>
                      <a:pt x="3048" y="144018"/>
                    </a:cubicBezTo>
                    <a:cubicBezTo>
                      <a:pt x="0" y="135636"/>
                      <a:pt x="4572" y="131826"/>
                      <a:pt x="7620" y="125730"/>
                    </a:cubicBezTo>
                    <a:cubicBezTo>
                      <a:pt x="10668" y="119634"/>
                      <a:pt x="18288" y="117348"/>
                      <a:pt x="21336" y="107442"/>
                    </a:cubicBezTo>
                    <a:cubicBezTo>
                      <a:pt x="24384" y="97536"/>
                      <a:pt x="25146" y="74676"/>
                      <a:pt x="25908" y="66294"/>
                    </a:cubicBezTo>
                    <a:cubicBezTo>
                      <a:pt x="26670" y="57912"/>
                      <a:pt x="21336" y="60960"/>
                      <a:pt x="25908" y="57150"/>
                    </a:cubicBezTo>
                    <a:cubicBezTo>
                      <a:pt x="30480" y="53340"/>
                      <a:pt x="46482" y="48006"/>
                      <a:pt x="53340" y="43434"/>
                    </a:cubicBezTo>
                    <a:cubicBezTo>
                      <a:pt x="60198" y="38862"/>
                      <a:pt x="61722" y="35814"/>
                      <a:pt x="67056" y="29718"/>
                    </a:cubicBezTo>
                    <a:cubicBezTo>
                      <a:pt x="72390" y="23622"/>
                      <a:pt x="80772" y="11430"/>
                      <a:pt x="85344" y="6858"/>
                    </a:cubicBezTo>
                    <a:cubicBezTo>
                      <a:pt x="89916" y="2286"/>
                      <a:pt x="96012" y="0"/>
                      <a:pt x="94488" y="2286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Полилиния 245"/>
              <p:cNvSpPr/>
              <p:nvPr/>
            </p:nvSpPr>
            <p:spPr>
              <a:xfrm>
                <a:off x="2187360" y="3879720"/>
                <a:ext cx="1338120" cy="785880"/>
              </a:xfrm>
              <a:custGeom>
                <a:avLst/>
                <a:gdLst/>
                <a:ahLst/>
                <a:rect l="l" t="t" r="r" b="b"/>
                <a:pathLst>
                  <a:path w="1337733" h="785586">
                    <a:moveTo>
                      <a:pt x="11490" y="646490"/>
                    </a:moveTo>
                    <a:cubicBezTo>
                      <a:pt x="5745" y="616252"/>
                      <a:pt x="0" y="586015"/>
                      <a:pt x="4233" y="577548"/>
                    </a:cubicBezTo>
                    <a:cubicBezTo>
                      <a:pt x="8466" y="569081"/>
                      <a:pt x="24795" y="598714"/>
                      <a:pt x="36890" y="595690"/>
                    </a:cubicBezTo>
                    <a:cubicBezTo>
                      <a:pt x="48985" y="592666"/>
                      <a:pt x="65315" y="570291"/>
                      <a:pt x="76805" y="559405"/>
                    </a:cubicBezTo>
                    <a:cubicBezTo>
                      <a:pt x="88295" y="548519"/>
                      <a:pt x="96157" y="532795"/>
                      <a:pt x="105833" y="530376"/>
                    </a:cubicBezTo>
                    <a:cubicBezTo>
                      <a:pt x="115509" y="527957"/>
                      <a:pt x="128210" y="538238"/>
                      <a:pt x="134862" y="544890"/>
                    </a:cubicBezTo>
                    <a:cubicBezTo>
                      <a:pt x="141514" y="551542"/>
                      <a:pt x="148166" y="559404"/>
                      <a:pt x="145747" y="570290"/>
                    </a:cubicBezTo>
                    <a:cubicBezTo>
                      <a:pt x="143328" y="581176"/>
                      <a:pt x="123371" y="598110"/>
                      <a:pt x="120347" y="610205"/>
                    </a:cubicBezTo>
                    <a:cubicBezTo>
                      <a:pt x="117323" y="622300"/>
                      <a:pt x="131838" y="633186"/>
                      <a:pt x="127605" y="642862"/>
                    </a:cubicBezTo>
                    <a:cubicBezTo>
                      <a:pt x="123372" y="652538"/>
                      <a:pt x="101599" y="659795"/>
                      <a:pt x="94947" y="668262"/>
                    </a:cubicBezTo>
                    <a:cubicBezTo>
                      <a:pt x="88295" y="676729"/>
                      <a:pt x="85876" y="684591"/>
                      <a:pt x="87690" y="693662"/>
                    </a:cubicBezTo>
                    <a:cubicBezTo>
                      <a:pt x="89504" y="702733"/>
                      <a:pt x="100995" y="708176"/>
                      <a:pt x="105833" y="722690"/>
                    </a:cubicBezTo>
                    <a:cubicBezTo>
                      <a:pt x="110671" y="737204"/>
                      <a:pt x="111276" y="775910"/>
                      <a:pt x="116719" y="780748"/>
                    </a:cubicBezTo>
                    <a:cubicBezTo>
                      <a:pt x="122162" y="785586"/>
                      <a:pt x="130628" y="756557"/>
                      <a:pt x="138490" y="751719"/>
                    </a:cubicBezTo>
                    <a:cubicBezTo>
                      <a:pt x="146352" y="746881"/>
                      <a:pt x="157238" y="753533"/>
                      <a:pt x="163890" y="751719"/>
                    </a:cubicBezTo>
                    <a:cubicBezTo>
                      <a:pt x="170543" y="749905"/>
                      <a:pt x="169938" y="740833"/>
                      <a:pt x="178405" y="740833"/>
                    </a:cubicBezTo>
                    <a:cubicBezTo>
                      <a:pt x="186872" y="740833"/>
                      <a:pt x="205014" y="753533"/>
                      <a:pt x="214690" y="751719"/>
                    </a:cubicBezTo>
                    <a:cubicBezTo>
                      <a:pt x="224366" y="749905"/>
                      <a:pt x="231624" y="727529"/>
                      <a:pt x="236462" y="729948"/>
                    </a:cubicBezTo>
                    <a:cubicBezTo>
                      <a:pt x="241300" y="732367"/>
                      <a:pt x="233438" y="762000"/>
                      <a:pt x="243719" y="766233"/>
                    </a:cubicBezTo>
                    <a:cubicBezTo>
                      <a:pt x="254000" y="770466"/>
                      <a:pt x="287866" y="758976"/>
                      <a:pt x="298147" y="755348"/>
                    </a:cubicBezTo>
                    <a:cubicBezTo>
                      <a:pt x="308428" y="751720"/>
                      <a:pt x="307219" y="753533"/>
                      <a:pt x="305405" y="744462"/>
                    </a:cubicBezTo>
                    <a:cubicBezTo>
                      <a:pt x="303591" y="735391"/>
                      <a:pt x="285448" y="713014"/>
                      <a:pt x="287262" y="700919"/>
                    </a:cubicBezTo>
                    <a:cubicBezTo>
                      <a:pt x="289076" y="688824"/>
                      <a:pt x="308428" y="673704"/>
                      <a:pt x="316290" y="671890"/>
                    </a:cubicBezTo>
                    <a:cubicBezTo>
                      <a:pt x="324152" y="670076"/>
                      <a:pt x="330200" y="688823"/>
                      <a:pt x="334433" y="690033"/>
                    </a:cubicBezTo>
                    <a:cubicBezTo>
                      <a:pt x="338666" y="691243"/>
                      <a:pt x="338061" y="678543"/>
                      <a:pt x="341690" y="679148"/>
                    </a:cubicBezTo>
                    <a:cubicBezTo>
                      <a:pt x="345319" y="679753"/>
                      <a:pt x="350157" y="693662"/>
                      <a:pt x="356205" y="693662"/>
                    </a:cubicBezTo>
                    <a:cubicBezTo>
                      <a:pt x="362253" y="693662"/>
                      <a:pt x="371324" y="677334"/>
                      <a:pt x="377976" y="679148"/>
                    </a:cubicBezTo>
                    <a:cubicBezTo>
                      <a:pt x="384628" y="680962"/>
                      <a:pt x="394910" y="698501"/>
                      <a:pt x="396119" y="704548"/>
                    </a:cubicBezTo>
                    <a:cubicBezTo>
                      <a:pt x="397328" y="710595"/>
                      <a:pt x="383419" y="710595"/>
                      <a:pt x="385233" y="715433"/>
                    </a:cubicBezTo>
                    <a:cubicBezTo>
                      <a:pt x="387047" y="720271"/>
                      <a:pt x="402167" y="732971"/>
                      <a:pt x="407005" y="733576"/>
                    </a:cubicBezTo>
                    <a:cubicBezTo>
                      <a:pt x="411843" y="734181"/>
                      <a:pt x="402167" y="714829"/>
                      <a:pt x="414262" y="719062"/>
                    </a:cubicBezTo>
                    <a:cubicBezTo>
                      <a:pt x="426357" y="723295"/>
                      <a:pt x="467481" y="755348"/>
                      <a:pt x="479576" y="758976"/>
                    </a:cubicBezTo>
                    <a:cubicBezTo>
                      <a:pt x="491671" y="762604"/>
                      <a:pt x="482600" y="745671"/>
                      <a:pt x="486833" y="740833"/>
                    </a:cubicBezTo>
                    <a:cubicBezTo>
                      <a:pt x="491066" y="735995"/>
                      <a:pt x="493486" y="729948"/>
                      <a:pt x="504976" y="729948"/>
                    </a:cubicBezTo>
                    <a:cubicBezTo>
                      <a:pt x="516466" y="729948"/>
                      <a:pt x="541867" y="740228"/>
                      <a:pt x="555776" y="740833"/>
                    </a:cubicBezTo>
                    <a:cubicBezTo>
                      <a:pt x="569686" y="741438"/>
                      <a:pt x="563033" y="726924"/>
                      <a:pt x="588433" y="733576"/>
                    </a:cubicBezTo>
                    <a:cubicBezTo>
                      <a:pt x="613833" y="740228"/>
                      <a:pt x="680962" y="776515"/>
                      <a:pt x="708176" y="780748"/>
                    </a:cubicBezTo>
                    <a:cubicBezTo>
                      <a:pt x="735390" y="784981"/>
                      <a:pt x="743252" y="766838"/>
                      <a:pt x="751719" y="758976"/>
                    </a:cubicBezTo>
                    <a:cubicBezTo>
                      <a:pt x="760186" y="751114"/>
                      <a:pt x="752324" y="741438"/>
                      <a:pt x="758976" y="733576"/>
                    </a:cubicBezTo>
                    <a:cubicBezTo>
                      <a:pt x="765628" y="725714"/>
                      <a:pt x="787400" y="719667"/>
                      <a:pt x="791633" y="711805"/>
                    </a:cubicBezTo>
                    <a:cubicBezTo>
                      <a:pt x="795866" y="703943"/>
                      <a:pt x="785585" y="694872"/>
                      <a:pt x="784376" y="686405"/>
                    </a:cubicBezTo>
                    <a:cubicBezTo>
                      <a:pt x="783167" y="677938"/>
                      <a:pt x="781957" y="666448"/>
                      <a:pt x="784376" y="661005"/>
                    </a:cubicBezTo>
                    <a:cubicBezTo>
                      <a:pt x="786795" y="655562"/>
                      <a:pt x="797681" y="657377"/>
                      <a:pt x="798890" y="653748"/>
                    </a:cubicBezTo>
                    <a:cubicBezTo>
                      <a:pt x="800100" y="650119"/>
                      <a:pt x="792842" y="644676"/>
                      <a:pt x="791633" y="639233"/>
                    </a:cubicBezTo>
                    <a:cubicBezTo>
                      <a:pt x="790424" y="633790"/>
                      <a:pt x="789214" y="624114"/>
                      <a:pt x="791633" y="621090"/>
                    </a:cubicBezTo>
                    <a:cubicBezTo>
                      <a:pt x="794052" y="618066"/>
                      <a:pt x="806147" y="621090"/>
                      <a:pt x="806147" y="621090"/>
                    </a:cubicBezTo>
                    <a:cubicBezTo>
                      <a:pt x="809171" y="621090"/>
                      <a:pt x="809171" y="624719"/>
                      <a:pt x="809776" y="621090"/>
                    </a:cubicBezTo>
                    <a:cubicBezTo>
                      <a:pt x="810381" y="617461"/>
                      <a:pt x="807962" y="604762"/>
                      <a:pt x="809776" y="599319"/>
                    </a:cubicBezTo>
                    <a:cubicBezTo>
                      <a:pt x="811590" y="593876"/>
                      <a:pt x="809776" y="602947"/>
                      <a:pt x="820662" y="588433"/>
                    </a:cubicBezTo>
                    <a:cubicBezTo>
                      <a:pt x="831548" y="573919"/>
                      <a:pt x="867228" y="526747"/>
                      <a:pt x="875090" y="512233"/>
                    </a:cubicBezTo>
                    <a:cubicBezTo>
                      <a:pt x="882952" y="497719"/>
                      <a:pt x="868438" y="507395"/>
                      <a:pt x="867833" y="501348"/>
                    </a:cubicBezTo>
                    <a:cubicBezTo>
                      <a:pt x="867228" y="495301"/>
                      <a:pt x="868438" y="481996"/>
                      <a:pt x="871462" y="475948"/>
                    </a:cubicBezTo>
                    <a:cubicBezTo>
                      <a:pt x="874486" y="469900"/>
                      <a:pt x="881138" y="469295"/>
                      <a:pt x="885976" y="465062"/>
                    </a:cubicBezTo>
                    <a:cubicBezTo>
                      <a:pt x="890814" y="460829"/>
                      <a:pt x="899885" y="454781"/>
                      <a:pt x="900490" y="450548"/>
                    </a:cubicBezTo>
                    <a:cubicBezTo>
                      <a:pt x="901095" y="446315"/>
                      <a:pt x="882348" y="442686"/>
                      <a:pt x="889605" y="439662"/>
                    </a:cubicBezTo>
                    <a:cubicBezTo>
                      <a:pt x="896862" y="436638"/>
                      <a:pt x="934962" y="433010"/>
                      <a:pt x="944033" y="432405"/>
                    </a:cubicBezTo>
                    <a:cubicBezTo>
                      <a:pt x="953104" y="431800"/>
                      <a:pt x="943428" y="433614"/>
                      <a:pt x="944033" y="436033"/>
                    </a:cubicBezTo>
                    <a:cubicBezTo>
                      <a:pt x="944638" y="438452"/>
                      <a:pt x="944638" y="446314"/>
                      <a:pt x="947662" y="446919"/>
                    </a:cubicBezTo>
                    <a:cubicBezTo>
                      <a:pt x="950686" y="447524"/>
                      <a:pt x="957338" y="439662"/>
                      <a:pt x="962176" y="439662"/>
                    </a:cubicBezTo>
                    <a:cubicBezTo>
                      <a:pt x="967014" y="439662"/>
                      <a:pt x="971852" y="450548"/>
                      <a:pt x="976690" y="446919"/>
                    </a:cubicBezTo>
                    <a:cubicBezTo>
                      <a:pt x="981528" y="443290"/>
                      <a:pt x="986972" y="425147"/>
                      <a:pt x="991205" y="417890"/>
                    </a:cubicBezTo>
                    <a:cubicBezTo>
                      <a:pt x="995438" y="410633"/>
                      <a:pt x="997252" y="406400"/>
                      <a:pt x="1002090" y="403376"/>
                    </a:cubicBezTo>
                    <a:cubicBezTo>
                      <a:pt x="1006928" y="400352"/>
                      <a:pt x="1016000" y="400958"/>
                      <a:pt x="1020233" y="399748"/>
                    </a:cubicBezTo>
                    <a:cubicBezTo>
                      <a:pt x="1024466" y="398539"/>
                      <a:pt x="1027490" y="396119"/>
                      <a:pt x="1027490" y="396119"/>
                    </a:cubicBezTo>
                    <a:cubicBezTo>
                      <a:pt x="1032328" y="393700"/>
                      <a:pt x="1042610" y="389466"/>
                      <a:pt x="1049262" y="385233"/>
                    </a:cubicBezTo>
                    <a:cubicBezTo>
                      <a:pt x="1055914" y="381000"/>
                      <a:pt x="1060148" y="371928"/>
                      <a:pt x="1067405" y="370719"/>
                    </a:cubicBezTo>
                    <a:cubicBezTo>
                      <a:pt x="1074662" y="369510"/>
                      <a:pt x="1085548" y="380395"/>
                      <a:pt x="1092805" y="377976"/>
                    </a:cubicBezTo>
                    <a:cubicBezTo>
                      <a:pt x="1100062" y="375557"/>
                      <a:pt x="1109738" y="361648"/>
                      <a:pt x="1110947" y="356205"/>
                    </a:cubicBezTo>
                    <a:cubicBezTo>
                      <a:pt x="1112156" y="350762"/>
                      <a:pt x="1097643" y="350157"/>
                      <a:pt x="1100062" y="345319"/>
                    </a:cubicBezTo>
                    <a:cubicBezTo>
                      <a:pt x="1102481" y="340481"/>
                      <a:pt x="1117600" y="332014"/>
                      <a:pt x="1125462" y="327176"/>
                    </a:cubicBezTo>
                    <a:cubicBezTo>
                      <a:pt x="1133324" y="322338"/>
                      <a:pt x="1140581" y="319314"/>
                      <a:pt x="1147233" y="316290"/>
                    </a:cubicBezTo>
                    <a:cubicBezTo>
                      <a:pt x="1153885" y="313266"/>
                      <a:pt x="1161143" y="312661"/>
                      <a:pt x="1165376" y="309033"/>
                    </a:cubicBezTo>
                    <a:cubicBezTo>
                      <a:pt x="1169609" y="305405"/>
                      <a:pt x="1167795" y="295124"/>
                      <a:pt x="1172633" y="294519"/>
                    </a:cubicBezTo>
                    <a:cubicBezTo>
                      <a:pt x="1177471" y="293914"/>
                      <a:pt x="1188962" y="307219"/>
                      <a:pt x="1194405" y="305405"/>
                    </a:cubicBezTo>
                    <a:cubicBezTo>
                      <a:pt x="1199848" y="303591"/>
                      <a:pt x="1196219" y="286052"/>
                      <a:pt x="1205290" y="283633"/>
                    </a:cubicBezTo>
                    <a:cubicBezTo>
                      <a:pt x="1214361" y="281214"/>
                      <a:pt x="1241576" y="294519"/>
                      <a:pt x="1248833" y="290890"/>
                    </a:cubicBezTo>
                    <a:cubicBezTo>
                      <a:pt x="1256090" y="287262"/>
                      <a:pt x="1245809" y="268514"/>
                      <a:pt x="1248833" y="261862"/>
                    </a:cubicBezTo>
                    <a:cubicBezTo>
                      <a:pt x="1251857" y="255210"/>
                      <a:pt x="1260928" y="254000"/>
                      <a:pt x="1266976" y="250976"/>
                    </a:cubicBezTo>
                    <a:cubicBezTo>
                      <a:pt x="1273024" y="247952"/>
                      <a:pt x="1281491" y="247347"/>
                      <a:pt x="1285119" y="243719"/>
                    </a:cubicBezTo>
                    <a:cubicBezTo>
                      <a:pt x="1288747" y="240091"/>
                      <a:pt x="1285118" y="229810"/>
                      <a:pt x="1288747" y="229205"/>
                    </a:cubicBezTo>
                    <a:cubicBezTo>
                      <a:pt x="1292376" y="228600"/>
                      <a:pt x="1304471" y="241299"/>
                      <a:pt x="1306890" y="240090"/>
                    </a:cubicBezTo>
                    <a:cubicBezTo>
                      <a:pt x="1309309" y="238881"/>
                      <a:pt x="1303262" y="226786"/>
                      <a:pt x="1303262" y="221948"/>
                    </a:cubicBezTo>
                    <a:cubicBezTo>
                      <a:pt x="1303262" y="217110"/>
                      <a:pt x="1305076" y="211667"/>
                      <a:pt x="1306890" y="211062"/>
                    </a:cubicBezTo>
                    <a:cubicBezTo>
                      <a:pt x="1308704" y="210457"/>
                      <a:pt x="1311123" y="217714"/>
                      <a:pt x="1314147" y="218319"/>
                    </a:cubicBezTo>
                    <a:cubicBezTo>
                      <a:pt x="1317171" y="218924"/>
                      <a:pt x="1322009" y="216504"/>
                      <a:pt x="1325033" y="214690"/>
                    </a:cubicBezTo>
                    <a:cubicBezTo>
                      <a:pt x="1328057" y="212876"/>
                      <a:pt x="1331685" y="212271"/>
                      <a:pt x="1332290" y="207433"/>
                    </a:cubicBezTo>
                    <a:cubicBezTo>
                      <a:pt x="1332895" y="202595"/>
                      <a:pt x="1332895" y="191105"/>
                      <a:pt x="1328662" y="185662"/>
                    </a:cubicBezTo>
                    <a:cubicBezTo>
                      <a:pt x="1324429" y="180219"/>
                      <a:pt x="1312333" y="180219"/>
                      <a:pt x="1306890" y="174776"/>
                    </a:cubicBezTo>
                    <a:cubicBezTo>
                      <a:pt x="1301447" y="169333"/>
                      <a:pt x="1296005" y="159657"/>
                      <a:pt x="1296005" y="153005"/>
                    </a:cubicBezTo>
                    <a:cubicBezTo>
                      <a:pt x="1296005" y="146353"/>
                      <a:pt x="1305076" y="140910"/>
                      <a:pt x="1306890" y="134862"/>
                    </a:cubicBezTo>
                    <a:cubicBezTo>
                      <a:pt x="1308704" y="128814"/>
                      <a:pt x="1305076" y="121557"/>
                      <a:pt x="1306890" y="116719"/>
                    </a:cubicBezTo>
                    <a:cubicBezTo>
                      <a:pt x="1308704" y="111881"/>
                      <a:pt x="1313543" y="108857"/>
                      <a:pt x="1317776" y="105833"/>
                    </a:cubicBezTo>
                    <a:cubicBezTo>
                      <a:pt x="1322009" y="102809"/>
                      <a:pt x="1329266" y="105228"/>
                      <a:pt x="1332290" y="98576"/>
                    </a:cubicBezTo>
                    <a:cubicBezTo>
                      <a:pt x="1335314" y="91924"/>
                      <a:pt x="1337733" y="73176"/>
                      <a:pt x="1335919" y="65919"/>
                    </a:cubicBezTo>
                    <a:cubicBezTo>
                      <a:pt x="1334105" y="58662"/>
                      <a:pt x="1325638" y="59266"/>
                      <a:pt x="1321405" y="55033"/>
                    </a:cubicBezTo>
                    <a:cubicBezTo>
                      <a:pt x="1317172" y="50800"/>
                      <a:pt x="1313543" y="45357"/>
                      <a:pt x="1310519" y="40519"/>
                    </a:cubicBezTo>
                    <a:cubicBezTo>
                      <a:pt x="1307495" y="35681"/>
                      <a:pt x="1303867" y="32053"/>
                      <a:pt x="1303262" y="26005"/>
                    </a:cubicBezTo>
                    <a:cubicBezTo>
                      <a:pt x="1302657" y="19957"/>
                      <a:pt x="1302052" y="8466"/>
                      <a:pt x="1306890" y="4233"/>
                    </a:cubicBezTo>
                    <a:cubicBezTo>
                      <a:pt x="1311728" y="0"/>
                      <a:pt x="1314147" y="24795"/>
                      <a:pt x="1332290" y="605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Полилиния 234"/>
              <p:cNvSpPr/>
              <p:nvPr/>
            </p:nvSpPr>
            <p:spPr>
              <a:xfrm>
                <a:off x="714240" y="5281920"/>
                <a:ext cx="618840" cy="714240"/>
              </a:xfrm>
              <a:custGeom>
                <a:avLst/>
                <a:gdLst/>
                <a:ahLst/>
                <a:rect l="l" t="t" r="r" b="b"/>
                <a:pathLst>
                  <a:path w="620007" h="714421">
                    <a:moveTo>
                      <a:pt x="472812" y="0"/>
                    </a:moveTo>
                    <a:lnTo>
                      <a:pt x="419286" y="4460"/>
                    </a:lnTo>
                    <a:cubicBezTo>
                      <a:pt x="414082" y="12637"/>
                      <a:pt x="442332" y="42374"/>
                      <a:pt x="441588" y="49065"/>
                    </a:cubicBezTo>
                    <a:cubicBezTo>
                      <a:pt x="440844" y="55756"/>
                      <a:pt x="420029" y="39401"/>
                      <a:pt x="414825" y="44605"/>
                    </a:cubicBezTo>
                    <a:cubicBezTo>
                      <a:pt x="409621" y="49809"/>
                      <a:pt x="419286" y="68394"/>
                      <a:pt x="410365" y="80289"/>
                    </a:cubicBezTo>
                    <a:cubicBezTo>
                      <a:pt x="401444" y="92184"/>
                      <a:pt x="386576" y="115229"/>
                      <a:pt x="361300" y="115972"/>
                    </a:cubicBezTo>
                    <a:cubicBezTo>
                      <a:pt x="336024" y="116715"/>
                      <a:pt x="279524" y="86236"/>
                      <a:pt x="258708" y="84749"/>
                    </a:cubicBezTo>
                    <a:cubicBezTo>
                      <a:pt x="237892" y="83262"/>
                      <a:pt x="238636" y="98130"/>
                      <a:pt x="236406" y="107051"/>
                    </a:cubicBezTo>
                    <a:cubicBezTo>
                      <a:pt x="234176" y="115972"/>
                      <a:pt x="237150" y="131584"/>
                      <a:pt x="245327" y="138275"/>
                    </a:cubicBezTo>
                    <a:cubicBezTo>
                      <a:pt x="253504" y="144966"/>
                      <a:pt x="278037" y="144966"/>
                      <a:pt x="285471" y="147196"/>
                    </a:cubicBezTo>
                    <a:cubicBezTo>
                      <a:pt x="292905" y="149426"/>
                      <a:pt x="292906" y="148682"/>
                      <a:pt x="289932" y="151656"/>
                    </a:cubicBezTo>
                    <a:cubicBezTo>
                      <a:pt x="286958" y="154630"/>
                      <a:pt x="279524" y="164295"/>
                      <a:pt x="267629" y="165038"/>
                    </a:cubicBezTo>
                    <a:cubicBezTo>
                      <a:pt x="255734" y="165781"/>
                      <a:pt x="229715" y="156117"/>
                      <a:pt x="218564" y="156117"/>
                    </a:cubicBezTo>
                    <a:cubicBezTo>
                      <a:pt x="207413" y="156117"/>
                      <a:pt x="210386" y="170985"/>
                      <a:pt x="200722" y="165038"/>
                    </a:cubicBezTo>
                    <a:cubicBezTo>
                      <a:pt x="191058" y="159091"/>
                      <a:pt x="168755" y="122663"/>
                      <a:pt x="160578" y="120433"/>
                    </a:cubicBezTo>
                    <a:cubicBezTo>
                      <a:pt x="152401" y="118203"/>
                      <a:pt x="150170" y="143479"/>
                      <a:pt x="151657" y="151656"/>
                    </a:cubicBezTo>
                    <a:cubicBezTo>
                      <a:pt x="153144" y="159834"/>
                      <a:pt x="168012" y="159834"/>
                      <a:pt x="169499" y="169498"/>
                    </a:cubicBezTo>
                    <a:cubicBezTo>
                      <a:pt x="170986" y="179163"/>
                      <a:pt x="162808" y="205183"/>
                      <a:pt x="160578" y="209643"/>
                    </a:cubicBezTo>
                    <a:cubicBezTo>
                      <a:pt x="158348" y="214103"/>
                      <a:pt x="159834" y="197748"/>
                      <a:pt x="156117" y="196261"/>
                    </a:cubicBezTo>
                    <a:cubicBezTo>
                      <a:pt x="152400" y="194774"/>
                      <a:pt x="148683" y="196262"/>
                      <a:pt x="138275" y="200722"/>
                    </a:cubicBezTo>
                    <a:cubicBezTo>
                      <a:pt x="127867" y="205182"/>
                      <a:pt x="109282" y="216333"/>
                      <a:pt x="93670" y="223024"/>
                    </a:cubicBezTo>
                    <a:cubicBezTo>
                      <a:pt x="78058" y="229715"/>
                      <a:pt x="56500" y="243096"/>
                      <a:pt x="44605" y="240866"/>
                    </a:cubicBezTo>
                    <a:cubicBezTo>
                      <a:pt x="32710" y="238636"/>
                      <a:pt x="27506" y="215590"/>
                      <a:pt x="22302" y="209643"/>
                    </a:cubicBezTo>
                    <a:cubicBezTo>
                      <a:pt x="17098" y="203696"/>
                      <a:pt x="14125" y="203695"/>
                      <a:pt x="13382" y="205182"/>
                    </a:cubicBezTo>
                    <a:cubicBezTo>
                      <a:pt x="12639" y="206669"/>
                      <a:pt x="20072" y="215590"/>
                      <a:pt x="17842" y="218564"/>
                    </a:cubicBezTo>
                    <a:cubicBezTo>
                      <a:pt x="15612" y="221538"/>
                      <a:pt x="0" y="219307"/>
                      <a:pt x="0" y="223024"/>
                    </a:cubicBezTo>
                    <a:cubicBezTo>
                      <a:pt x="0" y="226741"/>
                      <a:pt x="14125" y="233432"/>
                      <a:pt x="17842" y="240866"/>
                    </a:cubicBezTo>
                    <a:cubicBezTo>
                      <a:pt x="21559" y="248300"/>
                      <a:pt x="21559" y="257221"/>
                      <a:pt x="22302" y="267629"/>
                    </a:cubicBezTo>
                    <a:cubicBezTo>
                      <a:pt x="23045" y="278037"/>
                      <a:pt x="19328" y="291418"/>
                      <a:pt x="22302" y="303313"/>
                    </a:cubicBezTo>
                    <a:cubicBezTo>
                      <a:pt x="25276" y="315208"/>
                      <a:pt x="37170" y="328589"/>
                      <a:pt x="40144" y="338997"/>
                    </a:cubicBezTo>
                    <a:cubicBezTo>
                      <a:pt x="43118" y="349405"/>
                      <a:pt x="37170" y="358326"/>
                      <a:pt x="40144" y="365760"/>
                    </a:cubicBezTo>
                    <a:cubicBezTo>
                      <a:pt x="43118" y="373194"/>
                      <a:pt x="52782" y="377655"/>
                      <a:pt x="57986" y="383602"/>
                    </a:cubicBezTo>
                    <a:cubicBezTo>
                      <a:pt x="63190" y="389549"/>
                      <a:pt x="69138" y="388063"/>
                      <a:pt x="71368" y="401444"/>
                    </a:cubicBezTo>
                    <a:cubicBezTo>
                      <a:pt x="73598" y="414825"/>
                      <a:pt x="69881" y="446049"/>
                      <a:pt x="71368" y="463891"/>
                    </a:cubicBezTo>
                    <a:cubicBezTo>
                      <a:pt x="72855" y="481733"/>
                      <a:pt x="78802" y="498087"/>
                      <a:pt x="80289" y="508495"/>
                    </a:cubicBezTo>
                    <a:cubicBezTo>
                      <a:pt x="81776" y="518903"/>
                      <a:pt x="73598" y="521877"/>
                      <a:pt x="80289" y="526337"/>
                    </a:cubicBezTo>
                    <a:cubicBezTo>
                      <a:pt x="86980" y="530797"/>
                      <a:pt x="110769" y="530798"/>
                      <a:pt x="120433" y="535258"/>
                    </a:cubicBezTo>
                    <a:cubicBezTo>
                      <a:pt x="130097" y="539718"/>
                      <a:pt x="130097" y="553843"/>
                      <a:pt x="138275" y="553100"/>
                    </a:cubicBezTo>
                    <a:cubicBezTo>
                      <a:pt x="146453" y="552357"/>
                      <a:pt x="161321" y="535258"/>
                      <a:pt x="169499" y="530798"/>
                    </a:cubicBezTo>
                    <a:cubicBezTo>
                      <a:pt x="177677" y="526338"/>
                      <a:pt x="181394" y="524850"/>
                      <a:pt x="187341" y="526337"/>
                    </a:cubicBezTo>
                    <a:cubicBezTo>
                      <a:pt x="193288" y="527824"/>
                      <a:pt x="195518" y="538976"/>
                      <a:pt x="205182" y="539719"/>
                    </a:cubicBezTo>
                    <a:cubicBezTo>
                      <a:pt x="214846" y="540463"/>
                      <a:pt x="236406" y="533772"/>
                      <a:pt x="245327" y="530798"/>
                    </a:cubicBezTo>
                    <a:cubicBezTo>
                      <a:pt x="254248" y="527824"/>
                      <a:pt x="257965" y="530055"/>
                      <a:pt x="258708" y="521877"/>
                    </a:cubicBezTo>
                    <a:cubicBezTo>
                      <a:pt x="259451" y="513699"/>
                      <a:pt x="247557" y="490653"/>
                      <a:pt x="249787" y="481732"/>
                    </a:cubicBezTo>
                    <a:cubicBezTo>
                      <a:pt x="252017" y="472811"/>
                      <a:pt x="268373" y="475042"/>
                      <a:pt x="272090" y="468351"/>
                    </a:cubicBezTo>
                    <a:cubicBezTo>
                      <a:pt x="275807" y="461660"/>
                      <a:pt x="272833" y="451996"/>
                      <a:pt x="272090" y="441588"/>
                    </a:cubicBezTo>
                    <a:cubicBezTo>
                      <a:pt x="271347" y="431180"/>
                      <a:pt x="266886" y="415568"/>
                      <a:pt x="267629" y="405904"/>
                    </a:cubicBezTo>
                    <a:cubicBezTo>
                      <a:pt x="268372" y="396240"/>
                      <a:pt x="272090" y="388806"/>
                      <a:pt x="276550" y="383602"/>
                    </a:cubicBezTo>
                    <a:cubicBezTo>
                      <a:pt x="281010" y="378398"/>
                      <a:pt x="294392" y="374681"/>
                      <a:pt x="294392" y="374681"/>
                    </a:cubicBezTo>
                    <a:cubicBezTo>
                      <a:pt x="301826" y="370964"/>
                      <a:pt x="312977" y="359069"/>
                      <a:pt x="321155" y="361299"/>
                    </a:cubicBezTo>
                    <a:cubicBezTo>
                      <a:pt x="329333" y="363529"/>
                      <a:pt x="330076" y="380628"/>
                      <a:pt x="343458" y="388062"/>
                    </a:cubicBezTo>
                    <a:cubicBezTo>
                      <a:pt x="356840" y="395496"/>
                      <a:pt x="388063" y="401443"/>
                      <a:pt x="401444" y="405904"/>
                    </a:cubicBezTo>
                    <a:cubicBezTo>
                      <a:pt x="414825" y="410365"/>
                      <a:pt x="415569" y="414825"/>
                      <a:pt x="423746" y="414825"/>
                    </a:cubicBezTo>
                    <a:cubicBezTo>
                      <a:pt x="431923" y="414825"/>
                      <a:pt x="438614" y="391779"/>
                      <a:pt x="450509" y="405904"/>
                    </a:cubicBezTo>
                    <a:cubicBezTo>
                      <a:pt x="462404" y="420029"/>
                      <a:pt x="486193" y="483219"/>
                      <a:pt x="495114" y="499574"/>
                    </a:cubicBezTo>
                    <a:cubicBezTo>
                      <a:pt x="504035" y="515929"/>
                      <a:pt x="501805" y="495857"/>
                      <a:pt x="504035" y="504035"/>
                    </a:cubicBezTo>
                    <a:cubicBezTo>
                      <a:pt x="506265" y="512213"/>
                      <a:pt x="504036" y="533772"/>
                      <a:pt x="508496" y="548640"/>
                    </a:cubicBezTo>
                    <a:cubicBezTo>
                      <a:pt x="512956" y="563508"/>
                      <a:pt x="526337" y="579863"/>
                      <a:pt x="530798" y="593245"/>
                    </a:cubicBezTo>
                    <a:cubicBezTo>
                      <a:pt x="535259" y="606627"/>
                      <a:pt x="533029" y="619265"/>
                      <a:pt x="535259" y="628929"/>
                    </a:cubicBezTo>
                    <a:cubicBezTo>
                      <a:pt x="537489" y="638593"/>
                      <a:pt x="538976" y="645284"/>
                      <a:pt x="544180" y="651231"/>
                    </a:cubicBezTo>
                    <a:cubicBezTo>
                      <a:pt x="549384" y="657178"/>
                      <a:pt x="559048" y="659408"/>
                      <a:pt x="566482" y="664612"/>
                    </a:cubicBezTo>
                    <a:cubicBezTo>
                      <a:pt x="573916" y="669816"/>
                      <a:pt x="580607" y="675020"/>
                      <a:pt x="588784" y="682454"/>
                    </a:cubicBezTo>
                    <a:cubicBezTo>
                      <a:pt x="596961" y="689888"/>
                      <a:pt x="611087" y="704013"/>
                      <a:pt x="615547" y="709217"/>
                    </a:cubicBezTo>
                    <a:cubicBezTo>
                      <a:pt x="620007" y="714421"/>
                      <a:pt x="577633" y="709961"/>
                      <a:pt x="615547" y="713678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Полилиния 235"/>
              <p:cNvSpPr/>
              <p:nvPr/>
            </p:nvSpPr>
            <p:spPr>
              <a:xfrm>
                <a:off x="1463400" y="5249880"/>
                <a:ext cx="222120" cy="236520"/>
              </a:xfrm>
              <a:custGeom>
                <a:avLst/>
                <a:gdLst/>
                <a:ahLst/>
                <a:rect l="l" t="t" r="r" b="b"/>
                <a:pathLst>
                  <a:path w="223024" h="236406">
                    <a:moveTo>
                      <a:pt x="0" y="0"/>
                    </a:moveTo>
                    <a:cubicBezTo>
                      <a:pt x="18585" y="7806"/>
                      <a:pt x="37171" y="15612"/>
                      <a:pt x="53526" y="26763"/>
                    </a:cubicBezTo>
                    <a:cubicBezTo>
                      <a:pt x="69881" y="37914"/>
                      <a:pt x="90697" y="51296"/>
                      <a:pt x="98131" y="66908"/>
                    </a:cubicBezTo>
                    <a:cubicBezTo>
                      <a:pt x="105565" y="82520"/>
                      <a:pt x="92184" y="107796"/>
                      <a:pt x="98131" y="120434"/>
                    </a:cubicBezTo>
                    <a:cubicBezTo>
                      <a:pt x="104078" y="133072"/>
                      <a:pt x="126381" y="135302"/>
                      <a:pt x="133815" y="142736"/>
                    </a:cubicBezTo>
                    <a:cubicBezTo>
                      <a:pt x="141249" y="150170"/>
                      <a:pt x="135302" y="161321"/>
                      <a:pt x="142736" y="165038"/>
                    </a:cubicBezTo>
                    <a:cubicBezTo>
                      <a:pt x="150170" y="168755"/>
                      <a:pt x="171729" y="159091"/>
                      <a:pt x="178420" y="165038"/>
                    </a:cubicBezTo>
                    <a:cubicBezTo>
                      <a:pt x="185111" y="170985"/>
                      <a:pt x="175446" y="188827"/>
                      <a:pt x="182880" y="200722"/>
                    </a:cubicBezTo>
                    <a:cubicBezTo>
                      <a:pt x="190314" y="212617"/>
                      <a:pt x="206669" y="224511"/>
                      <a:pt x="223024" y="236406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Полилиния 236"/>
              <p:cNvSpPr/>
              <p:nvPr/>
            </p:nvSpPr>
            <p:spPr>
              <a:xfrm>
                <a:off x="2485800" y="4665600"/>
                <a:ext cx="417240" cy="750960"/>
              </a:xfrm>
              <a:custGeom>
                <a:avLst/>
                <a:gdLst/>
                <a:ahLst/>
                <a:rect l="l" t="t" r="r" b="b"/>
                <a:pathLst>
                  <a:path w="417056" h="750106">
                    <a:moveTo>
                      <a:pt x="417056" y="0"/>
                    </a:moveTo>
                    <a:cubicBezTo>
                      <a:pt x="410365" y="28250"/>
                      <a:pt x="403674" y="56500"/>
                      <a:pt x="394753" y="75829"/>
                    </a:cubicBezTo>
                    <a:cubicBezTo>
                      <a:pt x="385832" y="95158"/>
                      <a:pt x="373194" y="101848"/>
                      <a:pt x="363530" y="115973"/>
                    </a:cubicBezTo>
                    <a:cubicBezTo>
                      <a:pt x="353866" y="130098"/>
                      <a:pt x="344201" y="148683"/>
                      <a:pt x="336767" y="160578"/>
                    </a:cubicBezTo>
                    <a:cubicBezTo>
                      <a:pt x="329333" y="172473"/>
                      <a:pt x="327846" y="179907"/>
                      <a:pt x="318925" y="187341"/>
                    </a:cubicBezTo>
                    <a:cubicBezTo>
                      <a:pt x="310004" y="194775"/>
                      <a:pt x="290675" y="197006"/>
                      <a:pt x="283241" y="205183"/>
                    </a:cubicBezTo>
                    <a:cubicBezTo>
                      <a:pt x="275807" y="213360"/>
                      <a:pt x="271346" y="225255"/>
                      <a:pt x="274320" y="236406"/>
                    </a:cubicBezTo>
                    <a:cubicBezTo>
                      <a:pt x="277294" y="247557"/>
                      <a:pt x="297366" y="263169"/>
                      <a:pt x="301083" y="272090"/>
                    </a:cubicBezTo>
                    <a:cubicBezTo>
                      <a:pt x="304800" y="281011"/>
                      <a:pt x="299596" y="283985"/>
                      <a:pt x="296622" y="289932"/>
                    </a:cubicBezTo>
                    <a:cubicBezTo>
                      <a:pt x="293648" y="295879"/>
                      <a:pt x="283984" y="300340"/>
                      <a:pt x="283241" y="307774"/>
                    </a:cubicBezTo>
                    <a:cubicBezTo>
                      <a:pt x="282498" y="315208"/>
                      <a:pt x="295136" y="326360"/>
                      <a:pt x="292162" y="334537"/>
                    </a:cubicBezTo>
                    <a:cubicBezTo>
                      <a:pt x="289188" y="342715"/>
                      <a:pt x="278781" y="349405"/>
                      <a:pt x="265399" y="356839"/>
                    </a:cubicBezTo>
                    <a:cubicBezTo>
                      <a:pt x="252017" y="364273"/>
                      <a:pt x="219307" y="372451"/>
                      <a:pt x="211873" y="379142"/>
                    </a:cubicBezTo>
                    <a:cubicBezTo>
                      <a:pt x="204439" y="385833"/>
                      <a:pt x="221537" y="390293"/>
                      <a:pt x="220794" y="396984"/>
                    </a:cubicBezTo>
                    <a:cubicBezTo>
                      <a:pt x="220051" y="403675"/>
                      <a:pt x="214104" y="418543"/>
                      <a:pt x="207413" y="419286"/>
                    </a:cubicBezTo>
                    <a:cubicBezTo>
                      <a:pt x="200722" y="420029"/>
                      <a:pt x="191058" y="396240"/>
                      <a:pt x="180650" y="401444"/>
                    </a:cubicBezTo>
                    <a:cubicBezTo>
                      <a:pt x="170242" y="406648"/>
                      <a:pt x="153887" y="440102"/>
                      <a:pt x="144966" y="450510"/>
                    </a:cubicBezTo>
                    <a:cubicBezTo>
                      <a:pt x="136045" y="460918"/>
                      <a:pt x="137532" y="460917"/>
                      <a:pt x="127124" y="463891"/>
                    </a:cubicBezTo>
                    <a:cubicBezTo>
                      <a:pt x="116716" y="466865"/>
                      <a:pt x="92183" y="454227"/>
                      <a:pt x="82519" y="468352"/>
                    </a:cubicBezTo>
                    <a:cubicBezTo>
                      <a:pt x="72855" y="482477"/>
                      <a:pt x="66164" y="531542"/>
                      <a:pt x="69138" y="548640"/>
                    </a:cubicBezTo>
                    <a:cubicBezTo>
                      <a:pt x="72112" y="565739"/>
                      <a:pt x="88467" y="564996"/>
                      <a:pt x="100361" y="570943"/>
                    </a:cubicBezTo>
                    <a:cubicBezTo>
                      <a:pt x="112255" y="576890"/>
                      <a:pt x="129354" y="582094"/>
                      <a:pt x="140505" y="584324"/>
                    </a:cubicBezTo>
                    <a:cubicBezTo>
                      <a:pt x="151656" y="586554"/>
                      <a:pt x="162064" y="571686"/>
                      <a:pt x="167268" y="584324"/>
                    </a:cubicBezTo>
                    <a:cubicBezTo>
                      <a:pt x="172472" y="596962"/>
                      <a:pt x="179906" y="643798"/>
                      <a:pt x="171729" y="660153"/>
                    </a:cubicBezTo>
                    <a:cubicBezTo>
                      <a:pt x="163552" y="676508"/>
                      <a:pt x="131585" y="677994"/>
                      <a:pt x="118203" y="682455"/>
                    </a:cubicBezTo>
                    <a:cubicBezTo>
                      <a:pt x="104821" y="686916"/>
                      <a:pt x="98131" y="687659"/>
                      <a:pt x="91440" y="686916"/>
                    </a:cubicBezTo>
                    <a:cubicBezTo>
                      <a:pt x="84749" y="686173"/>
                      <a:pt x="79545" y="675021"/>
                      <a:pt x="78058" y="677995"/>
                    </a:cubicBezTo>
                    <a:cubicBezTo>
                      <a:pt x="76571" y="680969"/>
                      <a:pt x="84006" y="698067"/>
                      <a:pt x="82519" y="704758"/>
                    </a:cubicBezTo>
                    <a:cubicBezTo>
                      <a:pt x="81032" y="711449"/>
                      <a:pt x="73598" y="718139"/>
                      <a:pt x="69138" y="718139"/>
                    </a:cubicBezTo>
                    <a:cubicBezTo>
                      <a:pt x="64678" y="718139"/>
                      <a:pt x="55756" y="704758"/>
                      <a:pt x="55756" y="704758"/>
                    </a:cubicBezTo>
                    <a:lnTo>
                      <a:pt x="42375" y="691376"/>
                    </a:lnTo>
                    <a:cubicBezTo>
                      <a:pt x="39401" y="688402"/>
                      <a:pt x="38658" y="689890"/>
                      <a:pt x="37914" y="686916"/>
                    </a:cubicBezTo>
                    <a:cubicBezTo>
                      <a:pt x="37170" y="683942"/>
                      <a:pt x="39401" y="677251"/>
                      <a:pt x="37914" y="673534"/>
                    </a:cubicBezTo>
                    <a:cubicBezTo>
                      <a:pt x="36427" y="669817"/>
                      <a:pt x="32710" y="671303"/>
                      <a:pt x="28993" y="664613"/>
                    </a:cubicBezTo>
                    <a:cubicBezTo>
                      <a:pt x="25276" y="657923"/>
                      <a:pt x="20072" y="637850"/>
                      <a:pt x="15612" y="633390"/>
                    </a:cubicBezTo>
                    <a:cubicBezTo>
                      <a:pt x="11152" y="628930"/>
                      <a:pt x="4460" y="634133"/>
                      <a:pt x="2230" y="637850"/>
                    </a:cubicBezTo>
                    <a:cubicBezTo>
                      <a:pt x="0" y="641567"/>
                      <a:pt x="2230" y="655692"/>
                      <a:pt x="2230" y="655692"/>
                    </a:cubicBezTo>
                    <a:cubicBezTo>
                      <a:pt x="2230" y="666100"/>
                      <a:pt x="1487" y="689889"/>
                      <a:pt x="2230" y="700297"/>
                    </a:cubicBezTo>
                    <a:cubicBezTo>
                      <a:pt x="2973" y="710705"/>
                      <a:pt x="5948" y="710705"/>
                      <a:pt x="6691" y="718139"/>
                    </a:cubicBezTo>
                    <a:cubicBezTo>
                      <a:pt x="7434" y="725573"/>
                      <a:pt x="2974" y="739698"/>
                      <a:pt x="6691" y="744902"/>
                    </a:cubicBezTo>
                    <a:cubicBezTo>
                      <a:pt x="10408" y="750106"/>
                      <a:pt x="23789" y="747875"/>
                      <a:pt x="28993" y="749362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Полилиния 237"/>
              <p:cNvSpPr/>
              <p:nvPr/>
            </p:nvSpPr>
            <p:spPr>
              <a:xfrm>
                <a:off x="2463840" y="5403960"/>
                <a:ext cx="174600" cy="325440"/>
              </a:xfrm>
              <a:custGeom>
                <a:avLst/>
                <a:gdLst/>
                <a:ahLst/>
                <a:rect l="l" t="t" r="r" b="b"/>
                <a:pathLst>
                  <a:path w="175446" h="325616">
                    <a:moveTo>
                      <a:pt x="56500" y="7434"/>
                    </a:moveTo>
                    <a:cubicBezTo>
                      <a:pt x="82147" y="14124"/>
                      <a:pt x="107795" y="20815"/>
                      <a:pt x="123407" y="20815"/>
                    </a:cubicBezTo>
                    <a:cubicBezTo>
                      <a:pt x="139019" y="20815"/>
                      <a:pt x="141993" y="9664"/>
                      <a:pt x="150170" y="7434"/>
                    </a:cubicBezTo>
                    <a:cubicBezTo>
                      <a:pt x="158347" y="5204"/>
                      <a:pt x="175446" y="0"/>
                      <a:pt x="172472" y="7434"/>
                    </a:cubicBezTo>
                    <a:cubicBezTo>
                      <a:pt x="169498" y="14868"/>
                      <a:pt x="139762" y="37914"/>
                      <a:pt x="132328" y="52039"/>
                    </a:cubicBezTo>
                    <a:cubicBezTo>
                      <a:pt x="124894" y="66164"/>
                      <a:pt x="131584" y="89209"/>
                      <a:pt x="127867" y="92183"/>
                    </a:cubicBezTo>
                    <a:cubicBezTo>
                      <a:pt x="124150" y="95157"/>
                      <a:pt x="118946" y="71368"/>
                      <a:pt x="110025" y="69881"/>
                    </a:cubicBezTo>
                    <a:cubicBezTo>
                      <a:pt x="101104" y="68394"/>
                      <a:pt x="86980" y="74341"/>
                      <a:pt x="74342" y="83262"/>
                    </a:cubicBezTo>
                    <a:cubicBezTo>
                      <a:pt x="61704" y="92183"/>
                      <a:pt x="40888" y="107795"/>
                      <a:pt x="34197" y="123407"/>
                    </a:cubicBezTo>
                    <a:cubicBezTo>
                      <a:pt x="27506" y="139019"/>
                      <a:pt x="37171" y="165038"/>
                      <a:pt x="34197" y="176932"/>
                    </a:cubicBezTo>
                    <a:cubicBezTo>
                      <a:pt x="31223" y="188827"/>
                      <a:pt x="21559" y="188083"/>
                      <a:pt x="16355" y="194774"/>
                    </a:cubicBezTo>
                    <a:cubicBezTo>
                      <a:pt x="11151" y="201465"/>
                      <a:pt x="4461" y="208156"/>
                      <a:pt x="2974" y="217077"/>
                    </a:cubicBezTo>
                    <a:cubicBezTo>
                      <a:pt x="1487" y="225998"/>
                      <a:pt x="0" y="240866"/>
                      <a:pt x="7434" y="248300"/>
                    </a:cubicBezTo>
                    <a:cubicBezTo>
                      <a:pt x="14868" y="255734"/>
                      <a:pt x="37915" y="253504"/>
                      <a:pt x="47579" y="261682"/>
                    </a:cubicBezTo>
                    <a:cubicBezTo>
                      <a:pt x="57243" y="269860"/>
                      <a:pt x="63934" y="288445"/>
                      <a:pt x="65421" y="297366"/>
                    </a:cubicBezTo>
                    <a:cubicBezTo>
                      <a:pt x="66908" y="306287"/>
                      <a:pt x="54270" y="310748"/>
                      <a:pt x="56500" y="315208"/>
                    </a:cubicBezTo>
                    <a:cubicBezTo>
                      <a:pt x="58730" y="319668"/>
                      <a:pt x="74342" y="322642"/>
                      <a:pt x="78802" y="324129"/>
                    </a:cubicBezTo>
                    <a:cubicBezTo>
                      <a:pt x="83262" y="325616"/>
                      <a:pt x="77316" y="321899"/>
                      <a:pt x="83263" y="324129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Полилиния 239"/>
              <p:cNvSpPr/>
              <p:nvPr/>
            </p:nvSpPr>
            <p:spPr>
              <a:xfrm>
                <a:off x="4130640" y="3621240"/>
                <a:ext cx="155520" cy="627120"/>
              </a:xfrm>
              <a:custGeom>
                <a:avLst/>
                <a:gdLst/>
                <a:ahLst/>
                <a:rect l="l" t="t" r="r" b="b"/>
                <a:pathLst>
                  <a:path w="154247" h="626225">
                    <a:moveTo>
                      <a:pt x="58190" y="0"/>
                    </a:moveTo>
                    <a:cubicBezTo>
                      <a:pt x="63270" y="24938"/>
                      <a:pt x="68350" y="49876"/>
                      <a:pt x="74815" y="60960"/>
                    </a:cubicBezTo>
                    <a:cubicBezTo>
                      <a:pt x="81280" y="72044"/>
                      <a:pt x="91440" y="60960"/>
                      <a:pt x="96982" y="66502"/>
                    </a:cubicBezTo>
                    <a:cubicBezTo>
                      <a:pt x="102524" y="72044"/>
                      <a:pt x="110837" y="84975"/>
                      <a:pt x="108066" y="94211"/>
                    </a:cubicBezTo>
                    <a:cubicBezTo>
                      <a:pt x="105295" y="103447"/>
                      <a:pt x="86823" y="117302"/>
                      <a:pt x="80357" y="121920"/>
                    </a:cubicBezTo>
                    <a:cubicBezTo>
                      <a:pt x="73892" y="126538"/>
                      <a:pt x="74815" y="117302"/>
                      <a:pt x="69273" y="121920"/>
                    </a:cubicBezTo>
                    <a:cubicBezTo>
                      <a:pt x="63731" y="126538"/>
                      <a:pt x="45259" y="137622"/>
                      <a:pt x="47106" y="149629"/>
                    </a:cubicBezTo>
                    <a:cubicBezTo>
                      <a:pt x="48953" y="161636"/>
                      <a:pt x="71121" y="183803"/>
                      <a:pt x="80357" y="193963"/>
                    </a:cubicBezTo>
                    <a:cubicBezTo>
                      <a:pt x="89593" y="204123"/>
                      <a:pt x="100677" y="196734"/>
                      <a:pt x="102524" y="210589"/>
                    </a:cubicBezTo>
                    <a:cubicBezTo>
                      <a:pt x="104371" y="224444"/>
                      <a:pt x="101600" y="262313"/>
                      <a:pt x="91440" y="277091"/>
                    </a:cubicBezTo>
                    <a:cubicBezTo>
                      <a:pt x="81280" y="291869"/>
                      <a:pt x="54495" y="288174"/>
                      <a:pt x="41564" y="299258"/>
                    </a:cubicBezTo>
                    <a:cubicBezTo>
                      <a:pt x="28633" y="310342"/>
                      <a:pt x="20320" y="332509"/>
                      <a:pt x="13855" y="343593"/>
                    </a:cubicBezTo>
                    <a:cubicBezTo>
                      <a:pt x="7390" y="354677"/>
                      <a:pt x="0" y="357447"/>
                      <a:pt x="2771" y="365760"/>
                    </a:cubicBezTo>
                    <a:cubicBezTo>
                      <a:pt x="5542" y="374073"/>
                      <a:pt x="24938" y="383309"/>
                      <a:pt x="30480" y="393469"/>
                    </a:cubicBezTo>
                    <a:cubicBezTo>
                      <a:pt x="36022" y="403629"/>
                      <a:pt x="29557" y="421178"/>
                      <a:pt x="36022" y="426720"/>
                    </a:cubicBezTo>
                    <a:cubicBezTo>
                      <a:pt x="42488" y="432262"/>
                      <a:pt x="61884" y="423949"/>
                      <a:pt x="69273" y="426720"/>
                    </a:cubicBezTo>
                    <a:cubicBezTo>
                      <a:pt x="76662" y="429491"/>
                      <a:pt x="76663" y="438727"/>
                      <a:pt x="80357" y="443345"/>
                    </a:cubicBezTo>
                    <a:cubicBezTo>
                      <a:pt x="84051" y="447963"/>
                      <a:pt x="85898" y="454429"/>
                      <a:pt x="91440" y="454429"/>
                    </a:cubicBezTo>
                    <a:cubicBezTo>
                      <a:pt x="96982" y="454429"/>
                      <a:pt x="109913" y="447963"/>
                      <a:pt x="113608" y="443345"/>
                    </a:cubicBezTo>
                    <a:cubicBezTo>
                      <a:pt x="117303" y="438727"/>
                      <a:pt x="112684" y="425796"/>
                      <a:pt x="113608" y="426720"/>
                    </a:cubicBezTo>
                    <a:cubicBezTo>
                      <a:pt x="114532" y="427644"/>
                      <a:pt x="113608" y="442422"/>
                      <a:pt x="119150" y="448887"/>
                    </a:cubicBezTo>
                    <a:cubicBezTo>
                      <a:pt x="124692" y="455353"/>
                      <a:pt x="143165" y="459048"/>
                      <a:pt x="146859" y="465513"/>
                    </a:cubicBezTo>
                    <a:cubicBezTo>
                      <a:pt x="150553" y="471978"/>
                      <a:pt x="140393" y="477520"/>
                      <a:pt x="141317" y="487680"/>
                    </a:cubicBezTo>
                    <a:cubicBezTo>
                      <a:pt x="142241" y="497840"/>
                      <a:pt x="150553" y="518160"/>
                      <a:pt x="152400" y="526473"/>
                    </a:cubicBezTo>
                    <a:cubicBezTo>
                      <a:pt x="154247" y="534786"/>
                      <a:pt x="154247" y="533862"/>
                      <a:pt x="152400" y="537556"/>
                    </a:cubicBezTo>
                    <a:cubicBezTo>
                      <a:pt x="150553" y="541251"/>
                      <a:pt x="142240" y="543098"/>
                      <a:pt x="141317" y="548640"/>
                    </a:cubicBezTo>
                    <a:cubicBezTo>
                      <a:pt x="140394" y="554182"/>
                      <a:pt x="148706" y="563418"/>
                      <a:pt x="146859" y="570807"/>
                    </a:cubicBezTo>
                    <a:cubicBezTo>
                      <a:pt x="145012" y="578196"/>
                      <a:pt x="134851" y="585585"/>
                      <a:pt x="130233" y="592974"/>
                    </a:cubicBezTo>
                    <a:cubicBezTo>
                      <a:pt x="125615" y="600363"/>
                      <a:pt x="123768" y="609600"/>
                      <a:pt x="119150" y="615142"/>
                    </a:cubicBezTo>
                    <a:cubicBezTo>
                      <a:pt x="114532" y="620684"/>
                      <a:pt x="102524" y="626225"/>
                      <a:pt x="102524" y="626225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Полилиния 240"/>
              <p:cNvSpPr/>
              <p:nvPr/>
            </p:nvSpPr>
            <p:spPr>
              <a:xfrm>
                <a:off x="4106880" y="4237200"/>
                <a:ext cx="252360" cy="925560"/>
              </a:xfrm>
              <a:custGeom>
                <a:avLst/>
                <a:gdLst/>
                <a:ahLst/>
                <a:rect l="l" t="t" r="r" b="b"/>
                <a:pathLst>
                  <a:path w="253077" h="925483">
                    <a:moveTo>
                      <a:pt x="121920" y="0"/>
                    </a:moveTo>
                    <a:cubicBezTo>
                      <a:pt x="129309" y="20782"/>
                      <a:pt x="136699" y="41564"/>
                      <a:pt x="138546" y="55418"/>
                    </a:cubicBezTo>
                    <a:cubicBezTo>
                      <a:pt x="140393" y="69272"/>
                      <a:pt x="136699" y="74814"/>
                      <a:pt x="133004" y="83127"/>
                    </a:cubicBezTo>
                    <a:cubicBezTo>
                      <a:pt x="129309" y="91440"/>
                      <a:pt x="114531" y="96981"/>
                      <a:pt x="116378" y="105294"/>
                    </a:cubicBezTo>
                    <a:cubicBezTo>
                      <a:pt x="118225" y="113607"/>
                      <a:pt x="144088" y="133003"/>
                      <a:pt x="144088" y="133003"/>
                    </a:cubicBezTo>
                    <a:cubicBezTo>
                      <a:pt x="151477" y="140392"/>
                      <a:pt x="157019" y="142240"/>
                      <a:pt x="160713" y="149629"/>
                    </a:cubicBezTo>
                    <a:cubicBezTo>
                      <a:pt x="164407" y="157018"/>
                      <a:pt x="167179" y="170873"/>
                      <a:pt x="166255" y="177338"/>
                    </a:cubicBezTo>
                    <a:cubicBezTo>
                      <a:pt x="165331" y="183803"/>
                      <a:pt x="157018" y="183803"/>
                      <a:pt x="155171" y="188421"/>
                    </a:cubicBezTo>
                    <a:cubicBezTo>
                      <a:pt x="153324" y="193039"/>
                      <a:pt x="153324" y="198582"/>
                      <a:pt x="155171" y="205047"/>
                    </a:cubicBezTo>
                    <a:cubicBezTo>
                      <a:pt x="157018" y="211512"/>
                      <a:pt x="163484" y="220749"/>
                      <a:pt x="166255" y="227214"/>
                    </a:cubicBezTo>
                    <a:cubicBezTo>
                      <a:pt x="169026" y="233679"/>
                      <a:pt x="172721" y="238298"/>
                      <a:pt x="171797" y="243840"/>
                    </a:cubicBezTo>
                    <a:cubicBezTo>
                      <a:pt x="170873" y="249382"/>
                      <a:pt x="162560" y="256771"/>
                      <a:pt x="160713" y="260465"/>
                    </a:cubicBezTo>
                    <a:cubicBezTo>
                      <a:pt x="158866" y="264159"/>
                      <a:pt x="160713" y="266007"/>
                      <a:pt x="160713" y="266007"/>
                    </a:cubicBezTo>
                    <a:cubicBezTo>
                      <a:pt x="160713" y="270625"/>
                      <a:pt x="157942" y="283556"/>
                      <a:pt x="160713" y="288174"/>
                    </a:cubicBezTo>
                    <a:cubicBezTo>
                      <a:pt x="163484" y="292792"/>
                      <a:pt x="171796" y="290945"/>
                      <a:pt x="177338" y="293716"/>
                    </a:cubicBezTo>
                    <a:cubicBezTo>
                      <a:pt x="182880" y="296487"/>
                      <a:pt x="190269" y="301106"/>
                      <a:pt x="193964" y="304800"/>
                    </a:cubicBezTo>
                    <a:cubicBezTo>
                      <a:pt x="197659" y="308494"/>
                      <a:pt x="197659" y="311265"/>
                      <a:pt x="199506" y="315883"/>
                    </a:cubicBezTo>
                    <a:cubicBezTo>
                      <a:pt x="201353" y="320501"/>
                      <a:pt x="204124" y="326043"/>
                      <a:pt x="205048" y="332509"/>
                    </a:cubicBezTo>
                    <a:cubicBezTo>
                      <a:pt x="205972" y="338975"/>
                      <a:pt x="206895" y="348211"/>
                      <a:pt x="205048" y="354676"/>
                    </a:cubicBezTo>
                    <a:cubicBezTo>
                      <a:pt x="203201" y="361141"/>
                      <a:pt x="195811" y="364836"/>
                      <a:pt x="193964" y="371301"/>
                    </a:cubicBezTo>
                    <a:cubicBezTo>
                      <a:pt x="192117" y="377766"/>
                      <a:pt x="191193" y="387927"/>
                      <a:pt x="193964" y="393469"/>
                    </a:cubicBezTo>
                    <a:cubicBezTo>
                      <a:pt x="196735" y="399011"/>
                      <a:pt x="205047" y="401781"/>
                      <a:pt x="210589" y="404552"/>
                    </a:cubicBezTo>
                    <a:cubicBezTo>
                      <a:pt x="216131" y="407323"/>
                      <a:pt x="224444" y="407323"/>
                      <a:pt x="227215" y="410094"/>
                    </a:cubicBezTo>
                    <a:cubicBezTo>
                      <a:pt x="229986" y="412865"/>
                      <a:pt x="224444" y="418407"/>
                      <a:pt x="227215" y="421178"/>
                    </a:cubicBezTo>
                    <a:cubicBezTo>
                      <a:pt x="229986" y="423949"/>
                      <a:pt x="240145" y="423949"/>
                      <a:pt x="243840" y="426720"/>
                    </a:cubicBezTo>
                    <a:cubicBezTo>
                      <a:pt x="247535" y="429491"/>
                      <a:pt x="248458" y="423949"/>
                      <a:pt x="249382" y="437803"/>
                    </a:cubicBezTo>
                    <a:cubicBezTo>
                      <a:pt x="250306" y="451657"/>
                      <a:pt x="253077" y="494145"/>
                      <a:pt x="249382" y="509847"/>
                    </a:cubicBezTo>
                    <a:cubicBezTo>
                      <a:pt x="245688" y="525549"/>
                      <a:pt x="233681" y="526472"/>
                      <a:pt x="227215" y="532014"/>
                    </a:cubicBezTo>
                    <a:cubicBezTo>
                      <a:pt x="220750" y="537556"/>
                      <a:pt x="213360" y="537556"/>
                      <a:pt x="210589" y="543098"/>
                    </a:cubicBezTo>
                    <a:cubicBezTo>
                      <a:pt x="207818" y="548640"/>
                      <a:pt x="208742" y="560647"/>
                      <a:pt x="210589" y="565265"/>
                    </a:cubicBezTo>
                    <a:cubicBezTo>
                      <a:pt x="212436" y="569883"/>
                      <a:pt x="218902" y="564342"/>
                      <a:pt x="221673" y="570807"/>
                    </a:cubicBezTo>
                    <a:cubicBezTo>
                      <a:pt x="224444" y="577272"/>
                      <a:pt x="226291" y="595745"/>
                      <a:pt x="227215" y="604058"/>
                    </a:cubicBezTo>
                    <a:cubicBezTo>
                      <a:pt x="228139" y="612371"/>
                      <a:pt x="229986" y="609599"/>
                      <a:pt x="227215" y="620683"/>
                    </a:cubicBezTo>
                    <a:cubicBezTo>
                      <a:pt x="224444" y="631767"/>
                      <a:pt x="218902" y="655782"/>
                      <a:pt x="210589" y="670560"/>
                    </a:cubicBezTo>
                    <a:cubicBezTo>
                      <a:pt x="202276" y="685338"/>
                      <a:pt x="186574" y="699192"/>
                      <a:pt x="177338" y="709352"/>
                    </a:cubicBezTo>
                    <a:cubicBezTo>
                      <a:pt x="168102" y="719512"/>
                      <a:pt x="159789" y="718589"/>
                      <a:pt x="155171" y="731520"/>
                    </a:cubicBezTo>
                    <a:cubicBezTo>
                      <a:pt x="150553" y="744451"/>
                      <a:pt x="146858" y="774931"/>
                      <a:pt x="149629" y="786938"/>
                    </a:cubicBezTo>
                    <a:cubicBezTo>
                      <a:pt x="152400" y="798945"/>
                      <a:pt x="166255" y="796174"/>
                      <a:pt x="171797" y="803563"/>
                    </a:cubicBezTo>
                    <a:cubicBezTo>
                      <a:pt x="177339" y="810952"/>
                      <a:pt x="175491" y="824807"/>
                      <a:pt x="182880" y="831272"/>
                    </a:cubicBezTo>
                    <a:cubicBezTo>
                      <a:pt x="190269" y="837737"/>
                      <a:pt x="208742" y="838661"/>
                      <a:pt x="216131" y="842356"/>
                    </a:cubicBezTo>
                    <a:cubicBezTo>
                      <a:pt x="223520" y="846051"/>
                      <a:pt x="231833" y="849746"/>
                      <a:pt x="227215" y="853440"/>
                    </a:cubicBezTo>
                    <a:cubicBezTo>
                      <a:pt x="222597" y="857134"/>
                      <a:pt x="204124" y="858058"/>
                      <a:pt x="188422" y="864523"/>
                    </a:cubicBezTo>
                    <a:cubicBezTo>
                      <a:pt x="172720" y="870988"/>
                      <a:pt x="133004" y="892232"/>
                      <a:pt x="133004" y="892232"/>
                    </a:cubicBezTo>
                    <a:cubicBezTo>
                      <a:pt x="120073" y="898698"/>
                      <a:pt x="118226" y="905163"/>
                      <a:pt x="110837" y="903316"/>
                    </a:cubicBezTo>
                    <a:cubicBezTo>
                      <a:pt x="103448" y="901469"/>
                      <a:pt x="88669" y="881149"/>
                      <a:pt x="88669" y="881149"/>
                    </a:cubicBezTo>
                    <a:cubicBezTo>
                      <a:pt x="83127" y="875607"/>
                      <a:pt x="88670" y="866371"/>
                      <a:pt x="77586" y="870065"/>
                    </a:cubicBezTo>
                    <a:cubicBezTo>
                      <a:pt x="66503" y="873760"/>
                      <a:pt x="31404" y="894080"/>
                      <a:pt x="22168" y="903316"/>
                    </a:cubicBezTo>
                    <a:cubicBezTo>
                      <a:pt x="12932" y="912552"/>
                      <a:pt x="25863" y="923636"/>
                      <a:pt x="22168" y="925483"/>
                    </a:cubicBezTo>
                    <a:lnTo>
                      <a:pt x="0" y="914400"/>
                    </a:ln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Полилиния 244"/>
              <p:cNvSpPr/>
              <p:nvPr/>
            </p:nvSpPr>
            <p:spPr>
              <a:xfrm>
                <a:off x="3306600" y="5065920"/>
                <a:ext cx="799920" cy="546120"/>
              </a:xfrm>
              <a:custGeom>
                <a:avLst/>
                <a:gdLst/>
                <a:ahLst/>
                <a:rect l="l" t="t" r="r" b="b"/>
                <a:pathLst>
                  <a:path w="799869" h="544946">
                    <a:moveTo>
                      <a:pt x="799869" y="84975"/>
                    </a:moveTo>
                    <a:cubicBezTo>
                      <a:pt x="777701" y="71582"/>
                      <a:pt x="755534" y="58189"/>
                      <a:pt x="738909" y="51724"/>
                    </a:cubicBezTo>
                    <a:cubicBezTo>
                      <a:pt x="722284" y="45259"/>
                      <a:pt x="713048" y="46182"/>
                      <a:pt x="700117" y="46182"/>
                    </a:cubicBezTo>
                    <a:cubicBezTo>
                      <a:pt x="687186" y="46182"/>
                      <a:pt x="670561" y="53571"/>
                      <a:pt x="661324" y="51724"/>
                    </a:cubicBezTo>
                    <a:cubicBezTo>
                      <a:pt x="652088" y="49877"/>
                      <a:pt x="650240" y="38793"/>
                      <a:pt x="644698" y="35098"/>
                    </a:cubicBezTo>
                    <a:cubicBezTo>
                      <a:pt x="639156" y="31403"/>
                      <a:pt x="635462" y="31403"/>
                      <a:pt x="628073" y="29556"/>
                    </a:cubicBezTo>
                    <a:cubicBezTo>
                      <a:pt x="620684" y="27709"/>
                      <a:pt x="616066" y="27710"/>
                      <a:pt x="600364" y="24015"/>
                    </a:cubicBezTo>
                    <a:cubicBezTo>
                      <a:pt x="584662" y="20321"/>
                      <a:pt x="547717" y="10160"/>
                      <a:pt x="533862" y="7389"/>
                    </a:cubicBezTo>
                    <a:cubicBezTo>
                      <a:pt x="520008" y="4618"/>
                      <a:pt x="520008" y="0"/>
                      <a:pt x="517237" y="7389"/>
                    </a:cubicBezTo>
                    <a:cubicBezTo>
                      <a:pt x="514466" y="14778"/>
                      <a:pt x="519084" y="46182"/>
                      <a:pt x="517237" y="51724"/>
                    </a:cubicBezTo>
                    <a:cubicBezTo>
                      <a:pt x="515390" y="57266"/>
                      <a:pt x="509848" y="35098"/>
                      <a:pt x="506153" y="40640"/>
                    </a:cubicBezTo>
                    <a:cubicBezTo>
                      <a:pt x="502458" y="46182"/>
                      <a:pt x="498764" y="69273"/>
                      <a:pt x="495069" y="84975"/>
                    </a:cubicBezTo>
                    <a:cubicBezTo>
                      <a:pt x="491375" y="100677"/>
                      <a:pt x="494146" y="121920"/>
                      <a:pt x="483986" y="134851"/>
                    </a:cubicBezTo>
                    <a:cubicBezTo>
                      <a:pt x="473826" y="147782"/>
                      <a:pt x="446116" y="157018"/>
                      <a:pt x="434109" y="162560"/>
                    </a:cubicBezTo>
                    <a:cubicBezTo>
                      <a:pt x="422102" y="168102"/>
                      <a:pt x="415636" y="162560"/>
                      <a:pt x="411942" y="168102"/>
                    </a:cubicBezTo>
                    <a:cubicBezTo>
                      <a:pt x="408248" y="173644"/>
                      <a:pt x="421178" y="181957"/>
                      <a:pt x="411942" y="195811"/>
                    </a:cubicBezTo>
                    <a:cubicBezTo>
                      <a:pt x="402706" y="209666"/>
                      <a:pt x="374073" y="236451"/>
                      <a:pt x="356524" y="251229"/>
                    </a:cubicBezTo>
                    <a:cubicBezTo>
                      <a:pt x="338975" y="266007"/>
                      <a:pt x="322349" y="280786"/>
                      <a:pt x="306647" y="284480"/>
                    </a:cubicBezTo>
                    <a:cubicBezTo>
                      <a:pt x="290945" y="288175"/>
                      <a:pt x="277091" y="276167"/>
                      <a:pt x="262313" y="273396"/>
                    </a:cubicBezTo>
                    <a:cubicBezTo>
                      <a:pt x="247535" y="270625"/>
                      <a:pt x="241069" y="273397"/>
                      <a:pt x="217978" y="267855"/>
                    </a:cubicBezTo>
                    <a:cubicBezTo>
                      <a:pt x="194887" y="262313"/>
                      <a:pt x="136698" y="248459"/>
                      <a:pt x="123767" y="240146"/>
                    </a:cubicBezTo>
                    <a:cubicBezTo>
                      <a:pt x="110836" y="231833"/>
                      <a:pt x="141317" y="226291"/>
                      <a:pt x="140393" y="217978"/>
                    </a:cubicBezTo>
                    <a:cubicBezTo>
                      <a:pt x="139469" y="209665"/>
                      <a:pt x="130233" y="186574"/>
                      <a:pt x="118226" y="190269"/>
                    </a:cubicBezTo>
                    <a:cubicBezTo>
                      <a:pt x="106219" y="193964"/>
                      <a:pt x="76662" y="222597"/>
                      <a:pt x="68349" y="240146"/>
                    </a:cubicBezTo>
                    <a:cubicBezTo>
                      <a:pt x="60036" y="257695"/>
                      <a:pt x="69273" y="281710"/>
                      <a:pt x="68349" y="295564"/>
                    </a:cubicBezTo>
                    <a:cubicBezTo>
                      <a:pt x="67425" y="309418"/>
                      <a:pt x="60960" y="320502"/>
                      <a:pt x="62807" y="323273"/>
                    </a:cubicBezTo>
                    <a:cubicBezTo>
                      <a:pt x="64654" y="326044"/>
                      <a:pt x="73891" y="304800"/>
                      <a:pt x="79433" y="312189"/>
                    </a:cubicBezTo>
                    <a:cubicBezTo>
                      <a:pt x="84975" y="319578"/>
                      <a:pt x="90516" y="354676"/>
                      <a:pt x="96058" y="367607"/>
                    </a:cubicBezTo>
                    <a:cubicBezTo>
                      <a:pt x="101600" y="380538"/>
                      <a:pt x="115455" y="382386"/>
                      <a:pt x="112684" y="389775"/>
                    </a:cubicBezTo>
                    <a:cubicBezTo>
                      <a:pt x="109913" y="397164"/>
                      <a:pt x="91440" y="401782"/>
                      <a:pt x="79433" y="411942"/>
                    </a:cubicBezTo>
                    <a:cubicBezTo>
                      <a:pt x="67426" y="422102"/>
                      <a:pt x="51724" y="435957"/>
                      <a:pt x="40640" y="450735"/>
                    </a:cubicBezTo>
                    <a:cubicBezTo>
                      <a:pt x="29556" y="465513"/>
                      <a:pt x="19397" y="487680"/>
                      <a:pt x="12931" y="500611"/>
                    </a:cubicBezTo>
                    <a:cubicBezTo>
                      <a:pt x="6466" y="513542"/>
                      <a:pt x="3694" y="520931"/>
                      <a:pt x="1847" y="528320"/>
                    </a:cubicBezTo>
                    <a:cubicBezTo>
                      <a:pt x="0" y="535709"/>
                      <a:pt x="923" y="540327"/>
                      <a:pt x="1847" y="544946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Полилиния 246"/>
              <p:cNvSpPr/>
              <p:nvPr/>
            </p:nvSpPr>
            <p:spPr>
              <a:xfrm>
                <a:off x="5290920" y="3127320"/>
                <a:ext cx="1325520" cy="2629080"/>
              </a:xfrm>
              <a:custGeom>
                <a:avLst/>
                <a:gdLst/>
                <a:ahLst/>
                <a:rect l="l" t="t" r="r" b="b"/>
                <a:pathLst>
                  <a:path w="1326092" h="2628900">
                    <a:moveTo>
                      <a:pt x="214842" y="0"/>
                    </a:moveTo>
                    <a:cubicBezTo>
                      <a:pt x="198438" y="20108"/>
                      <a:pt x="182034" y="40217"/>
                      <a:pt x="170392" y="44450"/>
                    </a:cubicBezTo>
                    <a:cubicBezTo>
                      <a:pt x="158750" y="48683"/>
                      <a:pt x="154517" y="23283"/>
                      <a:pt x="144992" y="25400"/>
                    </a:cubicBezTo>
                    <a:cubicBezTo>
                      <a:pt x="135467" y="27517"/>
                      <a:pt x="115359" y="48683"/>
                      <a:pt x="113242" y="57150"/>
                    </a:cubicBezTo>
                    <a:cubicBezTo>
                      <a:pt x="111125" y="65617"/>
                      <a:pt x="132292" y="68792"/>
                      <a:pt x="132292" y="76200"/>
                    </a:cubicBezTo>
                    <a:cubicBezTo>
                      <a:pt x="132292" y="83608"/>
                      <a:pt x="117475" y="95250"/>
                      <a:pt x="113242" y="101600"/>
                    </a:cubicBezTo>
                    <a:cubicBezTo>
                      <a:pt x="109009" y="107950"/>
                      <a:pt x="106892" y="109008"/>
                      <a:pt x="106892" y="114300"/>
                    </a:cubicBezTo>
                    <a:cubicBezTo>
                      <a:pt x="106892" y="119592"/>
                      <a:pt x="109009" y="127000"/>
                      <a:pt x="113242" y="133350"/>
                    </a:cubicBezTo>
                    <a:cubicBezTo>
                      <a:pt x="117475" y="139700"/>
                      <a:pt x="129117" y="138642"/>
                      <a:pt x="132292" y="152400"/>
                    </a:cubicBezTo>
                    <a:cubicBezTo>
                      <a:pt x="135467" y="166158"/>
                      <a:pt x="131234" y="203200"/>
                      <a:pt x="132292" y="215900"/>
                    </a:cubicBezTo>
                    <a:cubicBezTo>
                      <a:pt x="133350" y="228600"/>
                      <a:pt x="134409" y="223308"/>
                      <a:pt x="138642" y="228600"/>
                    </a:cubicBezTo>
                    <a:cubicBezTo>
                      <a:pt x="142875" y="233892"/>
                      <a:pt x="154517" y="240242"/>
                      <a:pt x="157692" y="247650"/>
                    </a:cubicBezTo>
                    <a:cubicBezTo>
                      <a:pt x="160867" y="255058"/>
                      <a:pt x="152400" y="266700"/>
                      <a:pt x="157692" y="273050"/>
                    </a:cubicBezTo>
                    <a:cubicBezTo>
                      <a:pt x="162984" y="279400"/>
                      <a:pt x="179917" y="280458"/>
                      <a:pt x="189442" y="285750"/>
                    </a:cubicBezTo>
                    <a:cubicBezTo>
                      <a:pt x="198967" y="291042"/>
                      <a:pt x="208492" y="283633"/>
                      <a:pt x="214842" y="304800"/>
                    </a:cubicBezTo>
                    <a:cubicBezTo>
                      <a:pt x="221192" y="325967"/>
                      <a:pt x="215900" y="388408"/>
                      <a:pt x="227542" y="412750"/>
                    </a:cubicBezTo>
                    <a:cubicBezTo>
                      <a:pt x="239184" y="437092"/>
                      <a:pt x="294217" y="426508"/>
                      <a:pt x="284692" y="450850"/>
                    </a:cubicBezTo>
                    <a:cubicBezTo>
                      <a:pt x="275167" y="475192"/>
                      <a:pt x="188384" y="536575"/>
                      <a:pt x="170392" y="558800"/>
                    </a:cubicBezTo>
                    <a:cubicBezTo>
                      <a:pt x="152400" y="581025"/>
                      <a:pt x="178859" y="576792"/>
                      <a:pt x="176742" y="584200"/>
                    </a:cubicBezTo>
                    <a:cubicBezTo>
                      <a:pt x="174625" y="591608"/>
                      <a:pt x="162984" y="596900"/>
                      <a:pt x="157692" y="603250"/>
                    </a:cubicBezTo>
                    <a:cubicBezTo>
                      <a:pt x="152400" y="609600"/>
                      <a:pt x="146050" y="608542"/>
                      <a:pt x="144992" y="622300"/>
                    </a:cubicBezTo>
                    <a:cubicBezTo>
                      <a:pt x="143934" y="636058"/>
                      <a:pt x="152400" y="672042"/>
                      <a:pt x="151342" y="685800"/>
                    </a:cubicBezTo>
                    <a:cubicBezTo>
                      <a:pt x="150284" y="699558"/>
                      <a:pt x="142875" y="703792"/>
                      <a:pt x="138642" y="704850"/>
                    </a:cubicBezTo>
                    <a:cubicBezTo>
                      <a:pt x="134409" y="705908"/>
                      <a:pt x="133350" y="691092"/>
                      <a:pt x="125942" y="692150"/>
                    </a:cubicBezTo>
                    <a:cubicBezTo>
                      <a:pt x="118534" y="693208"/>
                      <a:pt x="99484" y="705908"/>
                      <a:pt x="94192" y="711200"/>
                    </a:cubicBezTo>
                    <a:cubicBezTo>
                      <a:pt x="88900" y="716492"/>
                      <a:pt x="105834" y="713317"/>
                      <a:pt x="94192" y="723900"/>
                    </a:cubicBezTo>
                    <a:cubicBezTo>
                      <a:pt x="82550" y="734483"/>
                      <a:pt x="39159" y="762000"/>
                      <a:pt x="24342" y="774700"/>
                    </a:cubicBezTo>
                    <a:cubicBezTo>
                      <a:pt x="9525" y="787400"/>
                      <a:pt x="0" y="786342"/>
                      <a:pt x="5292" y="800100"/>
                    </a:cubicBezTo>
                    <a:cubicBezTo>
                      <a:pt x="10584" y="813858"/>
                      <a:pt x="46567" y="824442"/>
                      <a:pt x="56092" y="857250"/>
                    </a:cubicBezTo>
                    <a:cubicBezTo>
                      <a:pt x="65617" y="890058"/>
                      <a:pt x="59267" y="954617"/>
                      <a:pt x="62442" y="996950"/>
                    </a:cubicBezTo>
                    <a:cubicBezTo>
                      <a:pt x="65617" y="1039283"/>
                      <a:pt x="78317" y="1089025"/>
                      <a:pt x="75142" y="1111250"/>
                    </a:cubicBezTo>
                    <a:cubicBezTo>
                      <a:pt x="71967" y="1133475"/>
                      <a:pt x="49742" y="1123950"/>
                      <a:pt x="43392" y="1130300"/>
                    </a:cubicBezTo>
                    <a:cubicBezTo>
                      <a:pt x="37042" y="1136650"/>
                      <a:pt x="41275" y="1143000"/>
                      <a:pt x="37042" y="1149350"/>
                    </a:cubicBezTo>
                    <a:cubicBezTo>
                      <a:pt x="32809" y="1155700"/>
                      <a:pt x="15875" y="1166283"/>
                      <a:pt x="17992" y="1168400"/>
                    </a:cubicBezTo>
                    <a:cubicBezTo>
                      <a:pt x="20109" y="1170517"/>
                      <a:pt x="42334" y="1153583"/>
                      <a:pt x="49742" y="1162050"/>
                    </a:cubicBezTo>
                    <a:cubicBezTo>
                      <a:pt x="57150" y="1170517"/>
                      <a:pt x="62442" y="1206500"/>
                      <a:pt x="62442" y="1219200"/>
                    </a:cubicBezTo>
                    <a:cubicBezTo>
                      <a:pt x="62442" y="1231900"/>
                      <a:pt x="48684" y="1229783"/>
                      <a:pt x="49742" y="1238250"/>
                    </a:cubicBezTo>
                    <a:cubicBezTo>
                      <a:pt x="50800" y="1246717"/>
                      <a:pt x="66675" y="1260475"/>
                      <a:pt x="68792" y="1270000"/>
                    </a:cubicBezTo>
                    <a:cubicBezTo>
                      <a:pt x="70909" y="1279525"/>
                      <a:pt x="61384" y="1285875"/>
                      <a:pt x="62442" y="1295400"/>
                    </a:cubicBezTo>
                    <a:cubicBezTo>
                      <a:pt x="63500" y="1304925"/>
                      <a:pt x="71967" y="1315508"/>
                      <a:pt x="75142" y="1327150"/>
                    </a:cubicBezTo>
                    <a:cubicBezTo>
                      <a:pt x="78317" y="1338792"/>
                      <a:pt x="73025" y="1354667"/>
                      <a:pt x="81492" y="1365250"/>
                    </a:cubicBezTo>
                    <a:cubicBezTo>
                      <a:pt x="89959" y="1375833"/>
                      <a:pt x="122767" y="1382183"/>
                      <a:pt x="125942" y="1390650"/>
                    </a:cubicBezTo>
                    <a:cubicBezTo>
                      <a:pt x="129117" y="1399117"/>
                      <a:pt x="111125" y="1406525"/>
                      <a:pt x="100542" y="1416050"/>
                    </a:cubicBezTo>
                    <a:cubicBezTo>
                      <a:pt x="89959" y="1425575"/>
                      <a:pt x="66675" y="1436158"/>
                      <a:pt x="62442" y="1447800"/>
                    </a:cubicBezTo>
                    <a:cubicBezTo>
                      <a:pt x="58209" y="1459442"/>
                      <a:pt x="76200" y="1473200"/>
                      <a:pt x="75142" y="1485900"/>
                    </a:cubicBezTo>
                    <a:cubicBezTo>
                      <a:pt x="74084" y="1498600"/>
                      <a:pt x="55034" y="1515533"/>
                      <a:pt x="56092" y="1524000"/>
                    </a:cubicBezTo>
                    <a:cubicBezTo>
                      <a:pt x="57150" y="1532467"/>
                      <a:pt x="71967" y="1534583"/>
                      <a:pt x="81492" y="1536700"/>
                    </a:cubicBezTo>
                    <a:cubicBezTo>
                      <a:pt x="91017" y="1538817"/>
                      <a:pt x="97367" y="1532467"/>
                      <a:pt x="113242" y="1536700"/>
                    </a:cubicBezTo>
                    <a:cubicBezTo>
                      <a:pt x="129117" y="1540933"/>
                      <a:pt x="160867" y="1558925"/>
                      <a:pt x="176742" y="1562100"/>
                    </a:cubicBezTo>
                    <a:cubicBezTo>
                      <a:pt x="192617" y="1565275"/>
                      <a:pt x="198967" y="1548342"/>
                      <a:pt x="208492" y="1555750"/>
                    </a:cubicBezTo>
                    <a:cubicBezTo>
                      <a:pt x="218017" y="1563158"/>
                      <a:pt x="227542" y="1594908"/>
                      <a:pt x="233892" y="1606550"/>
                    </a:cubicBezTo>
                    <a:cubicBezTo>
                      <a:pt x="240242" y="1618192"/>
                      <a:pt x="245534" y="1618192"/>
                      <a:pt x="246592" y="1625600"/>
                    </a:cubicBezTo>
                    <a:cubicBezTo>
                      <a:pt x="247650" y="1633008"/>
                      <a:pt x="232834" y="1645708"/>
                      <a:pt x="240242" y="1651000"/>
                    </a:cubicBezTo>
                    <a:cubicBezTo>
                      <a:pt x="247650" y="1656292"/>
                      <a:pt x="280459" y="1645708"/>
                      <a:pt x="291042" y="1657350"/>
                    </a:cubicBezTo>
                    <a:cubicBezTo>
                      <a:pt x="301625" y="1668992"/>
                      <a:pt x="302684" y="1698625"/>
                      <a:pt x="303742" y="1720850"/>
                    </a:cubicBezTo>
                    <a:cubicBezTo>
                      <a:pt x="304800" y="1743075"/>
                      <a:pt x="293159" y="1779058"/>
                      <a:pt x="297392" y="1790700"/>
                    </a:cubicBezTo>
                    <a:cubicBezTo>
                      <a:pt x="301625" y="1802342"/>
                      <a:pt x="319617" y="1783292"/>
                      <a:pt x="329142" y="1790700"/>
                    </a:cubicBezTo>
                    <a:cubicBezTo>
                      <a:pt x="338667" y="1798108"/>
                      <a:pt x="352425" y="1821392"/>
                      <a:pt x="354542" y="1835150"/>
                    </a:cubicBezTo>
                    <a:cubicBezTo>
                      <a:pt x="356659" y="1848908"/>
                      <a:pt x="341842" y="1860550"/>
                      <a:pt x="341842" y="1873250"/>
                    </a:cubicBezTo>
                    <a:cubicBezTo>
                      <a:pt x="341842" y="1885950"/>
                      <a:pt x="349250" y="1896533"/>
                      <a:pt x="354542" y="1911350"/>
                    </a:cubicBezTo>
                    <a:cubicBezTo>
                      <a:pt x="359834" y="1926167"/>
                      <a:pt x="361950" y="1950508"/>
                      <a:pt x="373592" y="1962150"/>
                    </a:cubicBezTo>
                    <a:cubicBezTo>
                      <a:pt x="385234" y="1973792"/>
                      <a:pt x="421217" y="1969558"/>
                      <a:pt x="424392" y="1981200"/>
                    </a:cubicBezTo>
                    <a:cubicBezTo>
                      <a:pt x="427567" y="1992842"/>
                      <a:pt x="400050" y="2014008"/>
                      <a:pt x="392642" y="2032000"/>
                    </a:cubicBezTo>
                    <a:cubicBezTo>
                      <a:pt x="385234" y="2049992"/>
                      <a:pt x="382059" y="2066925"/>
                      <a:pt x="379942" y="2089150"/>
                    </a:cubicBezTo>
                    <a:cubicBezTo>
                      <a:pt x="377825" y="2111375"/>
                      <a:pt x="381000" y="2144183"/>
                      <a:pt x="379942" y="2165350"/>
                    </a:cubicBezTo>
                    <a:cubicBezTo>
                      <a:pt x="378884" y="2186517"/>
                      <a:pt x="369359" y="2196042"/>
                      <a:pt x="373592" y="2216150"/>
                    </a:cubicBezTo>
                    <a:cubicBezTo>
                      <a:pt x="377825" y="2236258"/>
                      <a:pt x="390525" y="2276475"/>
                      <a:pt x="405342" y="2286000"/>
                    </a:cubicBezTo>
                    <a:cubicBezTo>
                      <a:pt x="420159" y="2295525"/>
                      <a:pt x="451909" y="2281767"/>
                      <a:pt x="462492" y="2273300"/>
                    </a:cubicBezTo>
                    <a:cubicBezTo>
                      <a:pt x="473075" y="2264833"/>
                      <a:pt x="457200" y="2243667"/>
                      <a:pt x="468842" y="2235200"/>
                    </a:cubicBezTo>
                    <a:cubicBezTo>
                      <a:pt x="480484" y="2226733"/>
                      <a:pt x="517525" y="2232025"/>
                      <a:pt x="532342" y="2222500"/>
                    </a:cubicBezTo>
                    <a:cubicBezTo>
                      <a:pt x="547159" y="2212975"/>
                      <a:pt x="551392" y="2181225"/>
                      <a:pt x="557742" y="2178050"/>
                    </a:cubicBezTo>
                    <a:cubicBezTo>
                      <a:pt x="564092" y="2174875"/>
                      <a:pt x="565150" y="2190750"/>
                      <a:pt x="570442" y="2203450"/>
                    </a:cubicBezTo>
                    <a:cubicBezTo>
                      <a:pt x="575734" y="2216150"/>
                      <a:pt x="583142" y="2251075"/>
                      <a:pt x="589492" y="2254250"/>
                    </a:cubicBezTo>
                    <a:cubicBezTo>
                      <a:pt x="595842" y="2257425"/>
                      <a:pt x="600075" y="2239433"/>
                      <a:pt x="608542" y="2222500"/>
                    </a:cubicBezTo>
                    <a:cubicBezTo>
                      <a:pt x="617009" y="2205567"/>
                      <a:pt x="624417" y="2185458"/>
                      <a:pt x="640292" y="2152650"/>
                    </a:cubicBezTo>
                    <a:cubicBezTo>
                      <a:pt x="656167" y="2119842"/>
                      <a:pt x="691092" y="2053167"/>
                      <a:pt x="703792" y="2025650"/>
                    </a:cubicBezTo>
                    <a:cubicBezTo>
                      <a:pt x="716492" y="1998133"/>
                      <a:pt x="698500" y="1991783"/>
                      <a:pt x="716492" y="1987550"/>
                    </a:cubicBezTo>
                    <a:cubicBezTo>
                      <a:pt x="734484" y="1983317"/>
                      <a:pt x="791634" y="1992842"/>
                      <a:pt x="811742" y="2000250"/>
                    </a:cubicBezTo>
                    <a:cubicBezTo>
                      <a:pt x="831850" y="2007658"/>
                      <a:pt x="828675" y="2029883"/>
                      <a:pt x="837142" y="2032000"/>
                    </a:cubicBezTo>
                    <a:cubicBezTo>
                      <a:pt x="845609" y="2034117"/>
                      <a:pt x="861484" y="2005542"/>
                      <a:pt x="862542" y="2012950"/>
                    </a:cubicBezTo>
                    <a:cubicBezTo>
                      <a:pt x="863600" y="2020358"/>
                      <a:pt x="835025" y="2065867"/>
                      <a:pt x="843492" y="2076450"/>
                    </a:cubicBezTo>
                    <a:cubicBezTo>
                      <a:pt x="851959" y="2087033"/>
                      <a:pt x="913342" y="2076450"/>
                      <a:pt x="913342" y="2076450"/>
                    </a:cubicBezTo>
                    <a:cubicBezTo>
                      <a:pt x="931334" y="2076450"/>
                      <a:pt x="945092" y="2069042"/>
                      <a:pt x="951442" y="2076450"/>
                    </a:cubicBezTo>
                    <a:cubicBezTo>
                      <a:pt x="957792" y="2083858"/>
                      <a:pt x="946150" y="2105025"/>
                      <a:pt x="951442" y="2120900"/>
                    </a:cubicBezTo>
                    <a:cubicBezTo>
                      <a:pt x="956734" y="2136775"/>
                      <a:pt x="973667" y="2155825"/>
                      <a:pt x="983192" y="2171700"/>
                    </a:cubicBezTo>
                    <a:cubicBezTo>
                      <a:pt x="992717" y="2187575"/>
                      <a:pt x="1002242" y="2204508"/>
                      <a:pt x="1008592" y="2216150"/>
                    </a:cubicBezTo>
                    <a:cubicBezTo>
                      <a:pt x="1014942" y="2227792"/>
                      <a:pt x="1019175" y="2228850"/>
                      <a:pt x="1021292" y="2241550"/>
                    </a:cubicBezTo>
                    <a:cubicBezTo>
                      <a:pt x="1023409" y="2254250"/>
                      <a:pt x="1010709" y="2271183"/>
                      <a:pt x="1021292" y="2292350"/>
                    </a:cubicBezTo>
                    <a:cubicBezTo>
                      <a:pt x="1031875" y="2313517"/>
                      <a:pt x="1067859" y="2352675"/>
                      <a:pt x="1084792" y="2368550"/>
                    </a:cubicBezTo>
                    <a:cubicBezTo>
                      <a:pt x="1101725" y="2384425"/>
                      <a:pt x="1108075" y="2385483"/>
                      <a:pt x="1122892" y="2387600"/>
                    </a:cubicBezTo>
                    <a:cubicBezTo>
                      <a:pt x="1137709" y="2389717"/>
                      <a:pt x="1160992" y="2382308"/>
                      <a:pt x="1173692" y="2381250"/>
                    </a:cubicBezTo>
                    <a:cubicBezTo>
                      <a:pt x="1186392" y="2380192"/>
                      <a:pt x="1191684" y="2377017"/>
                      <a:pt x="1199092" y="2381250"/>
                    </a:cubicBezTo>
                    <a:cubicBezTo>
                      <a:pt x="1206500" y="2385483"/>
                      <a:pt x="1211792" y="2402417"/>
                      <a:pt x="1218142" y="2406650"/>
                    </a:cubicBezTo>
                    <a:cubicBezTo>
                      <a:pt x="1224492" y="2410883"/>
                      <a:pt x="1230842" y="2393950"/>
                      <a:pt x="1237192" y="2406650"/>
                    </a:cubicBezTo>
                    <a:cubicBezTo>
                      <a:pt x="1243542" y="2419350"/>
                      <a:pt x="1246717" y="2462742"/>
                      <a:pt x="1256242" y="2482850"/>
                    </a:cubicBezTo>
                    <a:cubicBezTo>
                      <a:pt x="1265767" y="2502958"/>
                      <a:pt x="1294342" y="2519892"/>
                      <a:pt x="1294342" y="2527300"/>
                    </a:cubicBezTo>
                    <a:cubicBezTo>
                      <a:pt x="1294342" y="2534708"/>
                      <a:pt x="1258359" y="2519892"/>
                      <a:pt x="1256242" y="2527300"/>
                    </a:cubicBezTo>
                    <a:cubicBezTo>
                      <a:pt x="1254125" y="2534708"/>
                      <a:pt x="1275292" y="2560108"/>
                      <a:pt x="1281642" y="2571750"/>
                    </a:cubicBezTo>
                    <a:cubicBezTo>
                      <a:pt x="1287992" y="2583392"/>
                      <a:pt x="1293284" y="2590800"/>
                      <a:pt x="1294342" y="2597150"/>
                    </a:cubicBezTo>
                    <a:cubicBezTo>
                      <a:pt x="1295400" y="2603500"/>
                      <a:pt x="1282700" y="2604558"/>
                      <a:pt x="1287992" y="2609850"/>
                    </a:cubicBezTo>
                    <a:cubicBezTo>
                      <a:pt x="1293284" y="2615142"/>
                      <a:pt x="1326092" y="2628900"/>
                      <a:pt x="1326092" y="2628900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35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Полилиния 247"/>
              <p:cNvSpPr/>
              <p:nvPr/>
            </p:nvSpPr>
            <p:spPr>
              <a:xfrm>
                <a:off x="7350120" y="4197240"/>
                <a:ext cx="102960" cy="152280"/>
              </a:xfrm>
              <a:custGeom>
                <a:avLst/>
                <a:gdLst/>
                <a:ahLst/>
                <a:rect l="l" t="t" r="r" b="b"/>
                <a:pathLst>
                  <a:path w="104394" h="152400">
                    <a:moveTo>
                      <a:pt x="83058" y="49530"/>
                    </a:moveTo>
                    <a:cubicBezTo>
                      <a:pt x="73914" y="32766"/>
                      <a:pt x="50292" y="7620"/>
                      <a:pt x="37338" y="3810"/>
                    </a:cubicBezTo>
                    <a:cubicBezTo>
                      <a:pt x="24384" y="0"/>
                      <a:pt x="10668" y="4572"/>
                      <a:pt x="5334" y="26670"/>
                    </a:cubicBezTo>
                    <a:cubicBezTo>
                      <a:pt x="0" y="48768"/>
                      <a:pt x="1524" y="120396"/>
                      <a:pt x="5334" y="136398"/>
                    </a:cubicBezTo>
                    <a:cubicBezTo>
                      <a:pt x="9144" y="152400"/>
                      <a:pt x="24384" y="129540"/>
                      <a:pt x="28194" y="122682"/>
                    </a:cubicBezTo>
                    <a:cubicBezTo>
                      <a:pt x="32004" y="115824"/>
                      <a:pt x="17526" y="98298"/>
                      <a:pt x="28194" y="95250"/>
                    </a:cubicBezTo>
                    <a:cubicBezTo>
                      <a:pt x="38862" y="92202"/>
                      <a:pt x="80010" y="111252"/>
                      <a:pt x="92202" y="104394"/>
                    </a:cubicBezTo>
                    <a:cubicBezTo>
                      <a:pt x="104394" y="97536"/>
                      <a:pt x="92202" y="66294"/>
                      <a:pt x="83058" y="49530"/>
                    </a:cubicBez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dea1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Box 249"/>
              <p:cNvSpPr/>
              <p:nvPr/>
            </p:nvSpPr>
            <p:spPr>
              <a:xfrm>
                <a:off x="5522760" y="3911760"/>
                <a:ext cx="2016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Дальневосточны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Box 250"/>
              <p:cNvSpPr/>
              <p:nvPr/>
            </p:nvSpPr>
            <p:spPr>
              <a:xfrm>
                <a:off x="4203720" y="5104080"/>
                <a:ext cx="1407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Сибир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Box 251"/>
              <p:cNvSpPr/>
              <p:nvPr/>
            </p:nvSpPr>
            <p:spPr>
              <a:xfrm>
                <a:off x="2805120" y="4811760"/>
                <a:ext cx="138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Ураль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252"/>
              <p:cNvSpPr/>
              <p:nvPr/>
            </p:nvSpPr>
            <p:spPr>
              <a:xfrm>
                <a:off x="1466640" y="4957920"/>
                <a:ext cx="1290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Приволж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Box 255"/>
              <p:cNvSpPr/>
              <p:nvPr/>
            </p:nvSpPr>
            <p:spPr>
              <a:xfrm>
                <a:off x="879480" y="4578480"/>
                <a:ext cx="106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Центральный ФО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Box 253"/>
              <p:cNvSpPr/>
              <p:nvPr/>
            </p:nvSpPr>
            <p:spPr>
              <a:xfrm>
                <a:off x="715680" y="5448600"/>
                <a:ext cx="941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Южны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Box 256"/>
              <p:cNvSpPr/>
              <p:nvPr/>
            </p:nvSpPr>
            <p:spPr>
              <a:xfrm>
                <a:off x="1819080" y="4037040"/>
                <a:ext cx="135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Северо-Западны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Овал 257"/>
              <p:cNvSpPr/>
              <p:nvPr/>
            </p:nvSpPr>
            <p:spPr>
              <a:xfrm>
                <a:off x="1461960" y="4578480"/>
                <a:ext cx="50760" cy="554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Овал 258"/>
              <p:cNvSpPr/>
              <p:nvPr/>
            </p:nvSpPr>
            <p:spPr>
              <a:xfrm>
                <a:off x="1425600" y="3887640"/>
                <a:ext cx="48960" cy="554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Полилиния 249"/>
              <p:cNvSpPr/>
              <p:nvPr/>
            </p:nvSpPr>
            <p:spPr>
              <a:xfrm>
                <a:off x="7786800" y="2658960"/>
                <a:ext cx="95040" cy="109440"/>
              </a:xfrm>
              <a:custGeom>
                <a:avLst/>
                <a:gdLst/>
                <a:ahLst/>
                <a:rect l="l" t="t" r="r" b="b"/>
                <a:pathLst>
                  <a:path w="95573" h="109349">
                    <a:moveTo>
                      <a:pt x="40468" y="6027"/>
                    </a:moveTo>
                    <a:cubicBezTo>
                      <a:pt x="53383" y="0"/>
                      <a:pt x="78353" y="17221"/>
                      <a:pt x="86963" y="26692"/>
                    </a:cubicBezTo>
                    <a:cubicBezTo>
                      <a:pt x="95573" y="36163"/>
                      <a:pt x="93851" y="50800"/>
                      <a:pt x="92129" y="62854"/>
                    </a:cubicBezTo>
                    <a:cubicBezTo>
                      <a:pt x="90407" y="74908"/>
                      <a:pt x="80936" y="93851"/>
                      <a:pt x="76631" y="99017"/>
                    </a:cubicBezTo>
                    <a:cubicBezTo>
                      <a:pt x="72326" y="104183"/>
                      <a:pt x="77492" y="92990"/>
                      <a:pt x="66299" y="93851"/>
                    </a:cubicBezTo>
                    <a:cubicBezTo>
                      <a:pt x="55106" y="94712"/>
                      <a:pt x="18942" y="109349"/>
                      <a:pt x="9471" y="104183"/>
                    </a:cubicBezTo>
                    <a:cubicBezTo>
                      <a:pt x="0" y="99017"/>
                      <a:pt x="2583" y="72325"/>
                      <a:pt x="9471" y="62854"/>
                    </a:cubicBezTo>
                    <a:cubicBezTo>
                      <a:pt x="16359" y="53383"/>
                      <a:pt x="27553" y="12054"/>
                      <a:pt x="40468" y="6027"/>
                    </a:cubicBezTo>
                    <a:close/>
                  </a:path>
                </a:pathLst>
              </a:custGeom>
              <a:solidFill>
                <a:srgbClr val="dea178"/>
              </a:solidFill>
              <a:ln w="25560">
                <a:solidFill>
                  <a:srgbClr val="dea1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Полилиния 250"/>
              <p:cNvSpPr/>
              <p:nvPr/>
            </p:nvSpPr>
            <p:spPr>
              <a:xfrm>
                <a:off x="7775640" y="2660400"/>
                <a:ext cx="34920" cy="123480"/>
              </a:xfrm>
              <a:custGeom>
                <a:avLst/>
                <a:gdLst/>
                <a:ahLst/>
                <a:rect l="l" t="t" r="r" b="b"/>
                <a:pathLst>
                  <a:path w="36163" h="123987">
                    <a:moveTo>
                      <a:pt x="36163" y="0"/>
                    </a:moveTo>
                    <a:cubicBezTo>
                      <a:pt x="23247" y="28414"/>
                      <a:pt x="10332" y="56828"/>
                      <a:pt x="5166" y="77492"/>
                    </a:cubicBezTo>
                    <a:cubicBezTo>
                      <a:pt x="0" y="98156"/>
                      <a:pt x="5166" y="123987"/>
                      <a:pt x="5166" y="123987"/>
                    </a:cubicBezTo>
                    <a:lnTo>
                      <a:pt x="5166" y="113654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Полилиния 256"/>
              <p:cNvSpPr/>
              <p:nvPr/>
            </p:nvSpPr>
            <p:spPr>
              <a:xfrm>
                <a:off x="7504200" y="3754440"/>
                <a:ext cx="118800" cy="129960"/>
              </a:xfrm>
              <a:custGeom>
                <a:avLst/>
                <a:gdLst/>
                <a:ahLst/>
                <a:rect l="l" t="t" r="r" b="b"/>
                <a:pathLst>
                  <a:path w="105245" h="94310">
                    <a:moveTo>
                      <a:pt x="20502" y="93627"/>
                    </a:moveTo>
                    <a:cubicBezTo>
                      <a:pt x="8201" y="92944"/>
                      <a:pt x="0" y="55357"/>
                      <a:pt x="8201" y="44422"/>
                    </a:cubicBezTo>
                    <a:cubicBezTo>
                      <a:pt x="16402" y="33488"/>
                      <a:pt x="60139" y="34854"/>
                      <a:pt x="69707" y="28020"/>
                    </a:cubicBezTo>
                    <a:cubicBezTo>
                      <a:pt x="79275" y="21186"/>
                      <a:pt x="60140" y="6834"/>
                      <a:pt x="65607" y="3417"/>
                    </a:cubicBezTo>
                    <a:cubicBezTo>
                      <a:pt x="71074" y="0"/>
                      <a:pt x="99777" y="3418"/>
                      <a:pt x="102511" y="7518"/>
                    </a:cubicBezTo>
                    <a:cubicBezTo>
                      <a:pt x="105245" y="11618"/>
                      <a:pt x="85426" y="21186"/>
                      <a:pt x="82009" y="28020"/>
                    </a:cubicBezTo>
                    <a:cubicBezTo>
                      <a:pt x="78592" y="34854"/>
                      <a:pt x="86109" y="43055"/>
                      <a:pt x="82009" y="48522"/>
                    </a:cubicBezTo>
                    <a:cubicBezTo>
                      <a:pt x="77909" y="53989"/>
                      <a:pt x="32803" y="94310"/>
                      <a:pt x="20502" y="93627"/>
                    </a:cubicBezTo>
                    <a:close/>
                  </a:path>
                </a:pathLst>
              </a:custGeom>
              <a:solidFill>
                <a:srgbClr val="c76c3c"/>
              </a:solidFill>
              <a:ln w="25560">
                <a:solidFill>
                  <a:srgbClr val="c76c3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Полилиния 259"/>
              <p:cNvSpPr/>
              <p:nvPr/>
            </p:nvSpPr>
            <p:spPr>
              <a:xfrm>
                <a:off x="7488360" y="3740040"/>
                <a:ext cx="123480" cy="131760"/>
              </a:xfrm>
              <a:custGeom>
                <a:avLst/>
                <a:gdLst/>
                <a:ahLst/>
                <a:rect l="l" t="t" r="r" b="b"/>
                <a:pathLst>
                  <a:path w="123013" h="131215">
                    <a:moveTo>
                      <a:pt x="15035" y="131215"/>
                    </a:moveTo>
                    <a:cubicBezTo>
                      <a:pt x="7517" y="112079"/>
                      <a:pt x="0" y="92944"/>
                      <a:pt x="10934" y="77909"/>
                    </a:cubicBezTo>
                    <a:cubicBezTo>
                      <a:pt x="21868" y="62874"/>
                      <a:pt x="67657" y="52623"/>
                      <a:pt x="80642" y="41005"/>
                    </a:cubicBezTo>
                    <a:cubicBezTo>
                      <a:pt x="93627" y="29387"/>
                      <a:pt x="82692" y="14352"/>
                      <a:pt x="88843" y="8201"/>
                    </a:cubicBezTo>
                    <a:cubicBezTo>
                      <a:pt x="94994" y="2050"/>
                      <a:pt x="112079" y="5468"/>
                      <a:pt x="117546" y="4101"/>
                    </a:cubicBezTo>
                    <a:cubicBezTo>
                      <a:pt x="123013" y="2734"/>
                      <a:pt x="122329" y="1367"/>
                      <a:pt x="121646" y="0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254"/>
              <p:cNvSpPr/>
              <p:nvPr/>
            </p:nvSpPr>
            <p:spPr>
              <a:xfrm>
                <a:off x="183960" y="5970960"/>
                <a:ext cx="11016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Северо-  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Кавказ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Rectangle 687"/>
            <p:cNvSpPr/>
            <p:nvPr/>
          </p:nvSpPr>
          <p:spPr>
            <a:xfrm>
              <a:off x="0" y="4214880"/>
              <a:ext cx="1042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. Моск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41"/>
            <p:cNvSpPr/>
            <p:nvPr/>
          </p:nvSpPr>
          <p:spPr>
            <a:xfrm>
              <a:off x="153720" y="4427640"/>
              <a:ext cx="595080" cy="6444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352" h="438">
                  <a:moveTo>
                    <a:pt x="0" y="143"/>
                  </a:moveTo>
                  <a:lnTo>
                    <a:pt x="18" y="105"/>
                  </a:lnTo>
                  <a:lnTo>
                    <a:pt x="49" y="74"/>
                  </a:lnTo>
                  <a:lnTo>
                    <a:pt x="53" y="38"/>
                  </a:lnTo>
                  <a:lnTo>
                    <a:pt x="91" y="20"/>
                  </a:lnTo>
                  <a:lnTo>
                    <a:pt x="121" y="0"/>
                  </a:lnTo>
                  <a:lnTo>
                    <a:pt x="144" y="24"/>
                  </a:lnTo>
                  <a:lnTo>
                    <a:pt x="179" y="43"/>
                  </a:lnTo>
                  <a:lnTo>
                    <a:pt x="225" y="56"/>
                  </a:lnTo>
                  <a:lnTo>
                    <a:pt x="257" y="51"/>
                  </a:lnTo>
                  <a:lnTo>
                    <a:pt x="282" y="60"/>
                  </a:lnTo>
                  <a:lnTo>
                    <a:pt x="312" y="52"/>
                  </a:lnTo>
                  <a:lnTo>
                    <a:pt x="334" y="108"/>
                  </a:lnTo>
                  <a:lnTo>
                    <a:pt x="331" y="124"/>
                  </a:lnTo>
                  <a:lnTo>
                    <a:pt x="312" y="148"/>
                  </a:lnTo>
                  <a:lnTo>
                    <a:pt x="285" y="188"/>
                  </a:lnTo>
                  <a:lnTo>
                    <a:pt x="288" y="231"/>
                  </a:lnTo>
                  <a:lnTo>
                    <a:pt x="325" y="295"/>
                  </a:lnTo>
                  <a:lnTo>
                    <a:pt x="352" y="306"/>
                  </a:lnTo>
                  <a:lnTo>
                    <a:pt x="337" y="357"/>
                  </a:lnTo>
                  <a:lnTo>
                    <a:pt x="336" y="394"/>
                  </a:lnTo>
                  <a:lnTo>
                    <a:pt x="268" y="390"/>
                  </a:lnTo>
                  <a:lnTo>
                    <a:pt x="222" y="415"/>
                  </a:lnTo>
                  <a:lnTo>
                    <a:pt x="181" y="409"/>
                  </a:lnTo>
                  <a:lnTo>
                    <a:pt x="162" y="438"/>
                  </a:lnTo>
                  <a:lnTo>
                    <a:pt x="134" y="436"/>
                  </a:lnTo>
                  <a:lnTo>
                    <a:pt x="136" y="392"/>
                  </a:lnTo>
                  <a:lnTo>
                    <a:pt x="127" y="344"/>
                  </a:lnTo>
                  <a:lnTo>
                    <a:pt x="125" y="309"/>
                  </a:lnTo>
                  <a:lnTo>
                    <a:pt x="90" y="296"/>
                  </a:lnTo>
                  <a:lnTo>
                    <a:pt x="101" y="252"/>
                  </a:lnTo>
                  <a:lnTo>
                    <a:pt x="92" y="221"/>
                  </a:lnTo>
                  <a:lnTo>
                    <a:pt x="78" y="193"/>
                  </a:lnTo>
                  <a:lnTo>
                    <a:pt x="32" y="15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adbf69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63"/>
            <p:cNvSpPr/>
            <p:nvPr/>
          </p:nvSpPr>
          <p:spPr>
            <a:xfrm>
              <a:off x="404640" y="4640400"/>
              <a:ext cx="168120" cy="1807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7" h="50">
                  <a:moveTo>
                    <a:pt x="47" y="12"/>
                  </a:moveTo>
                  <a:lnTo>
                    <a:pt x="46" y="42"/>
                  </a:lnTo>
                  <a:lnTo>
                    <a:pt x="16" y="50"/>
                  </a:lnTo>
                  <a:lnTo>
                    <a:pt x="0" y="27"/>
                  </a:lnTo>
                  <a:lnTo>
                    <a:pt x="15" y="6"/>
                  </a:lnTo>
                  <a:lnTo>
                    <a:pt x="36" y="0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7c9939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687"/>
            <p:cNvSpPr/>
            <p:nvPr/>
          </p:nvSpPr>
          <p:spPr>
            <a:xfrm>
              <a:off x="782640" y="2625480"/>
              <a:ext cx="2217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. Санкт-Петербур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69"/>
            <p:cNvSpPr/>
            <p:nvPr/>
          </p:nvSpPr>
          <p:spPr>
            <a:xfrm>
              <a:off x="142560" y="2598480"/>
              <a:ext cx="1023840" cy="97308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672" h="573">
                  <a:moveTo>
                    <a:pt x="0" y="186"/>
                  </a:moveTo>
                  <a:lnTo>
                    <a:pt x="39" y="166"/>
                  </a:lnTo>
                  <a:lnTo>
                    <a:pt x="67" y="170"/>
                  </a:lnTo>
                  <a:lnTo>
                    <a:pt x="92" y="121"/>
                  </a:lnTo>
                  <a:lnTo>
                    <a:pt x="121" y="134"/>
                  </a:lnTo>
                  <a:lnTo>
                    <a:pt x="159" y="161"/>
                  </a:lnTo>
                  <a:lnTo>
                    <a:pt x="206" y="173"/>
                  </a:lnTo>
                  <a:lnTo>
                    <a:pt x="219" y="210"/>
                  </a:lnTo>
                  <a:lnTo>
                    <a:pt x="220" y="244"/>
                  </a:lnTo>
                  <a:lnTo>
                    <a:pt x="264" y="239"/>
                  </a:lnTo>
                  <a:lnTo>
                    <a:pt x="259" y="207"/>
                  </a:lnTo>
                  <a:lnTo>
                    <a:pt x="249" y="170"/>
                  </a:lnTo>
                  <a:lnTo>
                    <a:pt x="212" y="139"/>
                  </a:lnTo>
                  <a:lnTo>
                    <a:pt x="203" y="91"/>
                  </a:lnTo>
                  <a:lnTo>
                    <a:pt x="202" y="51"/>
                  </a:lnTo>
                  <a:lnTo>
                    <a:pt x="237" y="44"/>
                  </a:lnTo>
                  <a:lnTo>
                    <a:pt x="192" y="39"/>
                  </a:lnTo>
                  <a:lnTo>
                    <a:pt x="167" y="12"/>
                  </a:lnTo>
                  <a:lnTo>
                    <a:pt x="216" y="4"/>
                  </a:lnTo>
                  <a:lnTo>
                    <a:pt x="327" y="0"/>
                  </a:lnTo>
                  <a:lnTo>
                    <a:pt x="347" y="47"/>
                  </a:lnTo>
                  <a:lnTo>
                    <a:pt x="466" y="261"/>
                  </a:lnTo>
                  <a:lnTo>
                    <a:pt x="531" y="248"/>
                  </a:lnTo>
                  <a:lnTo>
                    <a:pt x="567" y="256"/>
                  </a:lnTo>
                  <a:lnTo>
                    <a:pt x="557" y="221"/>
                  </a:lnTo>
                  <a:lnTo>
                    <a:pt x="604" y="256"/>
                  </a:lnTo>
                  <a:lnTo>
                    <a:pt x="640" y="269"/>
                  </a:lnTo>
                  <a:lnTo>
                    <a:pt x="666" y="307"/>
                  </a:lnTo>
                  <a:lnTo>
                    <a:pt x="672" y="335"/>
                  </a:lnTo>
                  <a:lnTo>
                    <a:pt x="640" y="370"/>
                  </a:lnTo>
                  <a:lnTo>
                    <a:pt x="603" y="369"/>
                  </a:lnTo>
                  <a:lnTo>
                    <a:pt x="583" y="417"/>
                  </a:lnTo>
                  <a:lnTo>
                    <a:pt x="528" y="456"/>
                  </a:lnTo>
                  <a:lnTo>
                    <a:pt x="548" y="488"/>
                  </a:lnTo>
                  <a:lnTo>
                    <a:pt x="535" y="521"/>
                  </a:lnTo>
                  <a:lnTo>
                    <a:pt x="504" y="542"/>
                  </a:lnTo>
                  <a:lnTo>
                    <a:pt x="477" y="562"/>
                  </a:lnTo>
                  <a:lnTo>
                    <a:pt x="438" y="551"/>
                  </a:lnTo>
                  <a:lnTo>
                    <a:pt x="414" y="573"/>
                  </a:lnTo>
                  <a:lnTo>
                    <a:pt x="357" y="504"/>
                  </a:lnTo>
                  <a:lnTo>
                    <a:pt x="369" y="471"/>
                  </a:lnTo>
                  <a:lnTo>
                    <a:pt x="337" y="457"/>
                  </a:lnTo>
                  <a:lnTo>
                    <a:pt x="319" y="430"/>
                  </a:lnTo>
                  <a:lnTo>
                    <a:pt x="277" y="450"/>
                  </a:lnTo>
                  <a:lnTo>
                    <a:pt x="268" y="419"/>
                  </a:lnTo>
                  <a:lnTo>
                    <a:pt x="271" y="380"/>
                  </a:lnTo>
                  <a:lnTo>
                    <a:pt x="251" y="361"/>
                  </a:lnTo>
                  <a:lnTo>
                    <a:pt x="197" y="389"/>
                  </a:lnTo>
                  <a:lnTo>
                    <a:pt x="179" y="364"/>
                  </a:lnTo>
                  <a:lnTo>
                    <a:pt x="134" y="386"/>
                  </a:lnTo>
                  <a:lnTo>
                    <a:pt x="88" y="363"/>
                  </a:lnTo>
                  <a:lnTo>
                    <a:pt x="63" y="390"/>
                  </a:lnTo>
                  <a:lnTo>
                    <a:pt x="56" y="378"/>
                  </a:lnTo>
                  <a:lnTo>
                    <a:pt x="28" y="319"/>
                  </a:lnTo>
                  <a:lnTo>
                    <a:pt x="39" y="286"/>
                  </a:lnTo>
                  <a:lnTo>
                    <a:pt x="13" y="249"/>
                  </a:lnTo>
                  <a:lnTo>
                    <a:pt x="14" y="215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5eba2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70"/>
            <p:cNvSpPr/>
            <p:nvPr/>
          </p:nvSpPr>
          <p:spPr>
            <a:xfrm>
              <a:off x="419040" y="2787480"/>
              <a:ext cx="134640" cy="2314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8" h="105">
                  <a:moveTo>
                    <a:pt x="0" y="34"/>
                  </a:moveTo>
                  <a:lnTo>
                    <a:pt x="19" y="72"/>
                  </a:lnTo>
                  <a:lnTo>
                    <a:pt x="35" y="31"/>
                  </a:lnTo>
                  <a:lnTo>
                    <a:pt x="6" y="0"/>
                  </a:lnTo>
                  <a:lnTo>
                    <a:pt x="43" y="31"/>
                  </a:lnTo>
                  <a:lnTo>
                    <a:pt x="53" y="68"/>
                  </a:lnTo>
                  <a:lnTo>
                    <a:pt x="58" y="100"/>
                  </a:lnTo>
                  <a:lnTo>
                    <a:pt x="14" y="105"/>
                  </a:lnTo>
                  <a:lnTo>
                    <a:pt x="13" y="7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5eba2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Прямая со стрелкой 273"/>
            <p:cNvCxnSpPr>
              <a:endCxn id="335" idx="6"/>
            </p:cNvCxnSpPr>
            <p:nvPr/>
          </p:nvCxnSpPr>
          <p:spPr>
            <a:xfrm flipH="1" flipV="1">
              <a:off x="553680" y="3007800"/>
              <a:ext cx="907200" cy="884880"/>
            </a:xfrm>
            <a:prstGeom prst="straightConnector1">
              <a:avLst/>
            </a:prstGeom>
            <a:ln w="15840">
              <a:solidFill>
                <a:srgbClr val="333399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337" name="Прямая со стрелкой 278"/>
            <p:cNvCxnSpPr>
              <a:endCxn id="332" idx="0"/>
            </p:cNvCxnSpPr>
            <p:nvPr/>
          </p:nvCxnSpPr>
          <p:spPr>
            <a:xfrm flipH="1">
              <a:off x="572040" y="4597920"/>
              <a:ext cx="905400" cy="84600"/>
            </a:xfrm>
            <a:prstGeom prst="straightConnector1">
              <a:avLst/>
            </a:prstGeom>
            <a:ln w="15840">
              <a:solidFill>
                <a:srgbClr val="333399"/>
              </a:solidFill>
              <a:prstDash val="dash"/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8"/>
          <p:cNvSpPr/>
          <p:nvPr/>
        </p:nvSpPr>
        <p:spPr>
          <a:xfrm>
            <a:off x="42840" y="103500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ЧИСЛО ЖЕНЩИН НА 1000 МУЖЧ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Диаграмма 12" descr=""/>
          <p:cNvPicPr/>
          <p:nvPr/>
        </p:nvPicPr>
        <p:blipFill>
          <a:blip r:embed="rId1"/>
          <a:stretch/>
        </p:blipFill>
        <p:spPr>
          <a:xfrm>
            <a:off x="214200" y="1687680"/>
            <a:ext cx="8704440" cy="5456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244440" y="5214960"/>
            <a:ext cx="8772480" cy="7700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2"/>
          <p:cNvSpPr/>
          <p:nvPr/>
        </p:nvSpPr>
        <p:spPr>
          <a:xfrm>
            <a:off x="414360" y="5322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МЕДИАННЫЙ ВОЗРАСТ НАСЕЛЕНИЯ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ПО ОТДЕЛЬНЫМ СТРАНАМ,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Содержимое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572760" cy="47865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852480" y="5091120"/>
            <a:ext cx="107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оссия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142920" y="6286680"/>
            <a:ext cx="864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 данным Всероссийской переписи населения 2010 года: медианный возраст – 38 лет, средний возраст – 39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информации по другим странам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Population Prospect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2010 Revis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93720" y="7711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ВОЗРАСТНО-ПОЛОВОЙ СОСТАВ НАСЕЛЕ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39"/>
          <p:cNvSpPr/>
          <p:nvPr/>
        </p:nvSpPr>
        <p:spPr>
          <a:xfrm>
            <a:off x="16956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Группа 26"/>
          <p:cNvGrpSpPr/>
          <p:nvPr/>
        </p:nvGrpSpPr>
        <p:grpSpPr>
          <a:xfrm>
            <a:off x="-276120" y="1123920"/>
            <a:ext cx="9099360" cy="5783400"/>
            <a:chOff x="-276120" y="1123920"/>
            <a:chExt cx="9099360" cy="5783400"/>
          </a:xfrm>
        </p:grpSpPr>
        <p:sp>
          <p:nvSpPr>
            <p:cNvPr id="349" name="Text Box 3"/>
            <p:cNvSpPr/>
            <p:nvPr/>
          </p:nvSpPr>
          <p:spPr>
            <a:xfrm>
              <a:off x="850320" y="6624000"/>
              <a:ext cx="73566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"/>
            <p:cNvSpPr/>
            <p:nvPr/>
          </p:nvSpPr>
          <p:spPr>
            <a:xfrm>
              <a:off x="1662480" y="1123920"/>
              <a:ext cx="140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2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"/>
            <p:cNvSpPr/>
            <p:nvPr/>
          </p:nvSpPr>
          <p:spPr>
            <a:xfrm>
              <a:off x="6181920" y="1141920"/>
              <a:ext cx="140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6"/>
            <p:cNvSpPr/>
            <p:nvPr/>
          </p:nvSpPr>
          <p:spPr>
            <a:xfrm>
              <a:off x="-276120" y="2311560"/>
              <a:ext cx="482112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7"/>
            <p:cNvSpPr/>
            <p:nvPr/>
          </p:nvSpPr>
          <p:spPr>
            <a:xfrm>
              <a:off x="-276120" y="2311560"/>
              <a:ext cx="482112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Рисунок 1" descr=""/>
            <p:cNvPicPr/>
            <p:nvPr/>
          </p:nvPicPr>
          <p:blipFill>
            <a:blip r:embed="rId1"/>
            <a:stretch/>
          </p:blipFill>
          <p:spPr>
            <a:xfrm>
              <a:off x="703800" y="1431000"/>
              <a:ext cx="8002080" cy="50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024" descr=""/>
            <p:cNvPicPr/>
            <p:nvPr/>
          </p:nvPicPr>
          <p:blipFill>
            <a:blip r:embed="rId2"/>
            <a:stretch/>
          </p:blipFill>
          <p:spPr>
            <a:xfrm>
              <a:off x="993960" y="6431400"/>
              <a:ext cx="73566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Прямоугольник 12"/>
            <p:cNvSpPr/>
            <p:nvPr/>
          </p:nvSpPr>
          <p:spPr>
            <a:xfrm>
              <a:off x="2884320" y="1941480"/>
              <a:ext cx="1301760" cy="40320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"/>
            <p:cNvSpPr/>
            <p:nvPr/>
          </p:nvSpPr>
          <p:spPr>
            <a:xfrm>
              <a:off x="3031920" y="182304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Женщ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3"/>
            <p:cNvSpPr/>
            <p:nvPr/>
          </p:nvSpPr>
          <p:spPr>
            <a:xfrm>
              <a:off x="820800" y="1911240"/>
              <a:ext cx="1301760" cy="40320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4"/>
            <p:cNvSpPr/>
            <p:nvPr/>
          </p:nvSpPr>
          <p:spPr>
            <a:xfrm>
              <a:off x="1075320" y="182304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ужч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7"/>
            <p:cNvSpPr/>
            <p:nvPr/>
          </p:nvSpPr>
          <p:spPr>
            <a:xfrm>
              <a:off x="5272200" y="1931760"/>
              <a:ext cx="1271520" cy="34272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8"/>
            <p:cNvSpPr/>
            <p:nvPr/>
          </p:nvSpPr>
          <p:spPr>
            <a:xfrm>
              <a:off x="7288200" y="1861920"/>
              <a:ext cx="1535040" cy="34416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7375680" y="181296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Женщ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4"/>
            <p:cNvSpPr/>
            <p:nvPr/>
          </p:nvSpPr>
          <p:spPr>
            <a:xfrm>
              <a:off x="5340600" y="182304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ужч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"/>
            <p:cNvSpPr/>
            <p:nvPr/>
          </p:nvSpPr>
          <p:spPr>
            <a:xfrm>
              <a:off x="6338880" y="6183360"/>
              <a:ext cx="1290600" cy="23112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тыс. челове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"/>
            <p:cNvSpPr/>
            <p:nvPr/>
          </p:nvSpPr>
          <p:spPr>
            <a:xfrm>
              <a:off x="1857240" y="6191640"/>
              <a:ext cx="1292040" cy="23112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тыс. челове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4:55:25Z</dcterms:created>
  <dc:creator>USR</dc:creator>
  <dc:description/>
  <dc:language>en-US</dc:language>
  <cp:lastModifiedBy>Новоженов Дмитрий Владимирович</cp:lastModifiedBy>
  <dcterms:modified xsi:type="dcterms:W3CDTF">2011-12-16T13:10:06Z</dcterms:modified>
  <cp:revision>566</cp:revision>
  <dc:subject/>
  <dc:title>Приступили к АО</dc:title>
</cp:coreProperties>
</file>